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1AC-07A9-46E6-8F26-EF44F78B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32CA-BC99-4BC0-8FE3-FB0F598A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7A62-4211-4380-8B04-C413215A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162-638C-4BCA-A529-137C4DCA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1D0D-71DD-44A8-A349-41D9EB24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14D4-3A5F-48C5-8C79-EEBF8F82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4974-0054-4913-B5BA-9DE7C437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0E08-A7B7-4611-A45B-F87B2DA1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38EC-DB8D-4A3E-875B-538C98C3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8156-0AA6-4DFC-9DF6-1262148A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1A0E-F6CE-410E-9AAF-355A2C47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6CE-5A7B-4EF7-8B87-15D7799B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552B-276F-4F64-A584-1AC8AFB9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FAB2-1EF6-4149-8854-879F96E0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35FC-77CE-4D77-A9F5-7FB1BA77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B5C0-1A61-4237-99BA-868306C0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B488-DAD5-4E56-9F5C-1D80196E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D1B-2333-4804-8856-C62356A8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83F-4275-44D8-91A7-FB81BF5F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91C-A42F-41DA-8565-41DA1C8A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8D0E-3C4F-4577-BCC6-18A6AAD2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1F3-B83B-476F-8D26-941655EC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F28A-C12A-4E34-87C2-A0943610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0CFF-1091-4086-AFB2-B7E46CE1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2520"/>
                <a:ext cx="1833480" cy="1666800"/>
                <a:chOff x="852480" y="4052520"/>
                <a:chExt cx="1833480" cy="16668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0440" y="3938400"/>
                  <a:ext cx="477360" cy="123552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5520"/>
                    <a:gd name="textAreaBottom" fmla="*/ 1235880 h 12355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52960" y="4978800"/>
                  <a:ext cx="110520" cy="5068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6880"/>
                    <a:gd name="textAreaBottom" fmla="*/ 507240 h 5068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480" y="5567400"/>
                  <a:ext cx="200880" cy="8568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34B2-387D-46E3-9E72-E357D1444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4680" y="56880"/>
              <a:ext cx="3625920" cy="6138720"/>
              <a:chOff x="5404680" y="56880"/>
              <a:chExt cx="3625920" cy="6138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240" y="342000"/>
                <a:ext cx="2115360" cy="235764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-360 h 2357640"/>
                  <a:gd name="textAreaBottom" fmla="*/ 2357640 h 2357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624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520" y="2586240"/>
                <a:ext cx="439560" cy="39528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6924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7800" y="26485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2680" y="124020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5320" y="293364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4440" y="285480"/>
              <a:ext cx="894600" cy="821160"/>
              <a:chOff x="5644440" y="285480"/>
              <a:chExt cx="894600" cy="8211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040" y="77580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4920" y="45612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9600" y="38520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0560" y="5264280"/>
              <a:ext cx="1055160" cy="829080"/>
              <a:chOff x="970560" y="5264280"/>
              <a:chExt cx="1055160" cy="8290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9280" y="5524200"/>
                <a:ext cx="250920" cy="29880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200" y="5739480"/>
                <a:ext cx="429480" cy="24804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040"/>
                  <a:gd name="textAreaBottom" fmla="*/ 248400 h 2480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920" y="5388480"/>
                <a:ext cx="448920" cy="12744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C755-E8B5-40D5-9664-FB8B35DC3134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971640" y="909720"/>
            <a:ext cx="720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東信國小</a:t>
            </a:r>
            <a:r>
              <a:rPr b="1" lang="en-US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104</a:t>
            </a: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學年度</a:t>
            </a:r>
            <a:br>
              <a:rPr sz="4000"/>
            </a:br>
            <a:br>
              <a:rPr sz="4000"/>
            </a:b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二年級課程計畫簡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Picture 9" descr="j0336075"/>
          <p:cNvPicPr/>
          <p:nvPr/>
        </p:nvPicPr>
        <p:blipFill>
          <a:blip r:embed="rId1"/>
          <a:stretch/>
        </p:blipFill>
        <p:spPr>
          <a:xfrm>
            <a:off x="2913120" y="3201840"/>
            <a:ext cx="33876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書法家中楷體"/>
                <a:ea typeface="書法家中楷體"/>
              </a:rPr>
              <a:t>配合學校本位課程新增之</a:t>
            </a:r>
            <a:br>
              <a:rPr sz="3600"/>
            </a:br>
            <a:r>
              <a:rPr b="1" lang="zh-TW" sz="3600" spc="-1" strike="noStrike" u="sng">
                <a:solidFill>
                  <a:srgbClr val="ff0000"/>
                </a:solidFill>
                <a:uFillTx/>
                <a:latin typeface="書法家中楷體"/>
                <a:ea typeface="書法家中楷體"/>
              </a:rPr>
              <a:t>挑戰跳繩高手</a:t>
            </a:r>
            <a:r>
              <a:rPr b="0" lang="zh-TW" sz="3600" spc="-1" strike="noStrike">
                <a:solidFill>
                  <a:srgbClr val="ff0000"/>
                </a:solidFill>
                <a:latin typeface="書法家中楷體"/>
                <a:ea typeface="書法家中楷體"/>
              </a:rPr>
              <a:t>計畫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參、挑戰方法：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時間</a:t>
            </a:r>
            <a:r>
              <a:rPr b="1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:</a:t>
            </a: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一分鐘，方式</a:t>
            </a:r>
            <a:r>
              <a:rPr b="1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:</a:t>
            </a: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一跳一迴旋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期初檢測起始點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次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/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分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      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可預設定期末目標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次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/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分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每雙週檢測一次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4.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全班依座號共分四排。兩人一組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1.3.5.7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跳，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2.4.6.8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幫忙數及登記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書法家中楷體"/>
                <a:ea typeface="書法家中楷體"/>
              </a:rPr>
              <a:t>配合學校本位課程新增之</a:t>
            </a:r>
            <a:br>
              <a:rPr sz="3600"/>
            </a:br>
            <a:r>
              <a:rPr b="1" lang="zh-TW" sz="3600" spc="-1" strike="noStrike" u="sng">
                <a:solidFill>
                  <a:srgbClr val="ff0000"/>
                </a:solidFill>
                <a:uFillTx/>
                <a:latin typeface="書法家中楷體"/>
                <a:ea typeface="書法家中楷體"/>
              </a:rPr>
              <a:t>挑戰跳繩高手</a:t>
            </a:r>
            <a:r>
              <a:rPr b="0" lang="zh-TW" sz="3600" spc="-1" strike="noStrike">
                <a:solidFill>
                  <a:srgbClr val="ff0000"/>
                </a:solidFill>
                <a:latin typeface="書法家中楷體"/>
                <a:ea typeface="書法家中楷體"/>
              </a:rPr>
              <a:t>計畫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肆、教學策略：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運用羨慕→嘗試→練習→超越循序漸進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利用同學進步之實際例子進行讚美、分享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3</a:t>
            </a:r>
            <a:r>
              <a:rPr b="0" lang="en-US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配合</a:t>
            </a:r>
            <a:r>
              <a:rPr b="0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學生護照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，給予蓋章鼓勵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4.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於黑板明顯處張貼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分鐘紀錄保持人</a:t>
            </a:r>
            <a:r>
              <a:rPr b="0" lang="zh-TW" sz="2800" spc="-1" strike="noStrike">
                <a:solidFill>
                  <a:srgbClr val="2e2e00"/>
                </a:solidFill>
                <a:latin typeface="標楷體"/>
                <a:ea typeface="標楷體"/>
              </a:rPr>
              <a:t>佈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告及</a:t>
            </a:r>
            <a:r>
              <a:rPr b="1" lang="zh-TW" sz="2800" spc="-1" strike="noStrike">
                <a:solidFill>
                  <a:srgbClr val="c00000"/>
                </a:solidFill>
                <a:latin typeface="標楷體"/>
                <a:ea typeface="標楷體"/>
              </a:rPr>
              <a:t>個人最高紀錄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，歡迎大家挑戰自我及向紀錄保持人挑戰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File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1214280" y="20001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謝謝您耐心的聆聽</a:t>
            </a:r>
            <a:r>
              <a:rPr b="1" lang="en-US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~</a:t>
            </a:r>
            <a:r>
              <a:rPr b="1" lang="zh-TW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報告完畢！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456000" y="927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Verdana"/>
                <a:ea typeface="標楷體"/>
              </a:rPr>
              <a:t>報告大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340000" y="2133720"/>
            <a:ext cx="435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本位課程發展說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標楷體"/>
              </a:rPr>
              <a:t>1.</a:t>
            </a: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東信閱讀通介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標楷體"/>
              </a:rPr>
              <a:t>2.</a:t>
            </a:r>
            <a:r>
              <a:rPr b="1" lang="zh-TW" sz="3200" spc="-1" strike="noStrike" u="sng">
                <a:solidFill>
                  <a:srgbClr val="ff0000"/>
                </a:solidFill>
                <a:uFillTx/>
                <a:latin typeface="書法家中楷體"/>
                <a:ea typeface="書法家中楷體"/>
              </a:rPr>
              <a:t>挑戰跳繩高手</a:t>
            </a:r>
            <a:r>
              <a:rPr b="0" lang="zh-TW" sz="3200" spc="-1" strike="noStrike">
                <a:solidFill>
                  <a:srgbClr val="ff0000"/>
                </a:solidFill>
                <a:latin typeface="書法家中楷體"/>
                <a:ea typeface="書法家中楷體"/>
              </a:rPr>
              <a:t>計畫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5" descr="himwari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4857840"/>
            <a:ext cx="914400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4138560" y="2492280"/>
            <a:ext cx="1873440" cy="15112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上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公雞孵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尊重生命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Oval 3"/>
          <p:cNvSpPr/>
          <p:nvPr/>
        </p:nvSpPr>
        <p:spPr>
          <a:xfrm>
            <a:off x="2987640" y="2214720"/>
            <a:ext cx="1084320" cy="92520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性別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Oval 4"/>
          <p:cNvSpPr/>
          <p:nvPr/>
        </p:nvSpPr>
        <p:spPr>
          <a:xfrm>
            <a:off x="2987640" y="3357720"/>
            <a:ext cx="1084320" cy="8618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生命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200" y="234792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紅公雞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754200" y="342900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流浪狗</a:t>
            </a:r>
            <a:r>
              <a:rPr b="0" lang="zh-TW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6299280" y="2492280"/>
            <a:ext cx="2344680" cy="15112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上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後跳二跳一迴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4138560" y="4653000"/>
            <a:ext cx="1873440" cy="1584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下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心情故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肯定自我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2987640" y="4500720"/>
            <a:ext cx="1084320" cy="8715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情緒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Oval 10"/>
          <p:cNvSpPr/>
          <p:nvPr/>
        </p:nvSpPr>
        <p:spPr>
          <a:xfrm>
            <a:off x="2987640" y="5572080"/>
            <a:ext cx="1084320" cy="87948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自我認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754200" y="450864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生氣湯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754200" y="5587920"/>
            <a:ext cx="208908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大象艾瑪</a:t>
            </a:r>
            <a:r>
              <a:rPr b="0" lang="zh-TW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6299280" y="4653000"/>
            <a:ext cx="2344680" cy="1584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下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後跳一跳一迴旋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0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次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357120" y="622440"/>
            <a:ext cx="8001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新細明體"/>
              </a:rPr>
              <a:t>104</a:t>
            </a:r>
            <a:r>
              <a:rPr b="1" lang="zh-TW" sz="3000" spc="-1" strike="noStrike">
                <a:solidFill>
                  <a:srgbClr val="ff0066"/>
                </a:solidFill>
                <a:latin typeface="Verdana"/>
                <a:ea typeface="標楷體"/>
              </a:rPr>
              <a:t>學年度二年級學校本位特色課程規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4138560" y="1341360"/>
            <a:ext cx="1873440" cy="792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66"/>
                </a:solidFill>
                <a:latin typeface="Times New Roman"/>
                <a:ea typeface="標楷體"/>
              </a:rPr>
              <a:t>語文領域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ff"/>
                </a:solidFill>
                <a:latin typeface="Times New Roman"/>
                <a:ea typeface="標楷體"/>
              </a:rPr>
              <a:t>東信閱讀通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6299280" y="1341360"/>
            <a:ext cx="2017800" cy="7984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66"/>
                </a:solidFill>
                <a:latin typeface="Times New Roman"/>
                <a:ea typeface="標楷體"/>
              </a:rPr>
              <a:t>健體領域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660066"/>
                </a:solidFill>
                <a:latin typeface="Times New Roman"/>
                <a:ea typeface="標楷體"/>
              </a:rPr>
              <a:t>跳躍繩奇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81"/>
          <p:cNvSpPr/>
          <p:nvPr/>
        </p:nvSpPr>
        <p:spPr>
          <a:xfrm>
            <a:off x="642960" y="14184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性別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042920" y="981000"/>
          <a:ext cx="7058160" cy="5426280"/>
        </p:xfrm>
        <a:graphic>
          <a:graphicData uri="http://schemas.openxmlformats.org/drawingml/2006/table">
            <a:tbl>
              <a:tblPr/>
              <a:tblGrid>
                <a:gridCol w="909720"/>
                <a:gridCol w="609480"/>
                <a:gridCol w="540000"/>
                <a:gridCol w="1476360"/>
                <a:gridCol w="1476360"/>
                <a:gridCol w="1022400"/>
                <a:gridCol w="1023840"/>
              </a:tblGrid>
              <a:tr h="101592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配合活動名稱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領域或議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評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方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205360"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公雞孵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性 別 教 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紅 公 雞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家事誰來做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『何謂家事？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分享每人家中的家事分配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負責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聆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分享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誰來照顧我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觀賞『文建會兒童文化館』相關動畫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故事內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負責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聆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分享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9"/>
          <p:cNvSpPr/>
          <p:nvPr/>
        </p:nvSpPr>
        <p:spPr>
          <a:xfrm>
            <a:off x="437040" y="21312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生命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06360" y="662040"/>
          <a:ext cx="8424720" cy="5713200"/>
        </p:xfrm>
        <a:graphic>
          <a:graphicData uri="http://schemas.openxmlformats.org/drawingml/2006/table">
            <a:tbl>
              <a:tblPr/>
              <a:tblGrid>
                <a:gridCol w="1008000"/>
                <a:gridCol w="708120"/>
                <a:gridCol w="628560"/>
                <a:gridCol w="1982880"/>
                <a:gridCol w="1982880"/>
                <a:gridCol w="1057320"/>
                <a:gridCol w="1056960"/>
              </a:tblGrid>
              <a:tr h="609480"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配合活動名稱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領域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或議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評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方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524240">
                <a:tc rowSpan="4">
                  <a:txBody>
                    <a:bodyPr lIns="12240" rIns="122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尊重生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2240" rIns="122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 命 教 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2240" rIns="122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流浪狗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你從哪裡來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『為何會有流浪狗？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看到流浪狗的感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3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角色扮演─如果我是一隻流浪狗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家庭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分享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扮演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繪本分享與討論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觀賞『文建會兒童文化館』相關動畫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故事內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聆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討論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分享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猜猜我是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模仿小動物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結合民間愛狗團體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分享寵物心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能模仿各種小動物的姿態並分享飼養寵物心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動物日記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完成學習單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共同分享飼養心得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家庭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能記錄動物的成長並愛護小動物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9"/>
          <p:cNvSpPr/>
          <p:nvPr/>
        </p:nvSpPr>
        <p:spPr>
          <a:xfrm>
            <a:off x="666360" y="21312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三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情緒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00040" y="836640"/>
          <a:ext cx="8248680" cy="5900760"/>
        </p:xfrm>
        <a:graphic>
          <a:graphicData uri="http://schemas.openxmlformats.org/drawingml/2006/table">
            <a:tbl>
              <a:tblPr/>
              <a:tblGrid>
                <a:gridCol w="1192320"/>
                <a:gridCol w="807840"/>
                <a:gridCol w="668520"/>
                <a:gridCol w="1852560"/>
                <a:gridCol w="1852560"/>
                <a:gridCol w="936720"/>
                <a:gridCol w="938160"/>
              </a:tblGrid>
              <a:tr h="682560"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閱讀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主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240" rIns="12240" tIns="0" bIns="0" anchor="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領域或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2240" rIns="12240" tIns="0" bIns="0" anchor="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38320">
                <a:tc rowSpan="3">
                  <a:txBody>
                    <a:bodyPr lIns="12240" rIns="122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心情故事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2240" rIns="122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情緒教育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2240" rIns="122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 氣 湯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心情故事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繪本導讀生氣湯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心得分享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氣的經驗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ts val="1998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角色扮演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人權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能說出自己如何處理情緒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我是小主人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時間大作戰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自己的一天時間安排分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我會比比看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透過比較了解有計畫的安排生活能讓生活更順利減少生氣的機會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數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能安排自己的一天時間分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我有話要說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請聽我說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了解不好的情緒可以跟哪些人談談而獲得紓解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倒垃圾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談談目前覺得生氣的事情煮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一鍋消氣湯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分享其他可以消氣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人權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涯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家庭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能用各種方式來自己調適心情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9"/>
          <p:cNvSpPr/>
          <p:nvPr/>
        </p:nvSpPr>
        <p:spPr>
          <a:xfrm>
            <a:off x="809280" y="-108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四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自我認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71640" y="620640"/>
          <a:ext cx="7272360" cy="5802480"/>
        </p:xfrm>
        <a:graphic>
          <a:graphicData uri="http://schemas.openxmlformats.org/drawingml/2006/table">
            <a:tbl>
              <a:tblPr/>
              <a:tblGrid>
                <a:gridCol w="811080"/>
                <a:gridCol w="665280"/>
                <a:gridCol w="579240"/>
                <a:gridCol w="1738440"/>
                <a:gridCol w="1739880"/>
                <a:gridCol w="927000"/>
                <a:gridCol w="811440"/>
              </a:tblGrid>
              <a:tr h="762120"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配合活動名稱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融入領域或議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270080">
                <a:tc rowSpan="4">
                  <a:txBody>
                    <a:bodyPr lIns="13320" rIns="133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肯定自我學習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3320" marR="133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3320" rIns="133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自我認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3320" rIns="133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大象艾瑪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導讀及討論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透過學生們的相互討論對同一問題有不同的想法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發表討論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我是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透過學習單的分享與討論，讓學生更深一層的認識並了解自己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經驗分享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角色扮演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生的親自參與，更能體會出書中主角的感受與想法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綜合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角色扮演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彩色象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設計心目中的一隻或一群彩色象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能繪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2700360" y="69228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476360" y="404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學年特色發展規劃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標楷體"/>
              </a:rPr>
              <a:t>-</a:t>
            </a:r>
            <a:r>
              <a:rPr b="1" lang="zh-TW" sz="3200" spc="-1" strike="noStrike">
                <a:solidFill>
                  <a:srgbClr val="ff0066"/>
                </a:solidFill>
                <a:latin typeface="Arial"/>
                <a:ea typeface="標楷體"/>
              </a:rPr>
              <a:t>「讀經教育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611280" y="1442880"/>
            <a:ext cx="7921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4120" bIns="114120" anchor="ctr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壹、課程設計與實施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二年級全體老師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貳、設計理念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透過共同讀經活動，配合教師適度引導，讓孩子學習聖賢經典中做人處世的道理，在生活中身體力行，導正日常生活常規與觀念，並且希望藉讀經活動提升學生的專注力及語文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參、學習目標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專心誦讀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正確背出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在日常生活中實踐習得之道理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4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培養學生識字、認讀的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肆、教學策略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運用領讀→齊讀→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輪讀→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接讀循序漸進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利用日常發生之實際例子進行解說、分享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ff0066"/>
                </a:solidFill>
                <a:latin typeface="標楷體"/>
                <a:ea typeface="標楷體"/>
              </a:rPr>
              <a:t>配合學生護照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，背誦完畢後於集會時公開頒發獎狀予以鼓勵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伍、讀經教材規劃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二年級上學期：朱子治家格言 部首表        二年級下學期：千字文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8" name="Picture 8" descr="穿衣服的蠻頭"/>
          <p:cNvPicPr/>
          <p:nvPr/>
        </p:nvPicPr>
        <p:blipFill>
          <a:blip r:embed="rId1"/>
          <a:stretch/>
        </p:blipFill>
        <p:spPr>
          <a:xfrm>
            <a:off x="6500880" y="2781360"/>
            <a:ext cx="161136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書法家中楷體"/>
                <a:ea typeface="書法家中楷體"/>
              </a:rPr>
              <a:t>配合學校本位課程新增之</a:t>
            </a:r>
            <a:br>
              <a:rPr sz="3600"/>
            </a:br>
            <a:r>
              <a:rPr b="1" lang="zh-TW" sz="3600" spc="-1" strike="noStrike" u="sng">
                <a:solidFill>
                  <a:srgbClr val="ff0000"/>
                </a:solidFill>
                <a:uFillTx/>
                <a:latin typeface="書法家中楷體"/>
                <a:ea typeface="書法家中楷體"/>
              </a:rPr>
              <a:t>挑戰跳繩高手</a:t>
            </a:r>
            <a:r>
              <a:rPr b="0" lang="zh-TW" sz="3600" spc="-1" strike="noStrike">
                <a:solidFill>
                  <a:srgbClr val="ff0000"/>
                </a:solidFill>
                <a:latin typeface="書法家中楷體"/>
                <a:ea typeface="書法家中楷體"/>
              </a:rPr>
              <a:t>計畫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壹、課程設計與實施：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年級全體老師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貳、設計理念：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透過全校推展跳繩活動，加上教師適度引導及要求，除了讓孩子們身體更健康，敏捷度及肌耐力大為提升外，並且希望藉跳繩活動能刺激大腦，提升學生的專注力及學習能力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值得一提的是每雙週一次的</a:t>
            </a:r>
            <a:r>
              <a:rPr b="1" lang="zh-TW" sz="2400" spc="-1" strike="noStrike">
                <a:solidFill>
                  <a:srgbClr val="c00000"/>
                </a:solidFill>
                <a:latin typeface="標楷體"/>
                <a:ea typeface="標楷體"/>
              </a:rPr>
              <a:t>一分鐘跳繩計次賽</a:t>
            </a: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，讓孩子有了挑戰目標，也更有自信</a:t>
            </a:r>
            <a:r>
              <a:rPr b="0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---</a:t>
            </a: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相信自己可以經過努力達成目標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7:06:58Z</dcterms:created>
  <dc:creator>USER</dc:creator>
  <dc:description/>
  <dc:language>en-US</dc:language>
  <cp:lastModifiedBy>HSH</cp:lastModifiedBy>
  <dcterms:modified xsi:type="dcterms:W3CDTF">2015-07-26T10:56:14Z</dcterms:modified>
  <cp:revision>139</cp:revision>
  <dc:subject/>
  <dc:title>投影片 1</dc:title>
</cp:coreProperties>
</file>