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0FEC-4CE3-4FA6-A1F3-743CC103A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AA20-8D4C-4075-9ACE-BA88C04E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4683-6FDD-408D-920F-67ABF1B24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9E18-D858-4880-B2FB-EC2282E74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F0FA-415D-4BDA-8D4A-214156DB1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8C04-8A4E-4EFA-93F1-8D3756DB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4EC1-7114-4758-97DD-B8452574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9794-F55A-4BF2-AF08-237237F4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57FC-1D79-47A7-9F63-CA4753CD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B03B-8A51-41D4-8F95-A382234F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7472-A832-4CA8-A410-82028620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3042-0EFA-42E3-AE19-A0D28EE8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8C83-644F-4E97-9341-7D31198D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4BE9-7A7B-4D52-8752-C1A75DD6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0967-F87A-479C-B95A-977EE653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3628-4DCB-4FF7-86D2-0CE90242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05E6-A569-4A17-AB4C-09461E46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B204-60FE-4902-895E-24ED7A41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A826-503E-4692-8528-588E9682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7768-47CF-45F2-8610-6F5D4C8B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C651-9F41-45F7-BA25-D8A7B93E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A3DA-C358-4520-8CC0-4795CDB3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2911-9C41-44D0-B60C-C1F00615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EE32-F14F-4EAE-946E-88878AF7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3960"/>
                <a:ext cx="1833120" cy="1664640"/>
                <a:chOff x="852840" y="4053960"/>
                <a:chExt cx="183312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7200" y="3941280"/>
                  <a:ext cx="476280" cy="1226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2880" y="4977000"/>
                  <a:ext cx="110160" cy="5036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CB68-4FB2-4650-A131-EE5F18B6C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720" y="56880"/>
              <a:ext cx="3620880" cy="6135480"/>
              <a:chOff x="5409720" y="56880"/>
              <a:chExt cx="3620880" cy="613548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2000"/>
                <a:ext cx="211500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480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520" y="2586600"/>
                <a:ext cx="43956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6924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1040" y="264528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6640" y="124020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36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9480" y="297360"/>
              <a:ext cx="896040" cy="816840"/>
              <a:chOff x="5649480" y="297360"/>
              <a:chExt cx="896040" cy="816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1080" y="78336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120" y="46764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6440" y="397080"/>
                <a:ext cx="31896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70560" y="5264280"/>
              <a:ext cx="1055160" cy="829080"/>
              <a:chOff x="970560" y="5264280"/>
              <a:chExt cx="1055160" cy="8290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9280" y="5524200"/>
                <a:ext cx="250920" cy="298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5200" y="5739480"/>
                <a:ext cx="429480" cy="2480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1920" y="5388480"/>
                <a:ext cx="448920" cy="127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4960"/>
              <a:ext cx="1690200" cy="1146600"/>
              <a:chOff x="375840" y="44496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344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860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232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3960" y="3712320"/>
              <a:ext cx="1155600" cy="1607760"/>
              <a:chOff x="738396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868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940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196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9E73-54A3-4F09-B50F-5339484DBD43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971640" y="909720"/>
            <a:ext cx="7200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東信國小</a:t>
            </a:r>
            <a:r>
              <a:rPr b="1" lang="en-US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102</a:t>
            </a: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學年度</a:t>
            </a:r>
            <a:br>
              <a:rPr sz="4000"/>
            </a:br>
            <a:br>
              <a:rPr sz="4000"/>
            </a:b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三年級課程計畫簡報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8" name="Picture 9" descr="j0336075"/>
          <p:cNvPicPr/>
          <p:nvPr/>
        </p:nvPicPr>
        <p:blipFill>
          <a:blip r:embed="rId1"/>
          <a:stretch/>
        </p:blipFill>
        <p:spPr>
          <a:xfrm>
            <a:off x="2913120" y="3201840"/>
            <a:ext cx="33876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428840" y="28584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三年級下學期彈性學習節數一覽表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684360" y="1054080"/>
          <a:ext cx="7920000" cy="5421240"/>
        </p:xfrm>
        <a:graphic>
          <a:graphicData uri="http://schemas.openxmlformats.org/drawingml/2006/table">
            <a:tbl>
              <a:tblPr/>
              <a:tblGrid>
                <a:gridCol w="1150920"/>
                <a:gridCol w="1512720"/>
                <a:gridCol w="1008000"/>
                <a:gridCol w="3240360"/>
                <a:gridCol w="1008000"/>
              </a:tblGrid>
              <a:tr h="305280">
                <a:tc gridSpan="2">
                  <a:txBody>
                    <a:bodyPr lIns="7200" rIns="7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項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目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內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容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數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 rowSpan="3">
                  <a:txBody>
                    <a:bodyPr lIns="7200" rIns="72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學校及學年活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教務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國語文競賽、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學年特色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融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入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綜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合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學生事務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交通安全宣導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(1)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、健康中心檢查、校慶活動、運動會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輔導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家庭教育、性侵害防治、母親節活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班級輔導活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班級常規建立、班級輔導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92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臨時活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新細明體"/>
                          <a:ea typeface="標楷體"/>
                        </a:rPr>
                        <a:t>臨時交辦或配合活動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、視情況處理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88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學校本位課程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探索東信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靜態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閱讀，動態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跳繩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)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68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數學補救教學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進行數學補救教學或加深加廣學習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16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英語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活美語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資訊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資訊課程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 gridSpan="3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上學期彈性學習總節數：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78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彈性學習節數每週節數：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14"/>
          <p:cNvSpPr/>
          <p:nvPr/>
        </p:nvSpPr>
        <p:spPr>
          <a:xfrm>
            <a:off x="357120" y="622440"/>
            <a:ext cx="8001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新細明體"/>
              </a:rPr>
              <a:t>102</a:t>
            </a:r>
            <a:r>
              <a:rPr b="1" lang="zh-TW" sz="3000" spc="-1" strike="noStrike">
                <a:solidFill>
                  <a:srgbClr val="ff0066"/>
                </a:solidFill>
                <a:latin typeface="Verdana"/>
                <a:ea typeface="標楷體"/>
              </a:rPr>
              <a:t>學年度三年級學校本位特色課程規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348" name="群組 16"/>
          <p:cNvGrpSpPr/>
          <p:nvPr/>
        </p:nvGrpSpPr>
        <p:grpSpPr>
          <a:xfrm>
            <a:off x="754200" y="1341360"/>
            <a:ext cx="7562880" cy="5110200"/>
            <a:chOff x="754200" y="1341360"/>
            <a:chExt cx="7562880" cy="5110200"/>
          </a:xfrm>
        </p:grpSpPr>
        <p:sp>
          <p:nvSpPr>
            <p:cNvPr id="349" name="Text Box 2"/>
            <p:cNvSpPr/>
            <p:nvPr/>
          </p:nvSpPr>
          <p:spPr>
            <a:xfrm>
              <a:off x="4138920" y="2492280"/>
              <a:ext cx="1873080" cy="1511280"/>
            </a:xfrm>
            <a:prstGeom prst="rect">
              <a:avLst/>
            </a:prstGeom>
            <a:noFill/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66680" indent="-166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三上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  <a:p>
              <a:pPr marL="166680" indent="-166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  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  <a:p>
              <a:pPr marL="166680" indent="-166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書的禮物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0" name="Oval 3"/>
            <p:cNvSpPr/>
            <p:nvPr/>
          </p:nvSpPr>
          <p:spPr>
            <a:xfrm>
              <a:off x="2987640" y="2349360"/>
              <a:ext cx="1008000" cy="86364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99"/>
                  </a:solidFill>
                  <a:latin typeface="Times New Roman"/>
                  <a:ea typeface="標楷體"/>
                </a:rPr>
                <a:t>性別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99"/>
                  </a:solidFill>
                  <a:latin typeface="Times New Roman"/>
                  <a:ea typeface="標楷體"/>
                </a:rPr>
                <a:t>教育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1" name="Oval 4"/>
            <p:cNvSpPr/>
            <p:nvPr/>
          </p:nvSpPr>
          <p:spPr>
            <a:xfrm>
              <a:off x="2987640" y="3355920"/>
              <a:ext cx="1008000" cy="86364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99"/>
                  </a:solidFill>
                  <a:latin typeface="Times New Roman"/>
                  <a:ea typeface="標楷體"/>
                </a:rPr>
                <a:t>生命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99"/>
                  </a:solidFill>
                  <a:latin typeface="Times New Roman"/>
                  <a:ea typeface="標楷體"/>
                </a:rPr>
                <a:t>教育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2" name="Text Box 5"/>
            <p:cNvSpPr/>
            <p:nvPr/>
          </p:nvSpPr>
          <p:spPr>
            <a:xfrm>
              <a:off x="754200" y="2347560"/>
              <a:ext cx="2089080" cy="7920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99"/>
                  </a:solidFill>
                  <a:latin typeface="Times New Roman"/>
                  <a:ea typeface="標楷體"/>
                </a:rPr>
                <a:t>閱讀書目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0066"/>
                  </a:solidFill>
                  <a:latin typeface="Verdana"/>
                  <a:ea typeface="標楷體"/>
                </a:rPr>
                <a:t>威廉的洋娃娃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3" name="Text Box 6"/>
            <p:cNvSpPr/>
            <p:nvPr/>
          </p:nvSpPr>
          <p:spPr>
            <a:xfrm>
              <a:off x="754200" y="3429000"/>
              <a:ext cx="2089080" cy="7920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99"/>
                  </a:solidFill>
                  <a:latin typeface="Times New Roman"/>
                  <a:ea typeface="標楷體"/>
                </a:rPr>
                <a:t>閱讀書目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0066"/>
                  </a:solidFill>
                  <a:latin typeface="Verdana"/>
                  <a:ea typeface="標楷體"/>
                </a:rPr>
                <a:t>讓路給小鴨子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4" name="Text Box 7"/>
            <p:cNvSpPr/>
            <p:nvPr/>
          </p:nvSpPr>
          <p:spPr>
            <a:xfrm>
              <a:off x="6299280" y="2492280"/>
              <a:ext cx="2017800" cy="1511280"/>
            </a:xfrm>
            <a:prstGeom prst="rect">
              <a:avLst/>
            </a:prstGeom>
            <a:noFill/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三上 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前手開叉</a:t>
              </a:r>
              <a:r>
                <a:rPr b="1" lang="en-US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10</a:t>
              </a:r>
              <a:r>
                <a:rPr b="1" lang="zh-TW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次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5" name="Text Box 8"/>
            <p:cNvSpPr/>
            <p:nvPr/>
          </p:nvSpPr>
          <p:spPr>
            <a:xfrm>
              <a:off x="4138920" y="4653000"/>
              <a:ext cx="1873080" cy="1584360"/>
            </a:xfrm>
            <a:prstGeom prst="rect">
              <a:avLst/>
            </a:prstGeom>
            <a:noFill/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三下 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閱讀飛翔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6" name="Oval 9"/>
            <p:cNvSpPr/>
            <p:nvPr/>
          </p:nvSpPr>
          <p:spPr>
            <a:xfrm>
              <a:off x="2987640" y="4508640"/>
              <a:ext cx="1008000" cy="86364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99"/>
                  </a:solidFill>
                  <a:latin typeface="Times New Roman"/>
                  <a:ea typeface="標楷體"/>
                </a:rPr>
                <a:t>情緒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99"/>
                  </a:solidFill>
                  <a:latin typeface="Times New Roman"/>
                  <a:ea typeface="標楷體"/>
                </a:rPr>
                <a:t>教育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7" name="Oval 10"/>
            <p:cNvSpPr/>
            <p:nvPr/>
          </p:nvSpPr>
          <p:spPr>
            <a:xfrm>
              <a:off x="2987640" y="5587920"/>
              <a:ext cx="1079280" cy="86364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99"/>
                  </a:solidFill>
                  <a:latin typeface="Times New Roman"/>
                  <a:ea typeface="標楷體"/>
                </a:rPr>
                <a:t>自我認同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8" name="Text Box 11"/>
            <p:cNvSpPr/>
            <p:nvPr/>
          </p:nvSpPr>
          <p:spPr>
            <a:xfrm>
              <a:off x="754200" y="4508640"/>
              <a:ext cx="2089080" cy="7920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99"/>
                  </a:solidFill>
                  <a:latin typeface="Times New Roman"/>
                  <a:ea typeface="標楷體"/>
                </a:rPr>
                <a:t>閱讀書目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0066"/>
                  </a:solidFill>
                  <a:latin typeface="Verdana"/>
                  <a:ea typeface="標楷體"/>
                </a:rPr>
                <a:t>我變成一隻噴火龍</a:t>
              </a:r>
              <a:r>
                <a:rPr b="0" lang="zh-TW" sz="1800" spc="-1" strike="noStrike">
                  <a:solidFill>
                    <a:srgbClr val="006699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9" name="Text Box 12"/>
            <p:cNvSpPr/>
            <p:nvPr/>
          </p:nvSpPr>
          <p:spPr>
            <a:xfrm>
              <a:off x="754200" y="5587920"/>
              <a:ext cx="2089080" cy="7920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99"/>
                  </a:solidFill>
                  <a:latin typeface="Times New Roman"/>
                  <a:ea typeface="標楷體"/>
                </a:rPr>
                <a:t>閱讀書目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0066"/>
                  </a:solidFill>
                  <a:latin typeface="Verdana"/>
                  <a:ea typeface="標楷體"/>
                </a:rPr>
                <a:t>你很特別</a:t>
              </a:r>
              <a:r>
                <a:rPr b="0" lang="zh-TW" sz="1800" spc="-1" strike="noStrike">
                  <a:solidFill>
                    <a:srgbClr val="006699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0" name="Text Box 13"/>
            <p:cNvSpPr/>
            <p:nvPr/>
          </p:nvSpPr>
          <p:spPr>
            <a:xfrm>
              <a:off x="6299280" y="4653000"/>
              <a:ext cx="2017800" cy="1584360"/>
            </a:xfrm>
            <a:prstGeom prst="rect">
              <a:avLst/>
            </a:prstGeom>
            <a:noFill/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三下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前交叉跳</a:t>
              </a:r>
              <a:r>
                <a:rPr b="1" lang="en-US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10</a:t>
              </a:r>
              <a:r>
                <a:rPr b="1" lang="zh-TW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次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1" name="Text Box 15"/>
            <p:cNvSpPr/>
            <p:nvPr/>
          </p:nvSpPr>
          <p:spPr>
            <a:xfrm>
              <a:off x="4138920" y="1341360"/>
              <a:ext cx="1873080" cy="792000"/>
            </a:xfrm>
            <a:prstGeom prst="rect">
              <a:avLst/>
            </a:prstGeom>
            <a:noFill/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66"/>
                  </a:solidFill>
                  <a:latin typeface="Times New Roman"/>
                  <a:ea typeface="標楷體"/>
                </a:rPr>
                <a:t>語文領域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ff00ff"/>
                  </a:solidFill>
                  <a:latin typeface="Times New Roman"/>
                  <a:ea typeface="標楷體"/>
                </a:rPr>
                <a:t>東信閱讀通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2" name="Text Box 16"/>
            <p:cNvSpPr/>
            <p:nvPr/>
          </p:nvSpPr>
          <p:spPr>
            <a:xfrm>
              <a:off x="6299280" y="1341360"/>
              <a:ext cx="2017800" cy="798480"/>
            </a:xfrm>
            <a:prstGeom prst="rect">
              <a:avLst/>
            </a:prstGeom>
            <a:noFill/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66"/>
                  </a:solidFill>
                  <a:latin typeface="Times New Roman"/>
                  <a:ea typeface="標楷體"/>
                </a:rPr>
                <a:t>健體領域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660066"/>
                  </a:solidFill>
                  <a:latin typeface="Times New Roman"/>
                  <a:ea typeface="標楷體"/>
                </a:rPr>
                <a:t>跳躍繩奇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81"/>
          <p:cNvSpPr/>
          <p:nvPr/>
        </p:nvSpPr>
        <p:spPr>
          <a:xfrm>
            <a:off x="642960" y="14184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一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性別教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611280" y="1125360"/>
          <a:ext cx="7662600" cy="542628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  <a:gridCol w="431640"/>
                <a:gridCol w="1224000"/>
                <a:gridCol w="3168720"/>
                <a:gridCol w="936720"/>
                <a:gridCol w="893520"/>
              </a:tblGrid>
              <a:tr h="106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閱讀主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融入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議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選書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書名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配合活動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名稱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活動說明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融入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或議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方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9367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男女大不同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性別平等教育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、性侵害防治教育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威廉的洋娃娃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威廉的洋娃娃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學生用心聆聽並明瞭故事內容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引導學生對師長所介紹的書籍產生閱讀興趣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語文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發表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學習單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帥哥、美女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變裝秀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角色互換扮演（男扮女、女扮男）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分享扮演異性的心得，以體認性別的差異，並增進性別之間的良性互動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語文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角色扮演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心得分享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男生女生配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＊經由遊戲培養和同儕間的平和相處和彼此尊重的態度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社會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心得分享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最佳拍檔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角色扮演並於遊戲後分享心得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共同討論謀求和同學間的相處之道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社會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角色扮演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實作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發表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39"/>
          <p:cNvSpPr/>
          <p:nvPr/>
        </p:nvSpPr>
        <p:spPr>
          <a:xfrm>
            <a:off x="437040" y="21312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二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生命教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611280" y="1268280"/>
          <a:ext cx="7662600" cy="390204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  <a:gridCol w="431640"/>
                <a:gridCol w="1224000"/>
                <a:gridCol w="3168720"/>
                <a:gridCol w="936720"/>
                <a:gridCol w="893520"/>
              </a:tblGrid>
              <a:tr h="106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閱讀主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融入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議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選書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書名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配合活動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名稱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活動說明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融入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或議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方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127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讓愛發光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生命教育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、人權法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讓路給小鴨子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生命的體驗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＊前胸背書包，走路、跑步體驗媽媽懷孕的辛苦，培養感恩惜福的心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綜合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實作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關懷弱勢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＊與里長有約─請教需關懷的對象及如何協助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社會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讓路給小鴨子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教師導讀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學生彼此討論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心得發表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彈性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學習單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39"/>
          <p:cNvSpPr/>
          <p:nvPr/>
        </p:nvSpPr>
        <p:spPr>
          <a:xfrm>
            <a:off x="666360" y="21312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三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情緒教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611280" y="907920"/>
          <a:ext cx="7669080" cy="576900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  <a:gridCol w="431640"/>
                <a:gridCol w="1224000"/>
                <a:gridCol w="3168720"/>
                <a:gridCol w="936720"/>
                <a:gridCol w="900000"/>
              </a:tblGrid>
              <a:tr h="106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閱讀主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融入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議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選書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書名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配合活動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名稱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活動說明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融入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或議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方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76000">
                <a:tc rowSpan="5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我生氣了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情緒教育、壓力調適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我變成一隻噴火龍了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情緒大轟炸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＊師生分享自己的情緒，讓小朋友說出不愉快的狀況和自己排解的方法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語文領域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評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我變成一隻噴火龍了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＊共同閱讀繪本，並能說一說故事的大意、內容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語文領域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實作評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共同討論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＊能深究內容，共同討論，思考如何解決問題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蚊子波泰最喜歡吸哪種人的血？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你也像阿古力一樣愛生氣嗎？</a:t>
                      </a: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阿古力生氣的火造成了什麼後果？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阿古力用了哪些方法想讓火熄滅？最後他的火是怎麼熄掉的？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當你很生氣時，你知道有哪些方法讓自己不生氣的嗎？</a:t>
                      </a: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語文領域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社會領域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評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學習單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創作四格漫畫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＊將故事內容利用四格漫畫的方式來呈現，並加入自己的創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他原本的樣子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他生氣的原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他生氣的樣子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生氣造成的後果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藝文領域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評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學習單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收氣桶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＊能利用收氣桶來抒發自己的情緒，並思考排解情緒的方法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在教室內設置收氣桶，鼓勵學生將發脾氣的情況、原因寫下，投入收氣桶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分享收氣桶內的內容，並討論自己的感受與解決的方法</a:t>
                      </a: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健體領域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評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實作評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39"/>
          <p:cNvSpPr/>
          <p:nvPr/>
        </p:nvSpPr>
        <p:spPr>
          <a:xfrm>
            <a:off x="809280" y="-108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四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自我認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684360" y="977760"/>
          <a:ext cx="7920000" cy="3430800"/>
        </p:xfrm>
        <a:graphic>
          <a:graphicData uri="http://schemas.openxmlformats.org/drawingml/2006/table">
            <a:tbl>
              <a:tblPr/>
              <a:tblGrid>
                <a:gridCol w="669600"/>
                <a:gridCol w="696960"/>
                <a:gridCol w="720720"/>
                <a:gridCol w="1276560"/>
                <a:gridCol w="2278080"/>
                <a:gridCol w="909720"/>
                <a:gridCol w="1368360"/>
              </a:tblGrid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閱讀主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融入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議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選書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書名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配合活動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名稱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活動說明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融入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或議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方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250640">
                <a:tc rowSpan="2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信心百分百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 rowSpan="2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自我認同、家庭教育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 rowSpan="2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你很特別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最佳男女主角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1.</a:t>
                      </a: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教師導讀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2.</a:t>
                      </a: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學生彼此討論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3.</a:t>
                      </a: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心得發表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4.</a:t>
                      </a: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說出最欣賞自己哪些地方及欣賞的原因</a:t>
                      </a:r>
                      <a:r>
                        <a:rPr b="0" lang="zh-TW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語文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發表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優點大轟炸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＊請同學們輪流說出某一位同學的優點，做詳細具體的描述，並且肯定他的行為，讓被肯定的同學更有自信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綜合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發表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571680" y="57132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99"/>
                </a:solidFill>
                <a:latin typeface="Verdana"/>
              </a:rPr>
              <a:t>壹、課程設計與實施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三年級全體老師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99"/>
                </a:solidFill>
                <a:latin typeface="Verdana"/>
              </a:rPr>
              <a:t>貳、設計理念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        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本課程設計配合學校本位課程縱向（健康與體育領域）發展特色，利用觀察、觀賞本校民俗活動，帶入跳繩活動，協助學生學習、學會各種跳繩方式的動作要領和如何預防運動傷害，及處理方式，再藉由資料蒐集、討論、分享等活動，幫助學生認識更多不同特色的民俗活動，進而陪養其興趣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99"/>
                </a:solidFill>
                <a:latin typeface="Verdana"/>
              </a:rPr>
              <a:t>參、學習目標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透過遊戲的方式，學會簡單的單人跳繩技巧。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(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技能目標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能知道簡易的運動傷害處理方式。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(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認知目標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會欣賞民俗才藝表演並分享心得，且做成紀錄。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(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情意目標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4.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藉由跳繩的活動體會運動的重要性。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(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情意目標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5.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透過跳繩活動，進而培養學生對休閒活動的興趣。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(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情意目標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99"/>
                </a:solidFill>
                <a:latin typeface="Verdana"/>
              </a:rPr>
              <a:t>肆、教學策略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        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以學生舊經驗來安排各項學習活動，且活動設計趨向於活動化、趣味化，以增加學生的參與，在教學上採以合作學習、互動學習等教學方式，來引導學生進行學習。而評量方式以多元化、多樣化的方式來評量學生學習過程，來激發學生主主動參與的興趣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99"/>
                </a:solidFill>
                <a:latin typeface="Verdana"/>
              </a:rPr>
              <a:t>伍、學生能力分析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運動對一個人是有至高無上的益處，三年級的小朋友雖非在青春發育期內，但由於腦力正在持績發展，更要有適當足鮈的活動來刺激腦部的成長，跳繩是一種既方便且具成效的運動方式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1357200" y="0"/>
            <a:ext cx="6500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學年特色發展規劃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標楷體"/>
              </a:rPr>
              <a:t>-</a:t>
            </a:r>
            <a:r>
              <a:rPr b="1" lang="zh-TW" sz="3200" spc="-1" strike="noStrike">
                <a:solidFill>
                  <a:srgbClr val="ff0066"/>
                </a:solidFill>
                <a:latin typeface="Arial"/>
                <a:ea typeface="標楷體"/>
              </a:rPr>
              <a:t>「跳躍繩奇」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73" name="圖片 12" descr="過年.jpg"/>
          <p:cNvPicPr/>
          <p:nvPr/>
        </p:nvPicPr>
        <p:blipFill>
          <a:blip r:embed="rId1"/>
          <a:stretch/>
        </p:blipFill>
        <p:spPr>
          <a:xfrm>
            <a:off x="6948360" y="2097000"/>
            <a:ext cx="164808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37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66"/>
                </a:solidFill>
                <a:latin typeface="Verdana"/>
              </a:rPr>
              <a:t>六、學習活動設計架構圖：</a:t>
            </a:r>
            <a:endParaRPr b="0" lang="en-US" sz="1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5" name="AutoShape 2"/>
          <p:cNvSpPr/>
          <p:nvPr/>
        </p:nvSpPr>
        <p:spPr>
          <a:xfrm>
            <a:off x="3924360" y="2924280"/>
            <a:ext cx="1257120" cy="68580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Calibri"/>
              </a:rPr>
              <a:t>跳躍繩奇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" name="AutoShape 3"/>
          <p:cNvSpPr/>
          <p:nvPr/>
        </p:nvSpPr>
        <p:spPr>
          <a:xfrm>
            <a:off x="3348000" y="1413000"/>
            <a:ext cx="2448000" cy="1455480"/>
          </a:xfrm>
          <a:prstGeom prst="downArrowCallout">
            <a:avLst>
              <a:gd name="adj1" fmla="val 33937"/>
              <a:gd name="adj2" fmla="val 33934"/>
              <a:gd name="adj3" fmla="val 16667"/>
              <a:gd name="adj4" fmla="val 66667"/>
            </a:avLst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00"/>
                </a:solidFill>
                <a:latin typeface="Calibri"/>
              </a:rPr>
              <a:t>活動主題：歡喜跳繩去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00"/>
                </a:solidFill>
                <a:latin typeface="Calibri"/>
              </a:rPr>
              <a:t>重要議題：家政教育、人權教育、性別教育、環境教育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7" name="AutoShape 4"/>
          <p:cNvSpPr/>
          <p:nvPr/>
        </p:nvSpPr>
        <p:spPr>
          <a:xfrm>
            <a:off x="1187280" y="2781360"/>
            <a:ext cx="2629080" cy="1028520"/>
          </a:xfrm>
          <a:prstGeom prst="rightArrowCallout">
            <a:avLst>
              <a:gd name="adj1" fmla="val 40106"/>
              <a:gd name="adj2" fmla="val 45454"/>
              <a:gd name="adj3" fmla="val 42437"/>
              <a:gd name="adj4" fmla="val 72778"/>
            </a:avLst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Calibri"/>
              </a:rPr>
              <a:t>活動主題：我的最愛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Calibri"/>
              </a:rPr>
              <a:t>重要議題：生涯發展、環境教育、人權教育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5292720" y="2781360"/>
            <a:ext cx="2629080" cy="1028520"/>
          </a:xfrm>
          <a:prstGeom prst="leftArrowCallout">
            <a:avLst>
              <a:gd name="adj1" fmla="val 45004"/>
              <a:gd name="adj2" fmla="val 48148"/>
              <a:gd name="adj3" fmla="val 37869"/>
              <a:gd name="adj4" fmla="val 75317"/>
            </a:avLst>
          </a:prstGeom>
          <a:solidFill>
            <a:srgbClr val="00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00"/>
                </a:solidFill>
                <a:latin typeface="Calibri"/>
              </a:rPr>
              <a:t>活動主題：有趣的民俗活動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00"/>
                </a:solidFill>
                <a:latin typeface="Calibri"/>
              </a:rPr>
              <a:t>重要議題：環境教育、生涯發展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9" name="AutoShape 6"/>
          <p:cNvSpPr/>
          <p:nvPr/>
        </p:nvSpPr>
        <p:spPr>
          <a:xfrm>
            <a:off x="3492360" y="3716280"/>
            <a:ext cx="2171880" cy="1600200"/>
          </a:xfrm>
          <a:prstGeom prst="upArrowCallout">
            <a:avLst>
              <a:gd name="adj1" fmla="val 33934"/>
              <a:gd name="adj2" fmla="val 36909"/>
              <a:gd name="adj3" fmla="val 16667"/>
              <a:gd name="adj4" fmla="val 66660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Calibri"/>
              </a:rPr>
              <a:t>活動主題：</a:t>
            </a:r>
            <a:r>
              <a:rPr b="0" lang="en-US" sz="1400" spc="-1" strike="noStrike">
                <a:solidFill>
                  <a:srgbClr val="006699"/>
                </a:solidFill>
                <a:latin typeface="Calibri"/>
              </a:rPr>
              <a:t>『</a:t>
            </a:r>
            <a:r>
              <a:rPr b="0" lang="zh-TW" sz="1400" spc="-1" strike="noStrike">
                <a:solidFill>
                  <a:srgbClr val="006699"/>
                </a:solidFill>
                <a:latin typeface="Calibri"/>
              </a:rPr>
              <a:t>繩</a:t>
            </a:r>
            <a:r>
              <a:rPr b="0" lang="en-US" sz="1400" spc="-1" strike="noStrike">
                <a:solidFill>
                  <a:srgbClr val="006699"/>
                </a:solidFill>
                <a:latin typeface="Calibri"/>
              </a:rPr>
              <a:t>』</a:t>
            </a:r>
            <a:r>
              <a:rPr b="0" lang="zh-TW" sz="1400" spc="-1" strike="noStrike">
                <a:solidFill>
                  <a:srgbClr val="006699"/>
                </a:solidFill>
                <a:latin typeface="Calibri"/>
              </a:rPr>
              <a:t>祕世界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Calibri"/>
              </a:rPr>
              <a:t>重要議題：性別教育、生涯發展、人權教育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4"/>
          <p:cNvSpPr/>
          <p:nvPr/>
        </p:nvSpPr>
        <p:spPr>
          <a:xfrm>
            <a:off x="2700360" y="69228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1476360" y="404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學年特色發展規劃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標楷體"/>
              </a:rPr>
              <a:t>-</a:t>
            </a:r>
            <a:r>
              <a:rPr b="1" lang="zh-TW" sz="3200" spc="-1" strike="noStrike">
                <a:solidFill>
                  <a:srgbClr val="ff0066"/>
                </a:solidFill>
                <a:latin typeface="Arial"/>
                <a:ea typeface="標楷體"/>
              </a:rPr>
              <a:t>「讀經教育」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611280" y="1168560"/>
            <a:ext cx="7921440" cy="48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4120" bIns="114120" anchor="ctr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壹、課程設計與實施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三年級全體老師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貳、設計理念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透過共同讀經活動，配合教師適度引導，讓孩子學習聖賢經典中做人處世的道理，在生活中身體力行，導正日常生活常規與觀念，並且希望藉讀經活動提升學生的專注力及語文能力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參、學習目標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1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能專心誦讀經文內容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2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能正確背出經文內容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3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能在日常生活中實踐習得之道理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4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培養學生識字、認讀的能力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肆、教學策略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1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運用領讀→齊讀→ 輪讀→ 接讀循序漸進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2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利用日常發生之實際例子進行解說、分享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3.</a:t>
            </a:r>
            <a:r>
              <a:rPr b="0" lang="zh-TW" sz="1800" spc="-1" strike="noStrike">
                <a:solidFill>
                  <a:srgbClr val="ff0066"/>
                </a:solidFill>
                <a:latin typeface="標楷體"/>
                <a:ea typeface="標楷體"/>
              </a:rPr>
              <a:t>配合學生護照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，背誦完畢後頒發獎狀予以鼓勵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伍、讀經教材規劃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一年級上學期：弟子規            一年級下學期：三字經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二年級</a:t>
            </a:r>
            <a:r>
              <a:rPr b="0" lang="zh-TW" sz="1800" spc="-1" strike="noStrike">
                <a:solidFill>
                  <a:srgbClr val="0000ff"/>
                </a:solidFill>
                <a:latin typeface="Verdana"/>
                <a:ea typeface="標楷體"/>
              </a:rPr>
              <a:t>：朱子治家格言、千字文、孝經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Verdana"/>
                <a:ea typeface="標楷體"/>
              </a:rPr>
              <a:t>      </a:t>
            </a:r>
            <a:r>
              <a:rPr b="0" lang="zh-TW" sz="1800" spc="-1" strike="noStrike">
                <a:solidFill>
                  <a:srgbClr val="ff0000"/>
                </a:solidFill>
                <a:latin typeface="Verdana"/>
                <a:ea typeface="標楷體"/>
              </a:rPr>
              <a:t>三年級：二年級未完成的部分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標楷體"/>
              </a:rPr>
              <a:t>,</a:t>
            </a:r>
            <a:r>
              <a:rPr b="0" lang="zh-TW" sz="1800" spc="-1" strike="noStrike">
                <a:solidFill>
                  <a:srgbClr val="ff0000"/>
                </a:solidFill>
                <a:latin typeface="Verdana"/>
                <a:ea typeface="標楷體"/>
              </a:rPr>
              <a:t>論語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83" name="Picture 8" descr="穿衣服的蠻頭"/>
          <p:cNvPicPr/>
          <p:nvPr/>
        </p:nvPicPr>
        <p:blipFill>
          <a:blip r:embed="rId1"/>
          <a:stretch/>
        </p:blipFill>
        <p:spPr>
          <a:xfrm>
            <a:off x="6500880" y="2781360"/>
            <a:ext cx="161136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File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3"/>
          <p:cNvSpPr/>
          <p:nvPr/>
        </p:nvSpPr>
        <p:spPr>
          <a:xfrm>
            <a:off x="1214280" y="200016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00000"/>
                </a:solidFill>
                <a:latin typeface="標楷體"/>
                <a:ea typeface="標楷體"/>
              </a:rPr>
              <a:t>謝謝您耐心的聆聽</a:t>
            </a:r>
            <a:r>
              <a:rPr b="1" lang="en-US" sz="4000" spc="-1" strike="noStrike">
                <a:solidFill>
                  <a:srgbClr val="c00000"/>
                </a:solidFill>
                <a:latin typeface="標楷體"/>
                <a:ea typeface="標楷體"/>
              </a:rPr>
              <a:t>~</a:t>
            </a:r>
            <a:r>
              <a:rPr b="1" lang="zh-TW" sz="4000" spc="-1" strike="noStrike">
                <a:solidFill>
                  <a:srgbClr val="c00000"/>
                </a:solidFill>
                <a:latin typeface="標楷體"/>
                <a:ea typeface="標楷體"/>
              </a:rPr>
              <a:t>報告完畢！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456000" y="92700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ff"/>
                </a:solidFill>
                <a:latin typeface="Verdana"/>
                <a:ea typeface="標楷體"/>
              </a:rPr>
              <a:t>報告大綱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340000" y="2133720"/>
            <a:ext cx="435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一、學校本位課程規劃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二、彈性時間分配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三、東信閱讀通介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四、學年特色發展說明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Picture 5" descr="himwari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4286160"/>
            <a:ext cx="91440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39"/>
          <p:cNvSpPr/>
          <p:nvPr/>
        </p:nvSpPr>
        <p:spPr>
          <a:xfrm>
            <a:off x="611280" y="1455840"/>
            <a:ext cx="2016000" cy="67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Times New Roman"/>
                <a:ea typeface="標楷體"/>
              </a:rPr>
              <a:t>語文領域縱向發展：閱讀寫作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Line 49"/>
          <p:cNvSpPr/>
          <p:nvPr/>
        </p:nvSpPr>
        <p:spPr>
          <a:xfrm>
            <a:off x="2976480" y="315108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Line 50"/>
          <p:cNvSpPr/>
          <p:nvPr/>
        </p:nvSpPr>
        <p:spPr>
          <a:xfrm>
            <a:off x="2976480" y="384984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AutoShape 55"/>
          <p:cNvSpPr/>
          <p:nvPr/>
        </p:nvSpPr>
        <p:spPr>
          <a:xfrm>
            <a:off x="611280" y="3191040"/>
            <a:ext cx="2016000" cy="67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數學領域縱向發展：數的樂園</a:t>
            </a: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176" name="AutoShape 56"/>
          <p:cNvCxnSpPr>
            <a:stCxn id="173" idx="0"/>
            <a:endCxn id="174" idx="0"/>
          </p:cNvCxnSpPr>
          <p:nvPr/>
        </p:nvCxnSpPr>
        <p:spPr>
          <a:xfrm>
            <a:off x="2976120" y="3150720"/>
            <a:ext cx="1080" cy="699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7" name="Line 57"/>
          <p:cNvSpPr/>
          <p:nvPr/>
        </p:nvSpPr>
        <p:spPr>
          <a:xfrm>
            <a:off x="2627280" y="35082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Line 60"/>
          <p:cNvSpPr/>
          <p:nvPr/>
        </p:nvSpPr>
        <p:spPr>
          <a:xfrm>
            <a:off x="2976480" y="508464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Line 61"/>
          <p:cNvSpPr/>
          <p:nvPr/>
        </p:nvSpPr>
        <p:spPr>
          <a:xfrm>
            <a:off x="2976480" y="602136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AutoShape 66"/>
          <p:cNvSpPr/>
          <p:nvPr/>
        </p:nvSpPr>
        <p:spPr>
          <a:xfrm>
            <a:off x="611280" y="5127480"/>
            <a:ext cx="2016000" cy="67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Verdana"/>
                <a:ea typeface="標楷體"/>
              </a:rPr>
              <a:t>自然領域縱向發展：校園植物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181" name="AutoShape 67"/>
          <p:cNvCxnSpPr>
            <a:stCxn id="178" idx="0"/>
            <a:endCxn id="179" idx="0"/>
          </p:cNvCxnSpPr>
          <p:nvPr/>
        </p:nvCxnSpPr>
        <p:spPr>
          <a:xfrm>
            <a:off x="2976120" y="5084640"/>
            <a:ext cx="1080" cy="93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2" name="Line 68"/>
          <p:cNvSpPr/>
          <p:nvPr/>
        </p:nvSpPr>
        <p:spPr>
          <a:xfrm>
            <a:off x="2627280" y="551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630360" y="260280"/>
            <a:ext cx="818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三年級學校本位課程領域縱向發展架構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84" name="群組 41"/>
          <p:cNvGrpSpPr/>
          <p:nvPr/>
        </p:nvGrpSpPr>
        <p:grpSpPr>
          <a:xfrm>
            <a:off x="2627280" y="1116000"/>
            <a:ext cx="5862600" cy="1312920"/>
            <a:chOff x="2627280" y="1116000"/>
            <a:chExt cx="5862600" cy="1312920"/>
          </a:xfrm>
        </p:grpSpPr>
        <p:sp>
          <p:nvSpPr>
            <p:cNvPr id="185" name="AutoShape 30"/>
            <p:cNvSpPr/>
            <p:nvPr/>
          </p:nvSpPr>
          <p:spPr>
            <a:xfrm>
              <a:off x="4643280" y="1116000"/>
              <a:ext cx="2500200" cy="59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能夠上台流暢的說出一則故事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6" name="AutoShape 31"/>
            <p:cNvSpPr/>
            <p:nvPr/>
          </p:nvSpPr>
          <p:spPr>
            <a:xfrm>
              <a:off x="3296880" y="1116000"/>
              <a:ext cx="1131840" cy="59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三上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小小說書人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一上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畫中有話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7" name="Line 32"/>
            <p:cNvSpPr/>
            <p:nvPr/>
          </p:nvSpPr>
          <p:spPr>
            <a:xfrm>
              <a:off x="2976480" y="141588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8" name="Line 33"/>
            <p:cNvSpPr/>
            <p:nvPr/>
          </p:nvSpPr>
          <p:spPr>
            <a:xfrm>
              <a:off x="2976480" y="211464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9" name="Line 34"/>
            <p:cNvSpPr/>
            <p:nvPr/>
          </p:nvSpPr>
          <p:spPr>
            <a:xfrm>
              <a:off x="4429080" y="142848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0" name="AutoShape 35"/>
            <p:cNvSpPr/>
            <p:nvPr/>
          </p:nvSpPr>
          <p:spPr>
            <a:xfrm>
              <a:off x="3296880" y="1814400"/>
              <a:ext cx="1131840" cy="600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三下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改編高手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1" name="Line 36"/>
            <p:cNvSpPr/>
            <p:nvPr/>
          </p:nvSpPr>
          <p:spPr>
            <a:xfrm>
              <a:off x="4429080" y="214308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2" name="AutoShape 37"/>
            <p:cNvSpPr/>
            <p:nvPr/>
          </p:nvSpPr>
          <p:spPr>
            <a:xfrm>
              <a:off x="4643280" y="1814400"/>
              <a:ext cx="2500200" cy="600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經由改編童話而創新作品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cxnSp>
          <p:nvCxnSpPr>
            <p:cNvPr id="193" name="AutoShape 43"/>
            <p:cNvCxnSpPr>
              <a:stCxn id="187" idx="0"/>
              <a:endCxn id="188" idx="0"/>
            </p:cNvCxnSpPr>
            <p:nvPr/>
          </p:nvCxnSpPr>
          <p:spPr>
            <a:xfrm>
              <a:off x="2976120" y="1415880"/>
              <a:ext cx="1080" cy="699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4" name="Line 46"/>
            <p:cNvSpPr/>
            <p:nvPr/>
          </p:nvSpPr>
          <p:spPr>
            <a:xfrm>
              <a:off x="2627280" y="1773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5" name="Line 34"/>
            <p:cNvSpPr/>
            <p:nvPr/>
          </p:nvSpPr>
          <p:spPr>
            <a:xfrm>
              <a:off x="7143840" y="142848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6" name="Line 34"/>
            <p:cNvSpPr/>
            <p:nvPr/>
          </p:nvSpPr>
          <p:spPr>
            <a:xfrm>
              <a:off x="7143840" y="207180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7" name="AutoShape 31"/>
            <p:cNvSpPr/>
            <p:nvPr/>
          </p:nvSpPr>
          <p:spPr>
            <a:xfrm>
              <a:off x="7358040" y="1142640"/>
              <a:ext cx="1131840" cy="571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C-1-3-4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8" name="AutoShape 31"/>
            <p:cNvSpPr/>
            <p:nvPr/>
          </p:nvSpPr>
          <p:spPr>
            <a:xfrm>
              <a:off x="7358040" y="1857240"/>
              <a:ext cx="1131840" cy="571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F-1-6-7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99" name="群組 46"/>
          <p:cNvGrpSpPr/>
          <p:nvPr/>
        </p:nvGrpSpPr>
        <p:grpSpPr>
          <a:xfrm>
            <a:off x="3297240" y="2565360"/>
            <a:ext cx="5192640" cy="1863720"/>
            <a:chOff x="3297240" y="2565360"/>
            <a:chExt cx="5192640" cy="1863720"/>
          </a:xfrm>
        </p:grpSpPr>
        <p:sp>
          <p:nvSpPr>
            <p:cNvPr id="200" name="AutoShape 47"/>
            <p:cNvSpPr/>
            <p:nvPr/>
          </p:nvSpPr>
          <p:spPr>
            <a:xfrm>
              <a:off x="4643280" y="2565360"/>
              <a:ext cx="2500200" cy="884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能自製九九乘法表並運用乘法解決二位數乘一位數的問題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1" name="AutoShape 48"/>
            <p:cNvSpPr/>
            <p:nvPr/>
          </p:nvSpPr>
          <p:spPr>
            <a:xfrm>
              <a:off x="3297240" y="2565360"/>
              <a:ext cx="1131840" cy="884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6699"/>
                  </a:solidFill>
                  <a:latin typeface="標楷體"/>
                  <a:ea typeface="標楷體"/>
                </a:rPr>
                <a:t>三上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6699"/>
                  </a:solidFill>
                  <a:latin typeface="標楷體"/>
                  <a:ea typeface="標楷體"/>
                </a:rPr>
                <a:t>九九乘法大考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2" name="Line 51"/>
            <p:cNvSpPr/>
            <p:nvPr/>
          </p:nvSpPr>
          <p:spPr>
            <a:xfrm>
              <a:off x="4429080" y="31431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3" name="AutoShape 52"/>
            <p:cNvSpPr/>
            <p:nvPr/>
          </p:nvSpPr>
          <p:spPr>
            <a:xfrm>
              <a:off x="3297240" y="3549600"/>
              <a:ext cx="1131840" cy="87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三下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公平分一分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4" name="Line 53"/>
            <p:cNvSpPr/>
            <p:nvPr/>
          </p:nvSpPr>
          <p:spPr>
            <a:xfrm>
              <a:off x="4429080" y="38577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5" name="AutoShape 54"/>
            <p:cNvSpPr/>
            <p:nvPr/>
          </p:nvSpPr>
          <p:spPr>
            <a:xfrm>
              <a:off x="4643280" y="3643200"/>
              <a:ext cx="2500200" cy="785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能將老師給的花片或個體物平分給指定的人數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6" name="Line 53"/>
            <p:cNvSpPr/>
            <p:nvPr/>
          </p:nvSpPr>
          <p:spPr>
            <a:xfrm>
              <a:off x="7143840" y="307152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7" name="Line 53"/>
            <p:cNvSpPr/>
            <p:nvPr/>
          </p:nvSpPr>
          <p:spPr>
            <a:xfrm>
              <a:off x="7143840" y="392904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8" name="AutoShape 48"/>
            <p:cNvSpPr/>
            <p:nvPr/>
          </p:nvSpPr>
          <p:spPr>
            <a:xfrm>
              <a:off x="7358040" y="2857320"/>
              <a:ext cx="1131840" cy="598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N-1-0-6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N-1-0-3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9" name="AutoShape 48"/>
            <p:cNvSpPr/>
            <p:nvPr/>
          </p:nvSpPr>
          <p:spPr>
            <a:xfrm>
              <a:off x="7358040" y="3643200"/>
              <a:ext cx="1131840" cy="598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N-1-0-4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10" name="群組 51"/>
          <p:cNvGrpSpPr/>
          <p:nvPr/>
        </p:nvGrpSpPr>
        <p:grpSpPr>
          <a:xfrm>
            <a:off x="3297240" y="4500720"/>
            <a:ext cx="5703840" cy="2168280"/>
            <a:chOff x="3297240" y="4500720"/>
            <a:chExt cx="5703840" cy="2168280"/>
          </a:xfrm>
        </p:grpSpPr>
        <p:sp>
          <p:nvSpPr>
            <p:cNvPr id="211" name="AutoShape 58"/>
            <p:cNvSpPr/>
            <p:nvPr/>
          </p:nvSpPr>
          <p:spPr>
            <a:xfrm>
              <a:off x="4643280" y="4643280"/>
              <a:ext cx="3024720" cy="909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1.</a:t>
              </a: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觀察綠豆的成長過程並紀錄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2.</a:t>
              </a: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學生自行挑選一種植物觀察並製作成生長筆記或小書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2" name="AutoShape 59"/>
            <p:cNvSpPr/>
            <p:nvPr/>
          </p:nvSpPr>
          <p:spPr>
            <a:xfrm>
              <a:off x="3297240" y="4775040"/>
              <a:ext cx="1131840" cy="79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6699"/>
                  </a:solidFill>
                  <a:latin typeface="標楷體"/>
                  <a:ea typeface="標楷體"/>
                </a:rPr>
                <a:t>三上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6699"/>
                  </a:solidFill>
                  <a:latin typeface="標楷體"/>
                  <a:ea typeface="標楷體"/>
                </a:rPr>
                <a:t>生態觀察筆記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3" name="Line 62"/>
            <p:cNvSpPr/>
            <p:nvPr/>
          </p:nvSpPr>
          <p:spPr>
            <a:xfrm>
              <a:off x="4429080" y="507204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4" name="AutoShape 63"/>
            <p:cNvSpPr/>
            <p:nvPr/>
          </p:nvSpPr>
          <p:spPr>
            <a:xfrm>
              <a:off x="3297240" y="5781600"/>
              <a:ext cx="1131840" cy="815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6699"/>
                  </a:solidFill>
                  <a:latin typeface="標楷體"/>
                  <a:ea typeface="標楷體"/>
                </a:rPr>
                <a:t>三下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6699"/>
                  </a:solidFill>
                  <a:latin typeface="標楷體"/>
                  <a:ea typeface="標楷體"/>
                </a:rPr>
                <a:t>生態觀察筆記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5" name="Line 64"/>
            <p:cNvSpPr/>
            <p:nvPr/>
          </p:nvSpPr>
          <p:spPr>
            <a:xfrm>
              <a:off x="4429080" y="607212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6" name="AutoShape 65"/>
            <p:cNvSpPr/>
            <p:nvPr/>
          </p:nvSpPr>
          <p:spPr>
            <a:xfrm>
              <a:off x="4643280" y="5572080"/>
              <a:ext cx="3066120" cy="109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1.</a:t>
              </a: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觀察蓋斑鬥魚成長過程並紀錄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2.</a:t>
              </a: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班級自行挑選一種小動物觀察並製作成生長週記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7" name="AutoShape 59"/>
            <p:cNvSpPr/>
            <p:nvPr/>
          </p:nvSpPr>
          <p:spPr>
            <a:xfrm>
              <a:off x="7923960" y="4500720"/>
              <a:ext cx="1077120" cy="107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1-2-1-1   1-2-5-2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2-2-1-1   5-2-1-1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8" name="AutoShape 59"/>
            <p:cNvSpPr/>
            <p:nvPr/>
          </p:nvSpPr>
          <p:spPr>
            <a:xfrm>
              <a:off x="7923960" y="5786280"/>
              <a:ext cx="1077120" cy="81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1-2-1-1   5-2-1-1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7-2-0-2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9" name="Line 62"/>
            <p:cNvSpPr/>
            <p:nvPr/>
          </p:nvSpPr>
          <p:spPr>
            <a:xfrm>
              <a:off x="7710480" y="51069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0" name="Line 62"/>
            <p:cNvSpPr/>
            <p:nvPr/>
          </p:nvSpPr>
          <p:spPr>
            <a:xfrm>
              <a:off x="7715160" y="618984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4572000" y="768240"/>
            <a:ext cx="2751120" cy="932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能知道東信校園的自然及空間特色，進而認識與感受和校外地區的差異性。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3297240" y="835200"/>
            <a:ext cx="1060560" cy="59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三上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美之東信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AutoShape 10"/>
          <p:cNvSpPr/>
          <p:nvPr/>
        </p:nvSpPr>
        <p:spPr>
          <a:xfrm>
            <a:off x="611280" y="1174680"/>
            <a:ext cx="2016000" cy="67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社會領域縱向發展：東信風情畫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2627280" y="14922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AutoShape 24"/>
          <p:cNvSpPr/>
          <p:nvPr/>
        </p:nvSpPr>
        <p:spPr>
          <a:xfrm>
            <a:off x="4726080" y="4280040"/>
            <a:ext cx="3132000" cy="94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１．欣賞本校民俗班跳繩表演，認識並了解“跳繩”運動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２．能了解跳繩運動對身體的幫助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３．能說出跳繩基本跳法名稱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AutoShape 25"/>
          <p:cNvSpPr/>
          <p:nvPr/>
        </p:nvSpPr>
        <p:spPr>
          <a:xfrm>
            <a:off x="3297240" y="4280040"/>
            <a:ext cx="1168560" cy="80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三上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舞動奇蹟（跳繩１</a:t>
            </a: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Line 26"/>
          <p:cNvSpPr/>
          <p:nvPr/>
        </p:nvSpPr>
        <p:spPr>
          <a:xfrm>
            <a:off x="2976480" y="458964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Line 27"/>
          <p:cNvSpPr/>
          <p:nvPr/>
        </p:nvSpPr>
        <p:spPr>
          <a:xfrm>
            <a:off x="2976480" y="602136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Line 28"/>
          <p:cNvSpPr/>
          <p:nvPr/>
        </p:nvSpPr>
        <p:spPr>
          <a:xfrm>
            <a:off x="4505400" y="460044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3297240" y="5557680"/>
            <a:ext cx="1170000" cy="927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三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“</a:t>
            </a: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繩”采飛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Line 30"/>
          <p:cNvSpPr/>
          <p:nvPr/>
        </p:nvSpPr>
        <p:spPr>
          <a:xfrm>
            <a:off x="4505400" y="602136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AutoShape 31"/>
          <p:cNvSpPr/>
          <p:nvPr/>
        </p:nvSpPr>
        <p:spPr>
          <a:xfrm>
            <a:off x="4681440" y="5500800"/>
            <a:ext cx="3176640" cy="98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１．能做出各項單人跳繩基本跳法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２．能察覺跳繩運動對體能及健康促進，進而發覺其他可替代的運動項目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AutoShape 32"/>
          <p:cNvSpPr/>
          <p:nvPr/>
        </p:nvSpPr>
        <p:spPr>
          <a:xfrm>
            <a:off x="611280" y="4983120"/>
            <a:ext cx="2016000" cy="67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Arial"/>
                <a:ea typeface="標楷體"/>
              </a:rPr>
              <a:t>健體領域縱向發展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Arial"/>
                <a:ea typeface="標楷體"/>
              </a:rPr>
              <a:t>運動好</a:t>
            </a: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小子</a:t>
            </a: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234" name="AutoShape 33"/>
          <p:cNvCxnSpPr>
            <a:stCxn id="227" idx="0"/>
            <a:endCxn id="228" idx="0"/>
          </p:cNvCxnSpPr>
          <p:nvPr/>
        </p:nvCxnSpPr>
        <p:spPr>
          <a:xfrm>
            <a:off x="2976120" y="4589280"/>
            <a:ext cx="1080" cy="1432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5" name="Line 34"/>
          <p:cNvSpPr/>
          <p:nvPr/>
        </p:nvSpPr>
        <p:spPr>
          <a:xfrm>
            <a:off x="2627280" y="530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Rectangle 15"/>
          <p:cNvSpPr/>
          <p:nvPr/>
        </p:nvSpPr>
        <p:spPr>
          <a:xfrm>
            <a:off x="630360" y="189000"/>
            <a:ext cx="818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三年級學校本位課程領域縱向發展架構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2976480" y="113508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2976480" y="183348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4357800" y="114300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3297240" y="1533600"/>
            <a:ext cx="106056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三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繪製東信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4357800" y="185724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AutoShape 9"/>
          <p:cNvSpPr/>
          <p:nvPr/>
        </p:nvSpPr>
        <p:spPr>
          <a:xfrm>
            <a:off x="4572000" y="1700280"/>
            <a:ext cx="2751120" cy="89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能從地圖中知道東信的所在地，並能簡略的繪製校園的平面圖。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243" name="AutoShape 11"/>
          <p:cNvCxnSpPr>
            <a:stCxn id="237" idx="0"/>
            <a:endCxn id="238" idx="0"/>
          </p:cNvCxnSpPr>
          <p:nvPr/>
        </p:nvCxnSpPr>
        <p:spPr>
          <a:xfrm>
            <a:off x="2976120" y="1135080"/>
            <a:ext cx="108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4" name="Line 6"/>
          <p:cNvSpPr/>
          <p:nvPr/>
        </p:nvSpPr>
        <p:spPr>
          <a:xfrm>
            <a:off x="7323120" y="108432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Line 6"/>
          <p:cNvSpPr/>
          <p:nvPr/>
        </p:nvSpPr>
        <p:spPr>
          <a:xfrm>
            <a:off x="7323120" y="183672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Line 6"/>
          <p:cNvSpPr/>
          <p:nvPr/>
        </p:nvSpPr>
        <p:spPr>
          <a:xfrm>
            <a:off x="7858080" y="457200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Line 6"/>
          <p:cNvSpPr/>
          <p:nvPr/>
        </p:nvSpPr>
        <p:spPr>
          <a:xfrm>
            <a:off x="7858080" y="601020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7524720" y="785880"/>
            <a:ext cx="1476360" cy="59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1-2-1  1-2-7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1-2-3  1-2-8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AutoShape 3"/>
          <p:cNvSpPr/>
          <p:nvPr/>
        </p:nvSpPr>
        <p:spPr>
          <a:xfrm>
            <a:off x="7524720" y="1571760"/>
            <a:ext cx="1476360" cy="59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2-1-2  5-1-4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5-1-3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50" name="群組 52"/>
          <p:cNvGrpSpPr/>
          <p:nvPr/>
        </p:nvGrpSpPr>
        <p:grpSpPr>
          <a:xfrm>
            <a:off x="611280" y="2637000"/>
            <a:ext cx="8389800" cy="1574640"/>
            <a:chOff x="611280" y="2637000"/>
            <a:chExt cx="8389800" cy="1574640"/>
          </a:xfrm>
        </p:grpSpPr>
        <p:sp>
          <p:nvSpPr>
            <p:cNvPr id="251" name="AutoShape 21"/>
            <p:cNvSpPr/>
            <p:nvPr/>
          </p:nvSpPr>
          <p:spPr>
            <a:xfrm>
              <a:off x="611280" y="3043800"/>
              <a:ext cx="2016000" cy="812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藝術與人文領域縱向發展：故鄉風月情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2" name="Line 23"/>
            <p:cNvSpPr/>
            <p:nvPr/>
          </p:nvSpPr>
          <p:spPr>
            <a:xfrm>
              <a:off x="2627280" y="34243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53" name="群組 49"/>
            <p:cNvGrpSpPr/>
            <p:nvPr/>
          </p:nvGrpSpPr>
          <p:grpSpPr>
            <a:xfrm>
              <a:off x="2976120" y="2637000"/>
              <a:ext cx="6024960" cy="1574640"/>
              <a:chOff x="2976120" y="2637000"/>
              <a:chExt cx="6024960" cy="1574640"/>
            </a:xfrm>
          </p:grpSpPr>
          <p:sp>
            <p:nvSpPr>
              <p:cNvPr id="254" name="AutoShape 13"/>
              <p:cNvSpPr/>
              <p:nvPr/>
            </p:nvSpPr>
            <p:spPr>
              <a:xfrm>
                <a:off x="4932000" y="2637000"/>
                <a:ext cx="2390400" cy="7873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尋找校園中適合遊戲的各種素材，進行造型遊戲並佈置美化校園。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5" name="AutoShape 14"/>
              <p:cNvSpPr/>
              <p:nvPr/>
            </p:nvSpPr>
            <p:spPr>
              <a:xfrm>
                <a:off x="3296880" y="2637000"/>
                <a:ext cx="1384200" cy="8575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三上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校園遊樂場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6" name="Line 15"/>
              <p:cNvSpPr/>
              <p:nvPr/>
            </p:nvSpPr>
            <p:spPr>
              <a:xfrm>
                <a:off x="2976480" y="2995560"/>
                <a:ext cx="32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7" name="Line 16"/>
              <p:cNvSpPr/>
              <p:nvPr/>
            </p:nvSpPr>
            <p:spPr>
              <a:xfrm>
                <a:off x="2976480" y="3834000"/>
                <a:ext cx="32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8" name="Line 17"/>
              <p:cNvSpPr/>
              <p:nvPr/>
            </p:nvSpPr>
            <p:spPr>
              <a:xfrm>
                <a:off x="4681440" y="307044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9" name="AutoShape 18"/>
              <p:cNvSpPr/>
              <p:nvPr/>
            </p:nvSpPr>
            <p:spPr>
              <a:xfrm>
                <a:off x="3296880" y="3573000"/>
                <a:ext cx="1749240" cy="6195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三下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我的校園我的歌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0" name="Line 19"/>
              <p:cNvSpPr/>
              <p:nvPr/>
            </p:nvSpPr>
            <p:spPr>
              <a:xfrm>
                <a:off x="5046480" y="388332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1" name="AutoShape 20"/>
              <p:cNvSpPr/>
              <p:nvPr/>
            </p:nvSpPr>
            <p:spPr>
              <a:xfrm>
                <a:off x="5220000" y="3473640"/>
                <a:ext cx="2102400" cy="7056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利用直笛吹奏出校歌，增加對學校的認同。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cxnSp>
            <p:nvCxnSpPr>
              <p:cNvPr id="262" name="AutoShape 22"/>
              <p:cNvCxnSpPr>
                <a:stCxn id="256" idx="0"/>
                <a:endCxn id="257" idx="0"/>
              </p:cNvCxnSpPr>
              <p:nvPr/>
            </p:nvCxnSpPr>
            <p:spPr>
              <a:xfrm>
                <a:off x="2976120" y="2996280"/>
                <a:ext cx="1080" cy="837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63" name="Line 6"/>
              <p:cNvSpPr/>
              <p:nvPr/>
            </p:nvSpPr>
            <p:spPr>
              <a:xfrm>
                <a:off x="7323120" y="299556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4" name="Line 6"/>
              <p:cNvSpPr/>
              <p:nvPr/>
            </p:nvSpPr>
            <p:spPr>
              <a:xfrm>
                <a:off x="7354800" y="387216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5" name="AutoShape 14"/>
              <p:cNvSpPr/>
              <p:nvPr/>
            </p:nvSpPr>
            <p:spPr>
              <a:xfrm>
                <a:off x="7536600" y="2638800"/>
                <a:ext cx="1464480" cy="717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3-2-11 1-2-1</a:t>
                </a:r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1-2-5 </a:t>
                </a:r>
                <a:r>
                  <a:rPr b="0" lang="zh-TW" sz="15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 </a:t>
                </a:r>
                <a:r>
                  <a:rPr b="0" lang="en-US" sz="15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1-2-2</a:t>
                </a:r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6" name="AutoShape 14"/>
              <p:cNvSpPr/>
              <p:nvPr/>
            </p:nvSpPr>
            <p:spPr>
              <a:xfrm>
                <a:off x="7569360" y="3494520"/>
                <a:ext cx="1431720" cy="717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1-2-4</a:t>
                </a: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 </a:t>
                </a: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1-2-5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2-2-7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</p:grpSp>
      <p:sp>
        <p:nvSpPr>
          <p:cNvPr id="267" name="AutoShape 25"/>
          <p:cNvSpPr/>
          <p:nvPr/>
        </p:nvSpPr>
        <p:spPr>
          <a:xfrm>
            <a:off x="8083440" y="4286160"/>
            <a:ext cx="917640" cy="798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1-2-2  4-2-5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3-2-3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AutoShape 25"/>
          <p:cNvSpPr/>
          <p:nvPr/>
        </p:nvSpPr>
        <p:spPr>
          <a:xfrm>
            <a:off x="8072280" y="5322960"/>
            <a:ext cx="917640" cy="1116000"/>
          </a:xfrm>
          <a:custGeom>
            <a:avLst/>
            <a:gdLst>
              <a:gd name="textAreaLeft" fmla="*/ 44640 w 917640"/>
              <a:gd name="textAreaRight" fmla="*/ 873000 w 917640"/>
              <a:gd name="textAreaTop" fmla="*/ 44640 h 1116000"/>
              <a:gd name="textAreaBottom" fmla="*/ 1071360 h 1116000"/>
            </a:gdLst>
            <a:ahLst/>
            <a:rect l="textAreaLeft" t="textAreaTop" r="textAreaRight" b="textAreaBottom"/>
            <a:pathLst>
              <a:path w="21600" h="26267">
                <a:moveTo>
                  <a:pt x="3600" y="0"/>
                </a:moveTo>
                <a:arcTo wR="3600" hR="3600" stAng="16200000" swAng="-5400000"/>
                <a:lnTo>
                  <a:pt x="0" y="22667"/>
                </a:lnTo>
                <a:arcTo wR="3600" hR="3600" stAng="10800000" swAng="-5400000"/>
                <a:lnTo>
                  <a:pt x="18000" y="262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3-1-2  3-1-4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3-1-3  4-1-1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5"/>
          <p:cNvSpPr/>
          <p:nvPr/>
        </p:nvSpPr>
        <p:spPr>
          <a:xfrm>
            <a:off x="630360" y="473040"/>
            <a:ext cx="818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三年級學校本位課程領域縱向發展架構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0" name="Picture 42" descr="Siki0411"/>
          <p:cNvPicPr/>
          <p:nvPr/>
        </p:nvPicPr>
        <p:blipFill>
          <a:blip r:embed="rId1"/>
          <a:stretch/>
        </p:blipFill>
        <p:spPr>
          <a:xfrm>
            <a:off x="0" y="4498920"/>
            <a:ext cx="2843280" cy="22366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6" descr="Siki0411"/>
          <p:cNvPicPr/>
          <p:nvPr/>
        </p:nvPicPr>
        <p:blipFill>
          <a:blip r:embed="rId2"/>
          <a:stretch/>
        </p:blipFill>
        <p:spPr>
          <a:xfrm>
            <a:off x="2987640" y="4498920"/>
            <a:ext cx="2843280" cy="22366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7" descr="Siki0411"/>
          <p:cNvPicPr/>
          <p:nvPr/>
        </p:nvPicPr>
        <p:blipFill>
          <a:blip r:embed="rId3"/>
          <a:stretch/>
        </p:blipFill>
        <p:spPr>
          <a:xfrm>
            <a:off x="6084720" y="4498920"/>
            <a:ext cx="2843280" cy="2236680"/>
          </a:xfrm>
          <a:prstGeom prst="rect">
            <a:avLst/>
          </a:prstGeom>
          <a:ln w="0">
            <a:noFill/>
          </a:ln>
        </p:spPr>
      </p:pic>
      <p:grpSp>
        <p:nvGrpSpPr>
          <p:cNvPr id="273" name="群組 23"/>
          <p:cNvGrpSpPr/>
          <p:nvPr/>
        </p:nvGrpSpPr>
        <p:grpSpPr>
          <a:xfrm>
            <a:off x="428760" y="2143080"/>
            <a:ext cx="8021520" cy="1573200"/>
            <a:chOff x="428760" y="2143080"/>
            <a:chExt cx="8021520" cy="1573200"/>
          </a:xfrm>
        </p:grpSpPr>
        <p:sp>
          <p:nvSpPr>
            <p:cNvPr id="274" name="Line 4"/>
            <p:cNvSpPr/>
            <p:nvPr/>
          </p:nvSpPr>
          <p:spPr>
            <a:xfrm>
              <a:off x="2793960" y="249840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5" name="Line 5"/>
            <p:cNvSpPr/>
            <p:nvPr/>
          </p:nvSpPr>
          <p:spPr>
            <a:xfrm>
              <a:off x="2793960" y="332568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6" name="AutoShape 10"/>
            <p:cNvSpPr/>
            <p:nvPr/>
          </p:nvSpPr>
          <p:spPr>
            <a:xfrm>
              <a:off x="428760" y="2545200"/>
              <a:ext cx="2016000" cy="80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綜合領域縱向發展：環保小天使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cxnSp>
          <p:nvCxnSpPr>
            <p:cNvPr id="277" name="AutoShape 11"/>
            <p:cNvCxnSpPr>
              <a:stCxn id="274" idx="0"/>
              <a:endCxn id="275" idx="0"/>
            </p:cNvCxnSpPr>
            <p:nvPr/>
          </p:nvCxnSpPr>
          <p:spPr>
            <a:xfrm>
              <a:off x="2793600" y="2498040"/>
              <a:ext cx="1080" cy="827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78" name="Line 12"/>
            <p:cNvSpPr/>
            <p:nvPr/>
          </p:nvSpPr>
          <p:spPr>
            <a:xfrm>
              <a:off x="2444760" y="29210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79" name="群組 22"/>
            <p:cNvGrpSpPr/>
            <p:nvPr/>
          </p:nvGrpSpPr>
          <p:grpSpPr>
            <a:xfrm>
              <a:off x="3114720" y="2143080"/>
              <a:ext cx="5335560" cy="1573200"/>
              <a:chOff x="3114720" y="2143080"/>
              <a:chExt cx="5335560" cy="1573200"/>
            </a:xfrm>
          </p:grpSpPr>
          <p:sp>
            <p:nvSpPr>
              <p:cNvPr id="280" name="AutoShape 2"/>
              <p:cNvSpPr/>
              <p:nvPr/>
            </p:nvSpPr>
            <p:spPr>
              <a:xfrm>
                <a:off x="4603680" y="2159640"/>
                <a:ext cx="2357280" cy="708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參觀社區</a:t>
                </a: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(</a:t>
                </a: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四季春</a:t>
                </a: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)</a:t>
                </a: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廚餘推肥並試作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1" name="AutoShape 3"/>
              <p:cNvSpPr/>
              <p:nvPr/>
            </p:nvSpPr>
            <p:spPr>
              <a:xfrm>
                <a:off x="3114720" y="2143080"/>
                <a:ext cx="1274760" cy="708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三上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環保停看聽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2" name="Line 6"/>
              <p:cNvSpPr/>
              <p:nvPr/>
            </p:nvSpPr>
            <p:spPr>
              <a:xfrm>
                <a:off x="4389480" y="249840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3" name="AutoShape 7"/>
              <p:cNvSpPr/>
              <p:nvPr/>
            </p:nvSpPr>
            <p:spPr>
              <a:xfrm>
                <a:off x="3114720" y="2970000"/>
                <a:ext cx="1531080" cy="710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三下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動動手做環保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4" name="Line 8"/>
              <p:cNvSpPr/>
              <p:nvPr/>
            </p:nvSpPr>
            <p:spPr>
              <a:xfrm>
                <a:off x="4645080" y="336096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5" name="AutoShape 9"/>
              <p:cNvSpPr/>
              <p:nvPr/>
            </p:nvSpPr>
            <p:spPr>
              <a:xfrm>
                <a:off x="4860000" y="3005640"/>
                <a:ext cx="2100960" cy="710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利用推肥及資收器皿來美化校園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6" name="Line 6"/>
              <p:cNvSpPr/>
              <p:nvPr/>
            </p:nvSpPr>
            <p:spPr>
              <a:xfrm>
                <a:off x="6961320" y="249840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7" name="Line 6"/>
              <p:cNvSpPr/>
              <p:nvPr/>
            </p:nvSpPr>
            <p:spPr>
              <a:xfrm>
                <a:off x="6961320" y="334476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8" name="AutoShape 3"/>
              <p:cNvSpPr/>
              <p:nvPr/>
            </p:nvSpPr>
            <p:spPr>
              <a:xfrm>
                <a:off x="7175520" y="2159640"/>
                <a:ext cx="1274760" cy="708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3-2-4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3-2-2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9" name="AutoShape 3"/>
              <p:cNvSpPr/>
              <p:nvPr/>
            </p:nvSpPr>
            <p:spPr>
              <a:xfrm>
                <a:off x="7175520" y="3005640"/>
                <a:ext cx="821520" cy="708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3-2-3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4-2-4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5" descr="illust15"/>
          <p:cNvPicPr/>
          <p:nvPr/>
        </p:nvPicPr>
        <p:blipFill>
          <a:blip r:embed="rId1"/>
          <a:stretch/>
        </p:blipFill>
        <p:spPr>
          <a:xfrm>
            <a:off x="0" y="4941720"/>
            <a:ext cx="1782720" cy="1916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4" descr="illust15"/>
          <p:cNvPicPr/>
          <p:nvPr/>
        </p:nvPicPr>
        <p:blipFill>
          <a:blip r:embed="rId2"/>
          <a:stretch/>
        </p:blipFill>
        <p:spPr>
          <a:xfrm>
            <a:off x="7286760" y="4357800"/>
            <a:ext cx="1565280" cy="1722240"/>
          </a:xfrm>
          <a:prstGeom prst="rect">
            <a:avLst/>
          </a:prstGeom>
          <a:ln w="0">
            <a:noFill/>
          </a:ln>
        </p:spPr>
      </p:pic>
      <p:sp>
        <p:nvSpPr>
          <p:cNvPr id="292" name="標題 1"/>
          <p:cNvSpPr/>
          <p:nvPr/>
        </p:nvSpPr>
        <p:spPr>
          <a:xfrm>
            <a:off x="431640" y="341280"/>
            <a:ext cx="828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  <a:ea typeface="標楷體"/>
              </a:rPr>
              <a:t>東信樂園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Verdana"/>
                <a:ea typeface="標楷體"/>
              </a:rPr>
              <a:t>學校本位橫向主題統整架構圖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AutoShape 3"/>
          <p:cNvSpPr/>
          <p:nvPr/>
        </p:nvSpPr>
        <p:spPr>
          <a:xfrm>
            <a:off x="1282680" y="1700280"/>
            <a:ext cx="6572160" cy="4732200"/>
          </a:xfrm>
          <a:prstGeom prst="hexagon">
            <a:avLst>
              <a:gd name="adj" fmla="val 34720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4092480" y="1728720"/>
            <a:ext cx="91116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7030a0"/>
                </a:solidFill>
                <a:latin typeface="Calibri"/>
                <a:ea typeface="標楷體"/>
              </a:rPr>
              <a:t>快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7030a0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" name="Oval 4"/>
          <p:cNvSpPr/>
          <p:nvPr/>
        </p:nvSpPr>
        <p:spPr>
          <a:xfrm>
            <a:off x="2809800" y="2706840"/>
            <a:ext cx="3365640" cy="288756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" name="Line 5"/>
          <p:cNvSpPr/>
          <p:nvPr/>
        </p:nvSpPr>
        <p:spPr>
          <a:xfrm>
            <a:off x="2886120" y="1697040"/>
            <a:ext cx="3341520" cy="473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Line 6"/>
          <p:cNvSpPr/>
          <p:nvPr/>
        </p:nvSpPr>
        <p:spPr>
          <a:xfrm flipV="1">
            <a:off x="2860560" y="1696680"/>
            <a:ext cx="3279960" cy="473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Line 7"/>
          <p:cNvSpPr/>
          <p:nvPr/>
        </p:nvSpPr>
        <p:spPr>
          <a:xfrm>
            <a:off x="1258920" y="4076640"/>
            <a:ext cx="657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Oval 8"/>
          <p:cNvSpPr/>
          <p:nvPr/>
        </p:nvSpPr>
        <p:spPr>
          <a:xfrm>
            <a:off x="3664080" y="3398760"/>
            <a:ext cx="1761840" cy="144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4035600" y="3618000"/>
            <a:ext cx="1481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Calibri"/>
                <a:ea typeface="標楷體"/>
              </a:rPr>
              <a:t>東信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Calibri"/>
                <a:ea typeface="標楷體"/>
              </a:rPr>
              <a:t>樂園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Text Box 10"/>
          <p:cNvSpPr/>
          <p:nvPr/>
        </p:nvSpPr>
        <p:spPr>
          <a:xfrm>
            <a:off x="4143240" y="2676600"/>
            <a:ext cx="7765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70c0"/>
                </a:solidFill>
                <a:latin typeface="Calibri"/>
                <a:ea typeface="標楷體"/>
              </a:rPr>
              <a:t>一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Text Box 11"/>
          <p:cNvSpPr/>
          <p:nvPr/>
        </p:nvSpPr>
        <p:spPr>
          <a:xfrm>
            <a:off x="5265720" y="3110040"/>
            <a:ext cx="73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70c0"/>
                </a:solidFill>
                <a:latin typeface="Calibri"/>
                <a:ea typeface="標楷體"/>
              </a:rPr>
              <a:t>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" name="Text Box 12"/>
          <p:cNvSpPr/>
          <p:nvPr/>
        </p:nvSpPr>
        <p:spPr>
          <a:xfrm>
            <a:off x="5403960" y="4119480"/>
            <a:ext cx="8730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Calibri"/>
                <a:ea typeface="標楷體"/>
              </a:rPr>
              <a:t>三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" name="Text Box 13"/>
          <p:cNvSpPr/>
          <p:nvPr/>
        </p:nvSpPr>
        <p:spPr>
          <a:xfrm>
            <a:off x="4064040" y="4842000"/>
            <a:ext cx="10350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Calibri"/>
                <a:ea typeface="標楷體"/>
              </a:rPr>
              <a:t>四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Text Box 14"/>
          <p:cNvSpPr/>
          <p:nvPr/>
        </p:nvSpPr>
        <p:spPr>
          <a:xfrm>
            <a:off x="3021120" y="4119480"/>
            <a:ext cx="8143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Calibri"/>
                <a:ea typeface="標楷體"/>
              </a:rPr>
              <a:t>五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Text Box 15"/>
          <p:cNvSpPr/>
          <p:nvPr/>
        </p:nvSpPr>
        <p:spPr>
          <a:xfrm>
            <a:off x="3105000" y="3162240"/>
            <a:ext cx="8146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Calibri"/>
                <a:ea typeface="標楷體"/>
              </a:rPr>
              <a:t>六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Text Box 17"/>
          <p:cNvSpPr/>
          <p:nvPr/>
        </p:nvSpPr>
        <p:spPr>
          <a:xfrm>
            <a:off x="5907240" y="2532240"/>
            <a:ext cx="12348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7030a0"/>
                </a:solidFill>
                <a:latin typeface="Calibri"/>
                <a:ea typeface="標楷體"/>
              </a:rPr>
              <a:t>話</a:t>
            </a:r>
            <a:r>
              <a:rPr b="1" lang="zh-TW" sz="2800" spc="-1" strike="noStrike">
                <a:solidFill>
                  <a:srgbClr val="7030a0"/>
                </a:solidFill>
                <a:latin typeface="Arial Black"/>
                <a:ea typeface="標楷體"/>
              </a:rPr>
              <a:t>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7030a0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6165720" y="4378320"/>
            <a:ext cx="13273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Calibri"/>
                <a:ea typeface="標楷體"/>
              </a:rPr>
              <a:t>探索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Text Box 19"/>
          <p:cNvSpPr/>
          <p:nvPr/>
        </p:nvSpPr>
        <p:spPr>
          <a:xfrm>
            <a:off x="3970440" y="5504040"/>
            <a:ext cx="13460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動感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Text Box 20"/>
          <p:cNvSpPr/>
          <p:nvPr/>
        </p:nvSpPr>
        <p:spPr>
          <a:xfrm>
            <a:off x="2165400" y="2521080"/>
            <a:ext cx="11332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深情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Text Box 21"/>
          <p:cNvSpPr/>
          <p:nvPr/>
        </p:nvSpPr>
        <p:spPr>
          <a:xfrm>
            <a:off x="2028960" y="4408560"/>
            <a:ext cx="132084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ff"/>
                </a:solidFill>
                <a:latin typeface="Calibri"/>
                <a:ea typeface="標楷體"/>
              </a:rPr>
              <a:t>彩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ff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2" name="Picture 24" descr="illust15"/>
          <p:cNvPicPr/>
          <p:nvPr/>
        </p:nvPicPr>
        <p:blipFill>
          <a:blip r:embed="rId3">
            <a:lum bright="34000"/>
          </a:blip>
          <a:stretch/>
        </p:blipFill>
        <p:spPr>
          <a:xfrm>
            <a:off x="642960" y="214200"/>
            <a:ext cx="963720" cy="16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5"/>
          <p:cNvSpPr/>
          <p:nvPr/>
        </p:nvSpPr>
        <p:spPr>
          <a:xfrm>
            <a:off x="468360" y="260280"/>
            <a:ext cx="819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三年級上學期學校本位課程主題統整架構圖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AutoShape 54"/>
          <p:cNvSpPr/>
          <p:nvPr/>
        </p:nvSpPr>
        <p:spPr>
          <a:xfrm>
            <a:off x="3132000" y="2590920"/>
            <a:ext cx="2583000" cy="163836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探索東信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AutoShape 53"/>
          <p:cNvSpPr/>
          <p:nvPr/>
        </p:nvSpPr>
        <p:spPr>
          <a:xfrm>
            <a:off x="3657600" y="1762200"/>
            <a:ext cx="1600200" cy="5713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二、海洋的禮物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AutoShape 52"/>
          <p:cNvSpPr/>
          <p:nvPr/>
        </p:nvSpPr>
        <p:spPr>
          <a:xfrm>
            <a:off x="1836720" y="4200480"/>
            <a:ext cx="1600200" cy="5716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一、小小園丁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AutoShape 51"/>
          <p:cNvSpPr/>
          <p:nvPr/>
        </p:nvSpPr>
        <p:spPr>
          <a:xfrm>
            <a:off x="5051520" y="4111560"/>
            <a:ext cx="1600200" cy="5716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三、男女翹翹板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AutoShape 50"/>
          <p:cNvSpPr/>
          <p:nvPr/>
        </p:nvSpPr>
        <p:spPr>
          <a:xfrm>
            <a:off x="6399360" y="771480"/>
            <a:ext cx="2565360" cy="1562040"/>
          </a:xfrm>
          <a:prstGeom prst="wedgeRectCallout">
            <a:avLst>
              <a:gd name="adj1" fmla="val -90106"/>
              <a:gd name="adj2" fmla="val 29509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活動內容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.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奇幻世界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.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小水滴遊記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融入領域：健體、藝術與人文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重要議題：海洋教育、國防教育、生涯發展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9" name="AutoShape 49"/>
          <p:cNvSpPr/>
          <p:nvPr/>
        </p:nvSpPr>
        <p:spPr>
          <a:xfrm>
            <a:off x="684360" y="844560"/>
            <a:ext cx="2280960" cy="1603440"/>
          </a:xfrm>
          <a:prstGeom prst="wedgeRectCallout">
            <a:avLst>
              <a:gd name="adj1" fmla="val 79101"/>
              <a:gd name="adj2" fmla="val 2662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活動內容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.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超級變變變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.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打造魚兒的家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融入領域：語文、閱讀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重要議題：海洋教育、環境教育、生涯發展、家政教育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AutoShape 48"/>
          <p:cNvSpPr/>
          <p:nvPr/>
        </p:nvSpPr>
        <p:spPr>
          <a:xfrm>
            <a:off x="187200" y="4978440"/>
            <a:ext cx="1671840" cy="1574640"/>
          </a:xfrm>
          <a:prstGeom prst="wedgeRectCallout">
            <a:avLst>
              <a:gd name="adj1" fmla="val 44583"/>
              <a:gd name="adj2" fmla="val -7097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活動內容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◎ 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大自然奇遇記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融入領域：藝術與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     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人文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重要議題：生命教育、家政教育、環境教育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1" name="AutoShape 47"/>
          <p:cNvSpPr/>
          <p:nvPr/>
        </p:nvSpPr>
        <p:spPr>
          <a:xfrm>
            <a:off x="2193840" y="5141880"/>
            <a:ext cx="1730520" cy="1411200"/>
          </a:xfrm>
          <a:prstGeom prst="wedgeRectCallout">
            <a:avLst>
              <a:gd name="adj1" fmla="val 4949"/>
              <a:gd name="adj2" fmla="val -7043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活動內容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◎ 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生命的脈動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融入領域：數學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重要議題：健康促進、生命教育、生涯發展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" name="AutoShape 46"/>
          <p:cNvSpPr/>
          <p:nvPr/>
        </p:nvSpPr>
        <p:spPr>
          <a:xfrm>
            <a:off x="187200" y="2562120"/>
            <a:ext cx="2006640" cy="1447920"/>
          </a:xfrm>
          <a:prstGeom prst="wedgeRectCallout">
            <a:avLst>
              <a:gd name="adj1" fmla="val 64347"/>
              <a:gd name="adj2" fmla="val 5684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活動內容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.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植物身體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.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植物圖鑑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融入領域：自然、資訊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重要議題：生命教育、防災教育、環境教育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AutoShape 45"/>
          <p:cNvSpPr/>
          <p:nvPr/>
        </p:nvSpPr>
        <p:spPr>
          <a:xfrm>
            <a:off x="6824520" y="2505240"/>
            <a:ext cx="1714680" cy="1562040"/>
          </a:xfrm>
          <a:prstGeom prst="wedgeRectCallout">
            <a:avLst>
              <a:gd name="adj1" fmla="val -56555"/>
              <a:gd name="adj2" fmla="val 6853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活動內容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.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同學你我他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.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當我們同在一起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融入領域：社會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重要議題：性別平等、人權教育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" name="AutoShape 44"/>
          <p:cNvSpPr/>
          <p:nvPr/>
        </p:nvSpPr>
        <p:spPr>
          <a:xfrm>
            <a:off x="4932360" y="5157720"/>
            <a:ext cx="1467000" cy="1395360"/>
          </a:xfrm>
          <a:prstGeom prst="wedgeRectCallout">
            <a:avLst>
              <a:gd name="adj1" fmla="val -12513"/>
              <a:gd name="adj2" fmla="val -8212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活動內容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◎ 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身體新視野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融入領域：健體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重要議題：性別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平等、家庭教育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AutoShape 43"/>
          <p:cNvSpPr/>
          <p:nvPr/>
        </p:nvSpPr>
        <p:spPr>
          <a:xfrm>
            <a:off x="6873840" y="5113440"/>
            <a:ext cx="1784520" cy="1439640"/>
          </a:xfrm>
          <a:prstGeom prst="wedgeRectCallout">
            <a:avLst>
              <a:gd name="adj1" fmla="val -60152"/>
              <a:gd name="adj2" fmla="val -8095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活動內容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◎ 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禮儀停看聽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融入領域：綜合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重要議題：生涯發展、家政教育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Rectangle 6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5"/>
          <p:cNvSpPr/>
          <p:nvPr/>
        </p:nvSpPr>
        <p:spPr>
          <a:xfrm>
            <a:off x="466560" y="3286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三年級下學期學校本位課程主題統整架構圖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Rectangle 2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330" name="Group 17"/>
          <p:cNvGrpSpPr/>
          <p:nvPr/>
        </p:nvGrpSpPr>
        <p:grpSpPr>
          <a:xfrm>
            <a:off x="511200" y="912960"/>
            <a:ext cx="8291160" cy="5611680"/>
            <a:chOff x="511200" y="912960"/>
            <a:chExt cx="8291160" cy="5611680"/>
          </a:xfrm>
        </p:grpSpPr>
        <p:sp>
          <p:nvSpPr>
            <p:cNvPr id="331" name="AutoShape 28"/>
            <p:cNvSpPr/>
            <p:nvPr/>
          </p:nvSpPr>
          <p:spPr>
            <a:xfrm>
              <a:off x="3164400" y="3034080"/>
              <a:ext cx="2984760" cy="1508400"/>
            </a:xfrm>
            <a:prstGeom prst="sun">
              <a:avLst>
                <a:gd name="adj" fmla="val 25000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探索東信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2" name="AutoShape 27"/>
            <p:cNvSpPr/>
            <p:nvPr/>
          </p:nvSpPr>
          <p:spPr>
            <a:xfrm>
              <a:off x="3495960" y="2531520"/>
              <a:ext cx="2321640" cy="44352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二、咱的好所在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3" name="AutoShape 26"/>
            <p:cNvSpPr/>
            <p:nvPr/>
          </p:nvSpPr>
          <p:spPr>
            <a:xfrm>
              <a:off x="1503360" y="4365000"/>
              <a:ext cx="2321280" cy="44352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一、蟲蟲日記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4" name="AutoShape 25"/>
            <p:cNvSpPr/>
            <p:nvPr/>
          </p:nvSpPr>
          <p:spPr>
            <a:xfrm>
              <a:off x="5320080" y="4365000"/>
              <a:ext cx="2321640" cy="4435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三、童話花園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5" name="AutoShape 24"/>
            <p:cNvSpPr/>
            <p:nvPr/>
          </p:nvSpPr>
          <p:spPr>
            <a:xfrm>
              <a:off x="5652000" y="1052280"/>
              <a:ext cx="1989720" cy="1301400"/>
            </a:xfrm>
            <a:prstGeom prst="wedgeRectCallout">
              <a:avLst>
                <a:gd name="adj1" fmla="val -45814"/>
                <a:gd name="adj2" fmla="val 5818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活動內容：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◎ 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海洋文化祭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融入領域：海洋教育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重要議題：海洋教育、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國防教育、環境教育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6" name="AutoShape 23"/>
            <p:cNvSpPr/>
            <p:nvPr/>
          </p:nvSpPr>
          <p:spPr>
            <a:xfrm>
              <a:off x="676800" y="912960"/>
              <a:ext cx="3147840" cy="1470600"/>
            </a:xfrm>
            <a:prstGeom prst="wedgeRectCallout">
              <a:avLst>
                <a:gd name="adj1" fmla="val 47004"/>
                <a:gd name="adj2" fmla="val 58555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活動內容：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1.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我們居住的地方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2.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地方特色與居民的 特色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融入領域：社會、資訊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重要議題：、性別教育、家庭教育、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海洋教育、資訊教育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7" name="AutoShape 22"/>
            <p:cNvSpPr/>
            <p:nvPr/>
          </p:nvSpPr>
          <p:spPr>
            <a:xfrm>
              <a:off x="511200" y="5163840"/>
              <a:ext cx="1989720" cy="1360800"/>
            </a:xfrm>
            <a:prstGeom prst="wedgeRectCallout">
              <a:avLst>
                <a:gd name="adj1" fmla="val -1712"/>
                <a:gd name="adj2" fmla="val -70976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活動內容：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◎ 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春之嘉年華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融入領域：藝術與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         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人文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重要議題：環境教育、家政教育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8" name="AutoShape 21"/>
            <p:cNvSpPr/>
            <p:nvPr/>
          </p:nvSpPr>
          <p:spPr>
            <a:xfrm>
              <a:off x="2666880" y="5163840"/>
              <a:ext cx="1824120" cy="1360800"/>
            </a:xfrm>
            <a:prstGeom prst="wedgeRectCallout">
              <a:avLst>
                <a:gd name="adj1" fmla="val 4949"/>
                <a:gd name="adj2" fmla="val -70435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活動內容：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◎ 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美麗新家園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融入領域：綜合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重要議題：生涯發展、資訊教育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9" name="AutoShape 20"/>
            <p:cNvSpPr/>
            <p:nvPr/>
          </p:nvSpPr>
          <p:spPr>
            <a:xfrm>
              <a:off x="511200" y="2753280"/>
              <a:ext cx="1989720" cy="1375560"/>
            </a:xfrm>
            <a:prstGeom prst="wedgeRectCallout">
              <a:avLst>
                <a:gd name="adj1" fmla="val 52398"/>
                <a:gd name="adj2" fmla="val 64462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活動內容：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1.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大家來種菜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2.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動物大會師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融入領域：自然、資訊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重要議題：生命教育、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資訊教育、環境教育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0" name="AutoShape 19"/>
            <p:cNvSpPr/>
            <p:nvPr/>
          </p:nvSpPr>
          <p:spPr>
            <a:xfrm>
              <a:off x="6315120" y="2531520"/>
              <a:ext cx="2487240" cy="1597320"/>
            </a:xfrm>
            <a:prstGeom prst="wedgeRectCallout">
              <a:avLst>
                <a:gd name="adj1" fmla="val -48638"/>
                <a:gd name="adj2" fmla="val 61708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活動內容：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1.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春回大地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2.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改編高手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3.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走進童話世界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融入領域：語文、閱讀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重要議題：人權教育、資訊教育、生涯發展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1" name="AutoShape 18"/>
            <p:cNvSpPr/>
            <p:nvPr/>
          </p:nvSpPr>
          <p:spPr>
            <a:xfrm>
              <a:off x="6149160" y="5163840"/>
              <a:ext cx="2653200" cy="1360800"/>
            </a:xfrm>
            <a:prstGeom prst="wedgeRectCallout">
              <a:avLst>
                <a:gd name="adj1" fmla="val -10657"/>
                <a:gd name="adj2" fmla="val -71523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活動內容：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◎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花之圓舞曲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融入領域：語文、藝術與人文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重要議題：人權教育、資訊教育、家政教育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342" name="Rectangle 41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4"/>
          <p:cNvSpPr/>
          <p:nvPr/>
        </p:nvSpPr>
        <p:spPr>
          <a:xfrm>
            <a:off x="1428840" y="21420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三年級上學期彈性學習節數一覽表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468360" y="907920"/>
          <a:ext cx="7704000" cy="5348520"/>
        </p:xfrm>
        <a:graphic>
          <a:graphicData uri="http://schemas.openxmlformats.org/drawingml/2006/table">
            <a:tbl>
              <a:tblPr/>
              <a:tblGrid>
                <a:gridCol w="1120680"/>
                <a:gridCol w="1471680"/>
                <a:gridCol w="981000"/>
                <a:gridCol w="3151080"/>
                <a:gridCol w="979560"/>
              </a:tblGrid>
              <a:tr h="305280">
                <a:tc gridSpan="2">
                  <a:txBody>
                    <a:bodyPr lIns="7200" rIns="7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項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目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內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容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數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rowSpan="3">
                  <a:txBody>
                    <a:bodyPr lIns="7200" rIns="72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學校及學年活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教務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教室佈置、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作業成果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融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入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綜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合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學生事務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交通安全宣導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(1)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、健康中心檢查、歲末聯歡活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輔導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家庭教育、性侵害防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332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班級輔導活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班級常規建立、班級輔導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76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臨時活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新細明體"/>
                          <a:ea typeface="標楷體"/>
                        </a:rPr>
                        <a:t>臨時交辦或配合活動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、視情況處理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3320">
                <a:tc gridSpan="2" row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學校本位課程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探索東信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靜態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閱讀，動態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跳繩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)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數學補救教學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進行數學補救教學或加深加廣學習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92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英語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活美語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資訊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資訊課程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120">
                <a:tc gridSpan="3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上學期彈性學習總節數：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79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彈性學習節數每週節數：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7:06:58Z</dcterms:created>
  <dc:creator>USER</dc:creator>
  <dc:description/>
  <dc:language>en-US</dc:language>
  <cp:lastModifiedBy>haha</cp:lastModifiedBy>
  <dcterms:modified xsi:type="dcterms:W3CDTF">2015-07-31T01:34:42Z</dcterms:modified>
  <cp:revision>126</cp:revision>
  <dc:subject/>
  <dc:title>投影片 1</dc:title>
</cp:coreProperties>
</file>