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黑体"/>
              </a:rPr>
              <a:t>Click to move the slide</a:t>
            </a: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919D-0402-4E04-ABDF-3F218D74156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5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F532-1E03-4FC7-901E-9D7F3E0A253B}" type="slidenum">
              <a:rPr b="0" lang="zh-TW" sz="12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49A9-B6C2-485A-B530-479219268BDD}" type="slidenum">
              <a:rPr b="0" lang="zh-TW" sz="12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2948-B485-4C5D-B371-0FA594FCA457}" type="slidenum">
              <a:rPr b="0" lang="zh-TW" sz="12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888C-7FB9-4FC8-BC68-035173470162}" type="slidenum">
              <a:rPr b="0" lang="zh-TW" sz="12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0412-33D9-4282-B292-4C97180046E2}" type="slidenum">
              <a:rPr b="0" lang="zh-TW" sz="12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7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8507-70A6-4EDE-BD2C-7A1830B97960}" type="slidenum">
              <a:rPr b="0" lang="zh-TW" sz="12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7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18B0-069A-44C3-A528-5CF643EA07D5}" type="slidenum">
              <a:rPr b="0" lang="zh-TW" sz="12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AB88-2E53-4B01-AECA-0D357EC7E148}" type="slidenum">
              <a:rPr b="0" lang="zh-TW" sz="12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9B8C-EA9C-452D-AA3C-C5881465F3C2}" type="slidenum">
              <a:rPr b="0" lang="zh-TW" sz="12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E7FA-E6AC-4F24-A256-D247BA12BAB9}" type="slidenum">
              <a:rPr b="0" lang="zh-TW" sz="12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68360" y="1052640"/>
            <a:ext cx="8207280" cy="5040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2600">
              <a:spcBef>
                <a:spcPts val="400"/>
              </a:spcBef>
              <a:buClr>
                <a:srgbClr val="1c1c1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1" marL="820800" indent="-792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2" marL="1257480" indent="-343080"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1612800" indent="-241200">
              <a:spcBef>
                <a:spcPts val="400"/>
              </a:spcBef>
              <a:buClr>
                <a:srgbClr val="1c1c1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1968480" indent="-139680">
              <a:spcBef>
                <a:spcPts val="400"/>
              </a:spcBef>
              <a:buClr>
                <a:srgbClr val="1c1c1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1968480" indent="-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1968480" indent="-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43" name="Picture 14" descr="png-0056"/>
          <p:cNvPicPr/>
          <p:nvPr/>
        </p:nvPicPr>
        <p:blipFill>
          <a:blip r:embed="rId2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png-0002"/>
          <p:cNvPicPr/>
          <p:nvPr/>
        </p:nvPicPr>
        <p:blipFill>
          <a:blip r:embed="rId3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6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46" name="Picture 17" descr="soft7"/>
            <p:cNvPicPr/>
            <p:nvPr/>
          </p:nvPicPr>
          <p:blipFill>
            <a:blip r:embed="rId4"/>
            <a:srcRect l="0" t="0" r="0" b="19886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8" descr="soft7"/>
            <p:cNvPicPr/>
            <p:nvPr/>
          </p:nvPicPr>
          <p:blipFill>
            <a:blip r:embed="rId5"/>
            <a:srcRect l="0" t="0" r="0" b="1991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24"/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" name="Rectangle 25"/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" name="Rectangle 26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6699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666699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" name="Text Box 32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  <a:ea typeface="华文细黑"/>
              </a:rPr>
              <a:t>…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57" name="Group 35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58" name="Picture 12" descr="cc"/>
            <p:cNvPicPr/>
            <p:nvPr/>
          </p:nvPicPr>
          <p:blipFill>
            <a:blip r:embed="rId6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logo"/>
            <p:cNvPicPr/>
            <p:nvPr/>
          </p:nvPicPr>
          <p:blipFill>
            <a:blip r:embed="rId7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Line 34"/>
            <p:cNvSpPr/>
            <p:nvPr/>
          </p:nvSpPr>
          <p:spPr>
            <a:xfrm>
              <a:off x="335016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2600">
              <a:spcBef>
                <a:spcPts val="400"/>
              </a:spcBef>
              <a:buClr>
                <a:srgbClr val="1c1c1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1" marL="820800" indent="-792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2" marL="1257480" indent="-343080"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1612800" indent="-241200">
              <a:spcBef>
                <a:spcPts val="400"/>
              </a:spcBef>
              <a:buClr>
                <a:srgbClr val="1c1c1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1968480" indent="-139680">
              <a:spcBef>
                <a:spcPts val="400"/>
              </a:spcBef>
              <a:buClr>
                <a:srgbClr val="1c1c1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1968480" indent="-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1968480" indent="-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68360" y="1052640"/>
            <a:ext cx="8207280" cy="5040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68360" y="1052640"/>
            <a:ext cx="8207280" cy="5040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9"/>
          <p:cNvSpPr/>
          <p:nvPr/>
        </p:nvSpPr>
        <p:spPr>
          <a:xfrm>
            <a:off x="971640" y="2349360"/>
            <a:ext cx="7273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66"/>
                </a:solidFill>
                <a:latin typeface="標楷體"/>
                <a:ea typeface="標楷體"/>
              </a:rPr>
              <a:t>東信國小</a:t>
            </a:r>
            <a:r>
              <a:rPr b="1" lang="en-US" sz="4800" spc="-1" strike="noStrike">
                <a:solidFill>
                  <a:srgbClr val="003366"/>
                </a:solidFill>
                <a:latin typeface="標楷體"/>
                <a:ea typeface="標楷體"/>
              </a:rPr>
              <a:t>103</a:t>
            </a:r>
            <a:r>
              <a:rPr b="1" lang="zh-TW" sz="4800" spc="-1" strike="noStrike">
                <a:solidFill>
                  <a:srgbClr val="003366"/>
                </a:solidFill>
                <a:latin typeface="標楷體"/>
                <a:ea typeface="標楷體"/>
              </a:rPr>
              <a:t>學年度四年級</a:t>
            </a:r>
            <a:endParaRPr b="0" lang="en-US" sz="4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1476360" y="3213000"/>
            <a:ext cx="63388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660066"/>
                </a:solidFill>
                <a:latin typeface="Arial"/>
                <a:ea typeface="標楷體"/>
              </a:rPr>
              <a:t>課程計畫簡報</a:t>
            </a:r>
            <a:endParaRPr b="0" lang="en-US" sz="5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cc3300"/>
                </a:solidFill>
                <a:latin typeface="標楷體"/>
                <a:ea typeface="標楷體"/>
              </a:rPr>
              <a:t> </a:t>
            </a:r>
            <a:r>
              <a:rPr b="1" lang="zh-TW" sz="4800" spc="-1" strike="noStrike">
                <a:solidFill>
                  <a:srgbClr val="cc3300"/>
                </a:solidFill>
                <a:latin typeface="標楷體"/>
                <a:ea typeface="標楷體"/>
              </a:rPr>
              <a:t>『東信閱讀通』設計課程計畫</a:t>
            </a:r>
            <a:endParaRPr b="0" lang="en-US" sz="48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826920" y="1268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壹、課程設計與實施：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666699"/>
                </a:solidFill>
                <a:latin typeface="標楷體"/>
                <a:ea typeface="標楷體"/>
              </a:rPr>
              <a:t>四年級老師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5" name="矩形 11"/>
          <p:cNvSpPr/>
          <p:nvPr/>
        </p:nvSpPr>
        <p:spPr>
          <a:xfrm>
            <a:off x="826920" y="2276640"/>
            <a:ext cx="74170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貳、設計理念：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本學年學校本位閱讀課程之設計，是以融入</a:t>
            </a:r>
            <a:r>
              <a:rPr b="0" lang="zh-TW" sz="2400" spc="-1" strike="noStrike">
                <a:solidFill>
                  <a:srgbClr val="cc0099"/>
                </a:solidFill>
                <a:latin typeface="標楷體"/>
                <a:ea typeface="標楷體"/>
              </a:rPr>
              <a:t>九年一貫課程七大相關領域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，並與</a:t>
            </a:r>
            <a:r>
              <a:rPr b="0" lang="zh-TW" sz="2400" spc="-1" strike="noStrike">
                <a:solidFill>
                  <a:srgbClr val="cc0099"/>
                </a:solidFill>
                <a:latin typeface="標楷體"/>
                <a:ea typeface="標楷體"/>
              </a:rPr>
              <a:t>多元智慧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cc0099"/>
                </a:solidFill>
                <a:latin typeface="標楷體"/>
                <a:ea typeface="標楷體"/>
              </a:rPr>
              <a:t>重大議題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及</a:t>
            </a:r>
            <a:r>
              <a:rPr b="0" lang="zh-TW" sz="2400" spc="-1" strike="noStrike">
                <a:solidFill>
                  <a:srgbClr val="cc0099"/>
                </a:solidFill>
                <a:latin typeface="標楷體"/>
                <a:ea typeface="標楷體"/>
              </a:rPr>
              <a:t>十大基本能力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相結合，同時適當融入</a:t>
            </a:r>
            <a:r>
              <a:rPr b="0" lang="zh-TW" sz="2400" spc="-1" strike="noStrike">
                <a:solidFill>
                  <a:srgbClr val="cc0099"/>
                </a:solidFill>
                <a:latin typeface="標楷體"/>
                <a:ea typeface="標楷體"/>
              </a:rPr>
              <a:t>海洋教育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，以期勉本學年之學生，再接受完此閱讀課程之後，不但能增進語文閱讀方面之能力，更能藉由主題統整學習之方式，了解其他相關領域之知識與能力。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3399"/>
                </a:solidFill>
                <a:latin typeface="標楷體"/>
                <a:ea typeface="標楷體"/>
              </a:rPr>
              <a:t>『東信閱讀通』</a:t>
            </a:r>
            <a:br>
              <a:rPr sz="4000"/>
            </a:br>
            <a:r>
              <a:rPr b="1" lang="zh-TW" sz="4000" spc="-1" strike="noStrike">
                <a:solidFill>
                  <a:srgbClr val="cc3399"/>
                </a:solidFill>
                <a:latin typeface="標楷體"/>
                <a:ea typeface="標楷體"/>
              </a:rPr>
              <a:t>學習活動說明與規劃</a:t>
            </a:r>
            <a:endParaRPr b="0" lang="en-US" sz="4000" spc="-1" strike="noStrike">
              <a:solidFill>
                <a:srgbClr val="1c1c1c"/>
              </a:solidFill>
              <a:latin typeface="黑体"/>
            </a:endParaRPr>
          </a:p>
        </p:txBody>
      </p:sp>
      <p:grpSp>
        <p:nvGrpSpPr>
          <p:cNvPr id="307" name="Organization Chart 3"/>
          <p:cNvGrpSpPr/>
          <p:nvPr/>
        </p:nvGrpSpPr>
        <p:grpSpPr>
          <a:xfrm>
            <a:off x="539640" y="1628640"/>
            <a:ext cx="8228880" cy="4928400"/>
            <a:chOff x="539640" y="1628640"/>
            <a:chExt cx="8228880" cy="4928400"/>
          </a:xfrm>
        </p:grpSpPr>
        <p:cxnSp>
          <p:nvCxnSpPr>
            <p:cNvPr id="308" name="_s58388"/>
            <p:cNvCxnSpPr>
              <a:stCxn id="309" idx="0"/>
              <a:endCxn id="310" idx="2"/>
            </p:cNvCxnSpPr>
            <p:nvPr/>
          </p:nvCxnSpPr>
          <p:spPr>
            <a:xfrm flipV="1">
              <a:off x="7854480" y="4708440"/>
              <a:ext cx="2880" cy="6166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311" name="_s58389"/>
            <p:cNvCxnSpPr>
              <a:stCxn id="312" idx="0"/>
              <a:endCxn id="313" idx="2"/>
            </p:cNvCxnSpPr>
            <p:nvPr/>
          </p:nvCxnSpPr>
          <p:spPr>
            <a:xfrm flipV="1">
              <a:off x="5721120" y="4708440"/>
              <a:ext cx="2880" cy="6166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314" name="_s58390"/>
            <p:cNvCxnSpPr>
              <a:stCxn id="315" idx="0"/>
              <a:endCxn id="316" idx="2"/>
            </p:cNvCxnSpPr>
            <p:nvPr/>
          </p:nvCxnSpPr>
          <p:spPr>
            <a:xfrm flipV="1">
              <a:off x="3589560" y="4708440"/>
              <a:ext cx="2520" cy="6166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317" name="_s58391"/>
            <p:cNvCxnSpPr>
              <a:stCxn id="318" idx="0"/>
              <a:endCxn id="319" idx="2"/>
            </p:cNvCxnSpPr>
            <p:nvPr/>
          </p:nvCxnSpPr>
          <p:spPr>
            <a:xfrm flipV="1">
              <a:off x="1453680" y="4708440"/>
              <a:ext cx="2880" cy="6166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320" name="_s58392"/>
            <p:cNvCxnSpPr>
              <a:stCxn id="310" idx="0"/>
              <a:endCxn id="321" idx="2"/>
            </p:cNvCxnSpPr>
            <p:nvPr/>
          </p:nvCxnSpPr>
          <p:spPr>
            <a:xfrm flipV="1" rot="16200000">
              <a:off x="5945760" y="1567800"/>
              <a:ext cx="616680" cy="3200760"/>
            </a:xfrm>
            <a:prstGeom prst="bentConnector3">
              <a:avLst>
                <a:gd name="adj1" fmla="val 22605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322" name="_s58393"/>
            <p:cNvCxnSpPr>
              <a:stCxn id="313" idx="0"/>
              <a:endCxn id="321" idx="2"/>
            </p:cNvCxnSpPr>
            <p:nvPr/>
          </p:nvCxnSpPr>
          <p:spPr>
            <a:xfrm flipV="1" rot="16200000">
              <a:off x="4879080" y="2634480"/>
              <a:ext cx="616680" cy="1067040"/>
            </a:xfrm>
            <a:prstGeom prst="bentConnector3">
              <a:avLst>
                <a:gd name="adj1" fmla="val 22605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323" name="_s58394"/>
            <p:cNvCxnSpPr>
              <a:stCxn id="316" idx="0"/>
              <a:endCxn id="321" idx="2"/>
            </p:cNvCxnSpPr>
            <p:nvPr/>
          </p:nvCxnSpPr>
          <p:spPr>
            <a:xfrm flipH="1" flipV="1" rot="5400000">
              <a:off x="3813840" y="2635560"/>
              <a:ext cx="616680" cy="1065240"/>
            </a:xfrm>
            <a:prstGeom prst="bentConnector3">
              <a:avLst>
                <a:gd name="adj1" fmla="val 22605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324" name="_s58395"/>
            <p:cNvCxnSpPr>
              <a:stCxn id="319" idx="0"/>
              <a:endCxn id="321" idx="2"/>
            </p:cNvCxnSpPr>
            <p:nvPr/>
          </p:nvCxnSpPr>
          <p:spPr>
            <a:xfrm flipH="1" flipV="1" rot="5400000">
              <a:off x="2745720" y="1567800"/>
              <a:ext cx="616680" cy="3201120"/>
            </a:xfrm>
            <a:prstGeom prst="bentConnector3">
              <a:avLst>
                <a:gd name="adj1" fmla="val 22605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321" name="_s58396"/>
            <p:cNvSpPr/>
            <p:nvPr/>
          </p:nvSpPr>
          <p:spPr>
            <a:xfrm>
              <a:off x="3740040" y="1628640"/>
              <a:ext cx="1828440" cy="1231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6699"/>
                  </a:solidFill>
                  <a:latin typeface="Times New Roman"/>
                  <a:ea typeface="標楷體"/>
                </a:rPr>
                <a:t>東信閱讀通</a:t>
              </a:r>
              <a:r>
                <a:rPr b="0" lang="zh-TW" sz="1500" spc="-1" strike="noStrike">
                  <a:solidFill>
                    <a:srgbClr val="666699"/>
                  </a:solidFill>
                  <a:latin typeface="Times New Roman"/>
                  <a:ea typeface="新細明體"/>
                </a:rPr>
                <a:t> </a:t>
              </a:r>
              <a:endParaRPr b="0" lang="en-US" sz="15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19" name="_s58397"/>
            <p:cNvSpPr/>
            <p:nvPr/>
          </p:nvSpPr>
          <p:spPr>
            <a:xfrm>
              <a:off x="539640" y="3476880"/>
              <a:ext cx="1828440" cy="1231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爸爸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fun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暑假</a:t>
              </a:r>
              <a:r>
                <a:rPr b="0" lang="zh-TW" sz="2800" spc="-1" strike="noStrike">
                  <a:solidFill>
                    <a:srgbClr val="666699"/>
                  </a:solidFill>
                  <a:latin typeface="標楷體"/>
                  <a:ea typeface="標楷體"/>
                </a:rPr>
                <a:t> 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16" name="_s58398"/>
            <p:cNvSpPr/>
            <p:nvPr/>
          </p:nvSpPr>
          <p:spPr>
            <a:xfrm>
              <a:off x="2673000" y="3476880"/>
              <a:ext cx="1828440" cy="1231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草莓心事</a:t>
              </a:r>
              <a:r>
                <a:rPr b="0" lang="zh-TW" sz="1500" spc="-1" strike="noStrike">
                  <a:solidFill>
                    <a:srgbClr val="666699"/>
                  </a:solidFill>
                  <a:latin typeface="Times New Roman"/>
                  <a:ea typeface="標楷體"/>
                </a:rPr>
                <a:t> </a:t>
              </a:r>
              <a:endParaRPr b="0" lang="en-US" sz="15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13" name="_s58399"/>
            <p:cNvSpPr/>
            <p:nvPr/>
          </p:nvSpPr>
          <p:spPr>
            <a:xfrm>
              <a:off x="4806720" y="3476880"/>
              <a:ext cx="1828440" cy="12319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好一個吵架天</a:t>
              </a:r>
              <a:r>
                <a:rPr b="0" lang="zh-TW" sz="1500" spc="-1" strike="noStrike">
                  <a:solidFill>
                    <a:srgbClr val="666699"/>
                  </a:solidFill>
                  <a:latin typeface="Times New Roman"/>
                  <a:ea typeface="標楷體"/>
                </a:rPr>
                <a:t> </a:t>
              </a:r>
              <a:endParaRPr b="0" lang="en-US" sz="15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10" name="_s58400"/>
            <p:cNvSpPr/>
            <p:nvPr/>
          </p:nvSpPr>
          <p:spPr>
            <a:xfrm>
              <a:off x="6940080" y="3476880"/>
              <a:ext cx="1828440" cy="1231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愛心樹</a:t>
              </a:r>
              <a:r>
                <a:rPr b="0" lang="zh-TW" sz="2800" spc="-1" strike="noStrike">
                  <a:solidFill>
                    <a:srgbClr val="666699"/>
                  </a:solidFill>
                  <a:latin typeface="Times New Roman"/>
                  <a:ea typeface="標楷體"/>
                </a:rPr>
                <a:t> 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18" name="_s58401"/>
            <p:cNvSpPr/>
            <p:nvPr/>
          </p:nvSpPr>
          <p:spPr>
            <a:xfrm>
              <a:off x="539640" y="5325120"/>
              <a:ext cx="1828440" cy="1231920"/>
            </a:xfrm>
            <a:prstGeom prst="roundRect">
              <a:avLst>
                <a:gd name="adj" fmla="val 16667"/>
              </a:avLst>
            </a:prstGeom>
            <a:solidFill>
              <a:srgbClr val="49cacd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3366"/>
                  </a:solidFill>
                  <a:latin typeface="標楷體"/>
                  <a:ea typeface="標楷體"/>
                </a:rPr>
                <a:t>生 命 教 育</a:t>
              </a:r>
              <a:r>
                <a:rPr b="0" lang="zh-TW" sz="2400" spc="-1" strike="noStrike">
                  <a:solidFill>
                    <a:srgbClr val="666699"/>
                  </a:solidFill>
                  <a:latin typeface="標楷體"/>
                  <a:ea typeface="標楷體"/>
                </a:rPr>
                <a:t> 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15" name="_s58402"/>
            <p:cNvSpPr/>
            <p:nvPr/>
          </p:nvSpPr>
          <p:spPr>
            <a:xfrm>
              <a:off x="2673000" y="5325120"/>
              <a:ext cx="1828440" cy="1231920"/>
            </a:xfrm>
            <a:prstGeom prst="roundRect">
              <a:avLst>
                <a:gd name="adj" fmla="val 16667"/>
              </a:avLst>
            </a:prstGeom>
            <a:solidFill>
              <a:srgbClr val="49cacd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3366"/>
                  </a:solidFill>
                  <a:latin typeface="標楷體"/>
                  <a:ea typeface="標楷體"/>
                </a:rPr>
                <a:t>性 別 教 育</a:t>
              </a:r>
              <a:r>
                <a:rPr b="0" lang="zh-TW" sz="1500" spc="-1" strike="noStrike">
                  <a:solidFill>
                    <a:srgbClr val="003366"/>
                  </a:solidFill>
                  <a:latin typeface="Times New Roman"/>
                  <a:ea typeface="標楷體"/>
                </a:rPr>
                <a:t> </a:t>
              </a:r>
              <a:endParaRPr b="0" lang="en-US" sz="15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12" name="_s58403"/>
            <p:cNvSpPr/>
            <p:nvPr/>
          </p:nvSpPr>
          <p:spPr>
            <a:xfrm>
              <a:off x="4806720" y="5325120"/>
              <a:ext cx="1828440" cy="1231920"/>
            </a:xfrm>
            <a:prstGeom prst="roundRect">
              <a:avLst>
                <a:gd name="adj" fmla="val 16667"/>
              </a:avLst>
            </a:prstGeom>
            <a:solidFill>
              <a:srgbClr val="49cacd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3366"/>
                  </a:solidFill>
                  <a:latin typeface="Times New Roman"/>
                  <a:ea typeface="標楷體"/>
                </a:rPr>
                <a:t>情 緒 教 育</a:t>
              </a:r>
              <a:r>
                <a:rPr b="0" lang="zh-TW" sz="1500" spc="-1" strike="noStrike">
                  <a:solidFill>
                    <a:srgbClr val="666699"/>
                  </a:solidFill>
                  <a:latin typeface="Times New Roman"/>
                  <a:ea typeface="新細明體"/>
                </a:rPr>
                <a:t> </a:t>
              </a:r>
              <a:endParaRPr b="0" lang="en-US" sz="15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09" name="_s58404"/>
            <p:cNvSpPr/>
            <p:nvPr/>
          </p:nvSpPr>
          <p:spPr>
            <a:xfrm>
              <a:off x="6940080" y="5325120"/>
              <a:ext cx="1828440" cy="1231920"/>
            </a:xfrm>
            <a:prstGeom prst="roundRect">
              <a:avLst>
                <a:gd name="adj" fmla="val 16667"/>
              </a:avLst>
            </a:prstGeom>
            <a:solidFill>
              <a:srgbClr val="49cacd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3366"/>
                  </a:solidFill>
                  <a:latin typeface="標楷體"/>
                  <a:ea typeface="標楷體"/>
                </a:rPr>
                <a:t>自我認同教育</a:t>
              </a:r>
              <a:r>
                <a:rPr b="0" lang="zh-TW" sz="1500" spc="-1" strike="noStrike">
                  <a:solidFill>
                    <a:srgbClr val="666699"/>
                  </a:solidFill>
                  <a:latin typeface="Times New Roman"/>
                  <a:ea typeface="標楷體"/>
                </a:rPr>
                <a:t> </a:t>
              </a:r>
              <a:endParaRPr b="0" lang="en-US" sz="15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生命教育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24000" y="1197000"/>
          <a:ext cx="8424720" cy="5073120"/>
        </p:xfrm>
        <a:graphic>
          <a:graphicData uri="http://schemas.openxmlformats.org/drawingml/2006/table">
            <a:tbl>
              <a:tblPr/>
              <a:tblGrid>
                <a:gridCol w="482760"/>
                <a:gridCol w="485640"/>
                <a:gridCol w="808200"/>
                <a:gridCol w="1236600"/>
                <a:gridCol w="2914560"/>
                <a:gridCol w="1338120"/>
                <a:gridCol w="1158840"/>
              </a:tblGrid>
              <a:tr h="132840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74472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生命之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爸爸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fun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暑假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好書報報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閱讀「爸爸</a:t>
                      </a: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fun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暑假」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並撰寫閱讀心得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藉由學習單及報告，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學會安排假期生活，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以增進家人之間情感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製作小卡並心情分享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生命教育）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性別平等）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寫作評量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學習單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3.</a:t>
                      </a: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作品發表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</a:t>
                      </a: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與口頭報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</a:t>
                      </a: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告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生命教育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28" name=""/>
          <p:cNvSpPr/>
          <p:nvPr/>
        </p:nvSpPr>
        <p:spPr>
          <a:xfrm>
            <a:off x="6084720" y="2133720"/>
            <a:ext cx="25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57200" y="1052640"/>
          <a:ext cx="8229240" cy="5073480"/>
        </p:xfrm>
        <a:graphic>
          <a:graphicData uri="http://schemas.openxmlformats.org/drawingml/2006/table">
            <a:tbl>
              <a:tblPr/>
              <a:tblGrid>
                <a:gridCol w="357480"/>
                <a:gridCol w="359280"/>
                <a:gridCol w="597240"/>
                <a:gridCol w="1648800"/>
                <a:gridCol w="1601280"/>
                <a:gridCol w="1727640"/>
                <a:gridCol w="1937520"/>
              </a:tblGrid>
              <a:tr h="131544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895760">
                <a:tc rowSpan="2"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命之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 命 教 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爸爸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fun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暑假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付出你的愛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為家人做一件事，體驗家人的辛勞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綜合活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人權法治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家庭教育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能真正幫忙家人並說明其過程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86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我們都是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一家人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製作相框，放進全家人的照片並與大家分享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藝術與人文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家庭教育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作品發表與欣賞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0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生命教育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57200" y="1052640"/>
          <a:ext cx="8229240" cy="5073120"/>
        </p:xfrm>
        <a:graphic>
          <a:graphicData uri="http://schemas.openxmlformats.org/drawingml/2006/table">
            <a:tbl>
              <a:tblPr/>
              <a:tblGrid>
                <a:gridCol w="478800"/>
                <a:gridCol w="480600"/>
                <a:gridCol w="798840"/>
                <a:gridCol w="1459800"/>
                <a:gridCol w="2533320"/>
                <a:gridCol w="1488960"/>
                <a:gridCol w="988920"/>
              </a:tblGrid>
              <a:tr h="131544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75768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命之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 命 教 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爸爸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fun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暑假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為你點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一盞燈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上網為親友點燈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祈福（</a:t>
                      </a: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標楷體"/>
                          <a:ea typeface="標楷體"/>
                        </a:rPr>
                        <a:t>http://Life.edu.tw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在網站上留言，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祝福親友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資訊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綜合活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生命教育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資訊安全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家庭教育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能實際操作電腦上網並留言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性別教育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1052640"/>
          <a:ext cx="8229600" cy="5073120"/>
        </p:xfrm>
        <a:graphic>
          <a:graphicData uri="http://schemas.openxmlformats.org/drawingml/2006/table">
            <a:tbl>
              <a:tblPr/>
              <a:tblGrid>
                <a:gridCol w="534240"/>
                <a:gridCol w="572400"/>
                <a:gridCol w="628560"/>
                <a:gridCol w="1176120"/>
                <a:gridCol w="2422440"/>
                <a:gridCol w="1856520"/>
                <a:gridCol w="1039320"/>
              </a:tblGrid>
              <a:tr h="1315440"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757680"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他</a:t>
                      </a: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她的心事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性 別 教 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草莓心事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男生女生一樣好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marL="108000">
                        <a:lnSpc>
                          <a:spcPct val="13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班級討論「當男好、當女生好、當男生女生一樣好」，讓學生體認男女生的個別差異，並學習互相尊重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性別平等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性侵害防治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發表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態度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性別教育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1052640"/>
          <a:ext cx="8229600" cy="5087880"/>
        </p:xfrm>
        <a:graphic>
          <a:graphicData uri="http://schemas.openxmlformats.org/drawingml/2006/table">
            <a:tbl>
              <a:tblPr/>
              <a:tblGrid>
                <a:gridCol w="498600"/>
                <a:gridCol w="426960"/>
                <a:gridCol w="466560"/>
                <a:gridCol w="1606680"/>
                <a:gridCol w="2008080"/>
                <a:gridCol w="1852560"/>
                <a:gridCol w="1370160"/>
              </a:tblGrid>
              <a:tr h="1315440"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9240"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他</a:t>
                      </a: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她的心事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性 別 教 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草莓心事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興趣大不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討論數項休閒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活動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統計各項活動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男女人數各有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多少人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從統計圖中，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發現休閒運動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並不限於單一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性別才能參與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數學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性侵害防治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資訊安全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發表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長條圖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繪製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0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守護小天使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暗中協助關心同學，進而養成主動關懷他人的習慣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活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情緒管理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參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與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情緒教育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052640"/>
          <a:ext cx="8229600" cy="5073480"/>
        </p:xfrm>
        <a:graphic>
          <a:graphicData uri="http://schemas.openxmlformats.org/drawingml/2006/table">
            <a:tbl>
              <a:tblPr/>
              <a:tblGrid>
                <a:gridCol w="473040"/>
                <a:gridCol w="473040"/>
                <a:gridCol w="787320"/>
                <a:gridCol w="1435320"/>
                <a:gridCol w="2408040"/>
                <a:gridCol w="1562400"/>
                <a:gridCol w="1090440"/>
              </a:tblGrid>
              <a:tr h="117540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議題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領域或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評量方式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3748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情緒你我他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情緒教育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好一個吵架天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大家為什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麼生氣？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由教師帶頭導讀繪本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，大致說明整本書的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容，接著讓學生自行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閱讀繪本，並且將內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容中各個人物生氣的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原因，分別寫在自己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的小卡片上。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教師透過問題與討論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 的方式，讓學生了解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 書中人物相處方式的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 不佳。接著讓學生分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 別發表自己生活經驗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 中，與書中人物生氣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 吵架相類似的例子，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 以讓學生了解，情緒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 控制在我們日常生活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 中的重要。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  </a:t>
                      </a: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情緒管理）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  </a:t>
                      </a: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性別平等）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性侵害防治）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讀書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卡片    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發表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評量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589840" y="9360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情緒教育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30200" y="1243080"/>
          <a:ext cx="8067600" cy="4554360"/>
        </p:xfrm>
        <a:graphic>
          <a:graphicData uri="http://schemas.openxmlformats.org/drawingml/2006/table">
            <a:tbl>
              <a:tblPr/>
              <a:tblGrid>
                <a:gridCol w="426960"/>
                <a:gridCol w="425520"/>
                <a:gridCol w="709560"/>
                <a:gridCol w="1220760"/>
                <a:gridCol w="2335320"/>
                <a:gridCol w="1776240"/>
                <a:gridCol w="1173240"/>
              </a:tblGrid>
              <a:tr h="131544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23892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情緒你我他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情緒教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好一個吵架天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情緒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的滋味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角色扮演─讓學生分組且每人輪流扮演書中各個角色的方式，分別演出各組自己「好一個吵架天」的短劇。透過扮演每一個角色，讓學生明白被別人發脾氣的難受進而了解控制自己情緒的重要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藝術與人文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健康與體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情緒管理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性別平等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家庭教育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性侵害防治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參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與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表演技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巧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589840" y="16524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情緒教育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24000" y="907920"/>
          <a:ext cx="8358120" cy="5635800"/>
        </p:xfrm>
        <a:graphic>
          <a:graphicData uri="http://schemas.openxmlformats.org/drawingml/2006/table">
            <a:tbl>
              <a:tblPr/>
              <a:tblGrid>
                <a:gridCol w="479160"/>
                <a:gridCol w="482760"/>
                <a:gridCol w="799920"/>
                <a:gridCol w="1266840"/>
                <a:gridCol w="2872080"/>
                <a:gridCol w="1528560"/>
                <a:gridCol w="928800"/>
              </a:tblGrid>
              <a:tr h="131544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32036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情緒你我他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情緒教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好一個吵架天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結束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吵架天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教師利用《好一個吵架天》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書中─「每個人生氣原因」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的讀書卡片，讓學生分別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寫下如何讓此生氣原因消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失的行為辦法，並且請學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分別發表，讓大家知道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如何結束吵架天的情況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教師透過問題與討論的方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式，請孩子說說合理的情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緒發洩管道，並說明如何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向別人道歉的方法。並且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請學生發表如何定出團體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的制度，以避免任何人成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為別人情緒發洩的對象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社會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人權教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健康與體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壓力調適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性別平等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家庭教育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寫作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發表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參與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2000" y="2492280"/>
            <a:ext cx="6480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ff"/>
                </a:solidFill>
                <a:latin typeface="黑体"/>
                <a:ea typeface="標楷體"/>
              </a:rPr>
              <a:t>壹、學校本位課程</a:t>
            </a:r>
            <a:br>
              <a:rPr sz="5400"/>
            </a:br>
            <a:endParaRPr b="0" lang="en-US" sz="5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03280" y="2852640"/>
            <a:ext cx="603432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467ce8"/>
                </a:solidFill>
                <a:latin typeface="標楷體"/>
                <a:ea typeface="標楷體"/>
              </a:rPr>
              <a:t>貳、彈性時間規劃</a:t>
            </a:r>
            <a:r>
              <a:rPr b="0" lang="en-US" sz="1200" spc="-1" strike="noStrike">
                <a:solidFill>
                  <a:srgbClr val="1c1c1c"/>
                </a:solidFill>
                <a:latin typeface="標楷體"/>
                <a:ea typeface="標楷體"/>
              </a:rPr>
              <a:t> 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自我認同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795240" y="1585800"/>
          <a:ext cx="7547040" cy="4443480"/>
        </p:xfrm>
        <a:graphic>
          <a:graphicData uri="http://schemas.openxmlformats.org/drawingml/2006/table">
            <a:tbl>
              <a:tblPr/>
              <a:tblGrid>
                <a:gridCol w="519120"/>
                <a:gridCol w="471600"/>
                <a:gridCol w="685800"/>
                <a:gridCol w="1243080"/>
                <a:gridCol w="2154240"/>
                <a:gridCol w="1433520"/>
                <a:gridCol w="1039680"/>
              </a:tblGrid>
              <a:tr h="131544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12804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我就是我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自我認同教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標楷體"/>
                        </a:rPr>
                        <a:t>愛心樹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繪本導讀─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《愛心樹》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從書名與封面設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計想到什麼？想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要從書上獲得什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麼？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瞭解書的內容大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要與風格</a:t>
                      </a: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建立讀 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本書的概念</a:t>
                      </a: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黑体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黑体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藝術與人文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家庭教育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生命教育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環境教育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發表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  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活動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  參與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  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17928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自我認同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14360" y="1370160"/>
          <a:ext cx="8215200" cy="4906800"/>
        </p:xfrm>
        <a:graphic>
          <a:graphicData uri="http://schemas.openxmlformats.org/drawingml/2006/table">
            <a:tbl>
              <a:tblPr/>
              <a:tblGrid>
                <a:gridCol w="701640"/>
                <a:gridCol w="612720"/>
                <a:gridCol w="581040"/>
                <a:gridCol w="1093680"/>
                <a:gridCol w="2781360"/>
                <a:gridCol w="1609920"/>
                <a:gridCol w="834840"/>
              </a:tblGrid>
              <a:tr h="131544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59136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我就是我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自我認同教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愛心樹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故事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接龍 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先讓孩子閱讀書中的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第一段落章節，或老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師先講故事的開頭，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請孩子們根據書的封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面設計、書名與自我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的想像，接龍出故事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的結局。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再讓學生把故事看完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並將書中的故事與他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們編的故事加以比較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黑体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黑体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藝術與人 文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黑体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家庭教育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生命教育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環境教育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發表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活動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參與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自我認同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14520" y="1014480"/>
          <a:ext cx="7827840" cy="5543640"/>
        </p:xfrm>
        <a:graphic>
          <a:graphicData uri="http://schemas.openxmlformats.org/drawingml/2006/table">
            <a:tbl>
              <a:tblPr/>
              <a:tblGrid>
                <a:gridCol w="411120"/>
                <a:gridCol w="444240"/>
                <a:gridCol w="536760"/>
                <a:gridCol w="1193760"/>
                <a:gridCol w="3054240"/>
                <a:gridCol w="1403640"/>
                <a:gridCol w="784080"/>
              </a:tblGrid>
              <a:tr h="131544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2820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我就是我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自我認同教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愛心樹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大進擊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樹是上天賜給人類珍貴的禮物，它帶給人類的益處還真不少呢！樹與人類的生活是如此息息相關。在書中，愛心樹扮演的是「施」的角色，男孩扮演的是「受」的角色。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你在日常生活中，比較像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愛心樹還是男孩？為什麼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你喜歡這樣的自己嗎？如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果不喜歡，你想要怎麼改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變？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如果你是書中的愛心樹或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男孩，你是否有其他更好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的做法呢？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黑体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黑体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生命教育）（環境教育）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發表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黑体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活動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參與</a:t>
                      </a:r>
                      <a:br>
                        <a:rPr sz="1800"/>
                      </a:b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Times New Roman"/>
                          <a:ea typeface="標楷體"/>
                        </a:rPr>
                        <a:t>    評量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5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學校本位特色課程</a:t>
            </a:r>
            <a:r>
              <a:rPr b="1" lang="en-US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-</a:t>
            </a:r>
            <a:br>
              <a:rPr sz="3600"/>
            </a:br>
            <a:r>
              <a:rPr b="1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『繩采飛揚』設計課程計畫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9" name="內容版面配置區 2"/>
          <p:cNvSpPr/>
          <p:nvPr/>
        </p:nvSpPr>
        <p:spPr>
          <a:xfrm>
            <a:off x="539640" y="1341360"/>
            <a:ext cx="82915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壹、課程設計與實施：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四年級老師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b050"/>
                </a:solidFill>
                <a:latin typeface="標楷體"/>
                <a:ea typeface="標楷體"/>
              </a:rPr>
              <a:t>貳、設計理念：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666699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東信向來以扯鈴、跳繩的民俗體育名聞全市。當然，東信的孩子更應「人手一繩，快樂無窮」才是。況且，跳繩更是不花大錢、不限場地、不限人數就能盡其在我的娛樂。它不僅能健身又能藉多變的花樣而獲得成就感，如此快哉！何樂而不為？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參、學習目標：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99"/>
                </a:solidFill>
                <a:latin typeface="標楷體"/>
                <a:ea typeface="標楷體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1.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能透過跳繩運動，有效改善體適能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認知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。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2.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能利用課餘時間主動參與跳繩等運動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認知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。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3.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會運用繩子做單人的跳繩動作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技能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。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4.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能與同伴合作，和諧的完成動作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情意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。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5.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認真學習並注意自身與他人的安全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情意</a:t>
            </a:r>
            <a:r>
              <a:rPr b="0" lang="en-US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3366"/>
                </a:solidFill>
                <a:latin typeface="標楷體"/>
                <a:ea typeface="標楷體"/>
              </a:rPr>
              <a:t>。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TW" sz="4800" spc="-1" strike="noStrike">
                <a:solidFill>
                  <a:srgbClr val="000066"/>
                </a:solidFill>
                <a:latin typeface="Arial"/>
                <a:ea typeface="標楷體"/>
              </a:rPr>
              <a:t>『繩采飛揚』設計架構圖</a:t>
            </a:r>
            <a:br>
              <a:rPr sz="2400"/>
            </a:br>
            <a:endParaRPr b="0" lang="en-US" sz="4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395280" y="1341360"/>
            <a:ext cx="3701880" cy="23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新細明體"/>
              </a:rPr>
              <a:t>     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遊戲名稱：搖搖擺擺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四上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跳躍者站在繩內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持繩者將繩子左右擺盪，跳躍者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原地跳</a:t>
            </a: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下，並加上跨腳停繩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3 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三人互相輪流實施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能力指標：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3-1</a:t>
            </a: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3-3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5148360" y="1341360"/>
            <a:ext cx="3622680" cy="23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       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遊戲名稱：跳跳唱唱 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四上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持繩者將繩子左右擺盪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跳躍者能隨節奏進入繩內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跳躍者能隨節奏跳躍，並加上跨</a:t>
            </a:r>
            <a:br>
              <a:rPr sz="1800"/>
            </a:b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腳停繩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三人互相輪流實施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能力指標：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4--1-2</a:t>
            </a: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4-1-4</a:t>
            </a: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4-2-1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395280" y="4005360"/>
            <a:ext cx="366228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      </a:t>
            </a:r>
            <a:r>
              <a:rPr b="0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遊戲名稱：繩氣十足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四下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持繩者將繩子左右擺盪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跳躍者能隨節奏進入繩內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持繩者將繩子搖起，跳躍者能隨</a:t>
            </a:r>
            <a:br>
              <a:rPr sz="1800"/>
            </a:b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節奏跳躍，並於節奏完畢出繩外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三人互相輪流實施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能力指標：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6-1</a:t>
            </a: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6-2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4" name="Rectangle 20"/>
          <p:cNvSpPr/>
          <p:nvPr/>
        </p:nvSpPr>
        <p:spPr>
          <a:xfrm>
            <a:off x="5148360" y="4005360"/>
            <a:ext cx="3624120" cy="26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       </a:t>
            </a:r>
            <a:r>
              <a:rPr b="0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遊戲名稱：時光隧道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四下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持繩者將繩子搖起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跳躍者能隨節奏進入繩內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跳躍者能隨節奏跳躍，並於節奏</a:t>
            </a:r>
            <a:br>
              <a:rPr sz="1800"/>
            </a:b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完畢出繩外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467ce8"/>
                </a:solidFill>
                <a:latin typeface="標楷體"/>
                <a:ea typeface="標楷體"/>
              </a:rPr>
              <a:t>三人互相輪流實施。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能力指標：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4-3-5</a:t>
            </a: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5-1-5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5" name="Oval 16"/>
          <p:cNvSpPr/>
          <p:nvPr/>
        </p:nvSpPr>
        <p:spPr>
          <a:xfrm>
            <a:off x="3780000" y="3284640"/>
            <a:ext cx="16556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666699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666699"/>
                </a:solidFill>
                <a:latin typeface="標楷體"/>
                <a:ea typeface="標楷體"/>
              </a:rPr>
              <a:t>繩采</a:t>
            </a:r>
            <a:br>
              <a:rPr sz="2400"/>
            </a:br>
            <a:r>
              <a:rPr b="1" lang="en-US" sz="2400" spc="-1" strike="noStrike">
                <a:solidFill>
                  <a:srgbClr val="666699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666699"/>
                </a:solidFill>
                <a:latin typeface="標楷體"/>
                <a:ea typeface="標楷體"/>
              </a:rPr>
              <a:t>飛揚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0" y="2421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66"/>
                </a:solidFill>
                <a:latin typeface="Arial"/>
                <a:ea typeface="標楷體"/>
              </a:rPr>
              <a:t>感謝</a:t>
            </a:r>
            <a:r>
              <a:rPr b="0" lang="zh-TW" sz="5400" spc="-1" strike="noStrike">
                <a:solidFill>
                  <a:srgbClr val="000066"/>
                </a:solidFill>
                <a:latin typeface="Arial"/>
                <a:ea typeface="標楷體"/>
              </a:rPr>
              <a:t>您的聆聽</a:t>
            </a:r>
            <a:endParaRPr b="0" lang="en-US" sz="5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壹、學校本位課程</a:t>
            </a:r>
            <a:endParaRPr b="0" lang="en-US" sz="4000" spc="-1" strike="noStrike">
              <a:solidFill>
                <a:srgbClr val="1c1c1c"/>
              </a:solidFill>
              <a:latin typeface="黑体"/>
            </a:endParaRPr>
          </a:p>
        </p:txBody>
      </p:sp>
      <p:grpSp>
        <p:nvGrpSpPr>
          <p:cNvPr id="225" name="Group 2"/>
          <p:cNvGrpSpPr/>
          <p:nvPr/>
        </p:nvGrpSpPr>
        <p:grpSpPr>
          <a:xfrm>
            <a:off x="900000" y="1557360"/>
            <a:ext cx="6985080" cy="5132520"/>
            <a:chOff x="900000" y="1557360"/>
            <a:chExt cx="6985080" cy="5132520"/>
          </a:xfrm>
        </p:grpSpPr>
        <p:sp>
          <p:nvSpPr>
            <p:cNvPr id="226" name="AutoShape 3"/>
            <p:cNvSpPr/>
            <p:nvPr/>
          </p:nvSpPr>
          <p:spPr>
            <a:xfrm>
              <a:off x="900000" y="1572120"/>
              <a:ext cx="6970680" cy="5117760"/>
            </a:xfrm>
            <a:prstGeom prst="hexagon">
              <a:avLst>
                <a:gd name="adj" fmla="val 34051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27" name="Oval 4"/>
            <p:cNvSpPr/>
            <p:nvPr/>
          </p:nvSpPr>
          <p:spPr>
            <a:xfrm>
              <a:off x="2544480" y="2648880"/>
              <a:ext cx="3570120" cy="31222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2625840" y="1557360"/>
              <a:ext cx="3544200" cy="511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29" name="Line 6"/>
            <p:cNvSpPr/>
            <p:nvPr/>
          </p:nvSpPr>
          <p:spPr>
            <a:xfrm flipV="1">
              <a:off x="2599200" y="1557360"/>
              <a:ext cx="3477960" cy="511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>
              <a:off x="914400" y="4113720"/>
              <a:ext cx="697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1" name="Oval 8"/>
            <p:cNvSpPr/>
            <p:nvPr/>
          </p:nvSpPr>
          <p:spPr>
            <a:xfrm>
              <a:off x="3450240" y="3396960"/>
              <a:ext cx="1869480" cy="156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2" name="Text Box 9"/>
            <p:cNvSpPr/>
            <p:nvPr/>
          </p:nvSpPr>
          <p:spPr>
            <a:xfrm>
              <a:off x="3844800" y="3634560"/>
              <a:ext cx="1571040" cy="10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8000"/>
                  </a:solidFill>
                  <a:latin typeface="Calibri"/>
                  <a:ea typeface="新細明體"/>
                </a:rPr>
                <a:t>東信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8000"/>
                  </a:solidFill>
                  <a:latin typeface="Calibri"/>
                  <a:ea typeface="新細明體"/>
                </a:rPr>
                <a:t>樂園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3" name="Text Box 10"/>
            <p:cNvSpPr/>
            <p:nvPr/>
          </p:nvSpPr>
          <p:spPr>
            <a:xfrm>
              <a:off x="3959640" y="2615760"/>
              <a:ext cx="82332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666699"/>
                  </a:solidFill>
                  <a:latin typeface="Calibri"/>
                  <a:ea typeface="新細明體"/>
                </a:rPr>
                <a:t>一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149800" y="3084480"/>
              <a:ext cx="783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666699"/>
                  </a:solidFill>
                  <a:latin typeface="Calibri"/>
                  <a:ea typeface="新細明體"/>
                </a:rPr>
                <a:t>二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5" name="Text Box 12"/>
            <p:cNvSpPr/>
            <p:nvPr/>
          </p:nvSpPr>
          <p:spPr>
            <a:xfrm>
              <a:off x="5295960" y="4176720"/>
              <a:ext cx="92520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666699"/>
                  </a:solidFill>
                  <a:latin typeface="Calibri"/>
                  <a:ea typeface="新細明體"/>
                </a:rPr>
                <a:t>三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3876120" y="4957920"/>
              <a:ext cx="109656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00"/>
                  </a:solidFill>
                  <a:latin typeface="Calibri"/>
                  <a:ea typeface="新細明體"/>
                </a:rPr>
                <a:t>四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2769840" y="4176720"/>
              <a:ext cx="86292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666699"/>
                  </a:solidFill>
                  <a:latin typeface="Academy Engraved LET"/>
                  <a:ea typeface="新細明體"/>
                </a:rPr>
                <a:t>五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8" name="Text Box 15"/>
            <p:cNvSpPr/>
            <p:nvPr/>
          </p:nvSpPr>
          <p:spPr>
            <a:xfrm>
              <a:off x="2858400" y="3142080"/>
              <a:ext cx="862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666699"/>
                  </a:solidFill>
                  <a:latin typeface="Academy Engraved LET"/>
                  <a:ea typeface="新細明體"/>
                </a:rPr>
                <a:t>六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9" name="Text Box 16"/>
            <p:cNvSpPr/>
            <p:nvPr/>
          </p:nvSpPr>
          <p:spPr>
            <a:xfrm>
              <a:off x="4001760" y="1647360"/>
              <a:ext cx="142488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6699"/>
                  </a:solidFill>
                  <a:latin typeface="Calibri"/>
                  <a:ea typeface="新細明體"/>
                </a:rPr>
                <a:t>快樂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6699"/>
                  </a:solidFill>
                  <a:latin typeface="Calibri"/>
                  <a:ea typeface="新細明體"/>
                </a:rPr>
                <a:t>東信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0" name="Text Box 17"/>
            <p:cNvSpPr/>
            <p:nvPr/>
          </p:nvSpPr>
          <p:spPr>
            <a:xfrm>
              <a:off x="5830920" y="2460600"/>
              <a:ext cx="1253520" cy="11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6699"/>
                  </a:solidFill>
                  <a:latin typeface="Calibri"/>
                  <a:ea typeface="新細明體"/>
                </a:rPr>
                <a:t>話說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6699"/>
                  </a:solidFill>
                  <a:latin typeface="Calibri"/>
                  <a:ea typeface="新細明體"/>
                </a:rPr>
                <a:t>東信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1" name="Text Box 18"/>
            <p:cNvSpPr/>
            <p:nvPr/>
          </p:nvSpPr>
          <p:spPr>
            <a:xfrm>
              <a:off x="6103800" y="4456800"/>
              <a:ext cx="1347120" cy="11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6699"/>
                  </a:solidFill>
                  <a:latin typeface="Calibri"/>
                  <a:ea typeface="新細明體"/>
                </a:rPr>
                <a:t>探索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6699"/>
                  </a:solidFill>
                  <a:latin typeface="Calibri"/>
                  <a:ea typeface="新細明體"/>
                </a:rPr>
                <a:t>東信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2" name="Text Box 19"/>
            <p:cNvSpPr/>
            <p:nvPr/>
          </p:nvSpPr>
          <p:spPr>
            <a:xfrm>
              <a:off x="3752640" y="5721480"/>
              <a:ext cx="13662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0000"/>
                  </a:solidFill>
                  <a:latin typeface="Calibri"/>
                  <a:ea typeface="新細明體"/>
                </a:rPr>
                <a:t>動感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0000"/>
                  </a:solidFill>
                  <a:latin typeface="Calibri"/>
                  <a:ea typeface="新細明體"/>
                </a:rPr>
                <a:t>東信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3" name="Text Box 20"/>
            <p:cNvSpPr/>
            <p:nvPr/>
          </p:nvSpPr>
          <p:spPr>
            <a:xfrm>
              <a:off x="1917360" y="2466360"/>
              <a:ext cx="115056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6699"/>
                  </a:solidFill>
                  <a:latin typeface="Calibri"/>
                  <a:ea typeface="新細明體"/>
                </a:rPr>
                <a:t>深情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6699"/>
                  </a:solidFill>
                  <a:latin typeface="Calibri"/>
                  <a:ea typeface="新細明體"/>
                </a:rPr>
                <a:t>東信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4" name="Text Box 21"/>
            <p:cNvSpPr/>
            <p:nvPr/>
          </p:nvSpPr>
          <p:spPr>
            <a:xfrm>
              <a:off x="1716120" y="4488840"/>
              <a:ext cx="1341000" cy="11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6699"/>
                  </a:solidFill>
                  <a:latin typeface="Calibri"/>
                  <a:ea typeface="新細明體"/>
                </a:rPr>
                <a:t>彩繪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6699"/>
                  </a:solidFill>
                  <a:latin typeface="Calibri"/>
                  <a:ea typeface="新細明體"/>
                </a:rPr>
                <a:t>東信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205440" y="9079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7030a0"/>
                </a:solidFill>
                <a:latin typeface="Arial"/>
                <a:ea typeface="新細明體"/>
              </a:rPr>
              <a:t>東信樂園橫向主題統整架構圖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99"/>
                </a:solidFill>
                <a:latin typeface="黑体"/>
                <a:ea typeface="標楷體"/>
              </a:rPr>
              <a:t>四上「東信樂園</a:t>
            </a:r>
            <a:r>
              <a:rPr b="0" lang="en-US" sz="3200" spc="-1" strike="noStrike">
                <a:solidFill>
                  <a:srgbClr val="666699"/>
                </a:solidFill>
                <a:latin typeface="黑体"/>
                <a:ea typeface="標楷體"/>
              </a:rPr>
              <a:t>〜</a:t>
            </a:r>
            <a:r>
              <a:rPr b="1" lang="zh-TW" sz="3200" spc="-1" strike="noStrike">
                <a:solidFill>
                  <a:srgbClr val="666699"/>
                </a:solidFill>
                <a:latin typeface="黑体"/>
                <a:ea typeface="標楷體"/>
              </a:rPr>
              <a:t>動感東信」主題統整架構圖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003640" y="4221000"/>
            <a:ext cx="33847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248" name="群組 15"/>
          <p:cNvGrpSpPr/>
          <p:nvPr/>
        </p:nvGrpSpPr>
        <p:grpSpPr>
          <a:xfrm>
            <a:off x="179280" y="1125360"/>
            <a:ext cx="8731440" cy="5419800"/>
            <a:chOff x="179280" y="1125360"/>
            <a:chExt cx="8731440" cy="5419800"/>
          </a:xfrm>
        </p:grpSpPr>
        <p:sp>
          <p:nvSpPr>
            <p:cNvPr id="249" name="AutoShape 4"/>
            <p:cNvSpPr/>
            <p:nvPr/>
          </p:nvSpPr>
          <p:spPr>
            <a:xfrm>
              <a:off x="3350520" y="2686320"/>
              <a:ext cx="2057760" cy="201924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動感東信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0" name="AutoShape 5"/>
            <p:cNvSpPr/>
            <p:nvPr/>
          </p:nvSpPr>
          <p:spPr>
            <a:xfrm>
              <a:off x="3493080" y="1967400"/>
              <a:ext cx="1803960" cy="7135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3366"/>
                  </a:solidFill>
                  <a:latin typeface="標楷體"/>
                  <a:ea typeface="新細明體"/>
                </a:rPr>
                <a:t>大家一起動一動</a:t>
              </a:r>
              <a:endParaRPr b="0" lang="en-US" sz="17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1" name="AutoShape 6"/>
            <p:cNvSpPr/>
            <p:nvPr/>
          </p:nvSpPr>
          <p:spPr>
            <a:xfrm>
              <a:off x="1835280" y="4149360"/>
              <a:ext cx="1730520" cy="593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   </a:t>
              </a:r>
              <a:r>
                <a:rPr b="0" lang="zh-TW" sz="1800" spc="-1" strike="noStrike">
                  <a:solidFill>
                    <a:srgbClr val="003366"/>
                  </a:solidFill>
                  <a:latin typeface="Arial"/>
                  <a:ea typeface="新細明體"/>
                </a:rPr>
                <a:t>環境細觀察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2" name="AutoShape 7"/>
            <p:cNvSpPr/>
            <p:nvPr/>
          </p:nvSpPr>
          <p:spPr>
            <a:xfrm>
              <a:off x="5150880" y="4257000"/>
              <a:ext cx="1600200" cy="593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3366"/>
                  </a:solidFill>
                  <a:latin typeface="Arial"/>
                  <a:ea typeface="新細明體"/>
                </a:rPr>
                <a:t>成長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新細明體"/>
                </a:rPr>
                <a:t>‧</a:t>
              </a:r>
              <a:r>
                <a:rPr b="0" lang="zh-TW" sz="1600" spc="-1" strike="noStrike">
                  <a:solidFill>
                    <a:srgbClr val="003366"/>
                  </a:solidFill>
                  <a:latin typeface="Arial"/>
                  <a:ea typeface="新細明體"/>
                </a:rPr>
                <a:t>乘風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3366"/>
                  </a:solidFill>
                  <a:latin typeface="Arial"/>
                  <a:ea typeface="新細明體"/>
                </a:rPr>
                <a:t>破浪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3" name="AutoShape 8"/>
            <p:cNvSpPr/>
            <p:nvPr/>
          </p:nvSpPr>
          <p:spPr>
            <a:xfrm>
              <a:off x="7196040" y="1848600"/>
              <a:ext cx="1714680" cy="1442520"/>
            </a:xfrm>
            <a:prstGeom prst="wedgeRectCallout">
              <a:avLst>
                <a:gd name="adj1" fmla="val -149814"/>
                <a:gd name="adj2" fmla="val 1692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1.</a:t>
              </a: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與繩共舞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buClr>
                  <a:srgbClr val="000066"/>
                </a:buClr>
                <a:buFont typeface="Times New Roman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.</a:t>
              </a: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橫掃千軍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健體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議題</a:t>
              </a:r>
              <a:r>
                <a:rPr b="0" lang="en-US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健康促進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>
              <a:off x="613080" y="1488240"/>
              <a:ext cx="2627640" cy="1271880"/>
            </a:xfrm>
            <a:prstGeom prst="wedgeRectCallout">
              <a:avLst>
                <a:gd name="adj1" fmla="val 56888"/>
                <a:gd name="adj2" fmla="val 2457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1.</a:t>
              </a: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社區小志工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2.</a:t>
              </a: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校園服務隊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</a:t>
              </a:r>
              <a:r>
                <a:rPr b="0" lang="en-US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﹕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綜合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議題</a:t>
              </a:r>
              <a:r>
                <a:rPr b="0" lang="en-US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人權法治、防災教育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>
              <a:off x="371160" y="4923000"/>
              <a:ext cx="1486440" cy="1293480"/>
            </a:xfrm>
            <a:prstGeom prst="wedgeRectCallout">
              <a:avLst>
                <a:gd name="adj1" fmla="val 45467"/>
                <a:gd name="adj2" fmla="val -8183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山和海的書信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語文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議題</a:t>
              </a:r>
              <a:r>
                <a:rPr b="0" lang="en-US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海洋教育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>
              <a:off x="179280" y="2853360"/>
              <a:ext cx="1760760" cy="1280160"/>
            </a:xfrm>
            <a:prstGeom prst="wedgeRectCallout">
              <a:avLst>
                <a:gd name="adj1" fmla="val 42699"/>
                <a:gd name="adj2" fmla="val 68194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善變的月姑娘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自然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議題</a:t>
              </a:r>
              <a:r>
                <a:rPr b="0" lang="en-US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生命教育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>
              <a:off x="7194600" y="3425400"/>
              <a:ext cx="1714680" cy="1067400"/>
            </a:xfrm>
            <a:prstGeom prst="wedgeRectCallout">
              <a:avLst>
                <a:gd name="adj1" fmla="val -55092"/>
                <a:gd name="adj2" fmla="val 7089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7030a0"/>
                  </a:solidFill>
                  <a:latin typeface="Arial"/>
                  <a:ea typeface="新細明體"/>
                </a:rPr>
                <a:t>活動內容：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7030a0"/>
                  </a:solidFill>
                  <a:latin typeface="新細明體"/>
                  <a:ea typeface="新細明體"/>
                </a:rPr>
                <a:t>歡度聯歡會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綜合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8" name="AutoShape 13"/>
            <p:cNvSpPr/>
            <p:nvPr/>
          </p:nvSpPr>
          <p:spPr>
            <a:xfrm>
              <a:off x="6170400" y="5123160"/>
              <a:ext cx="1714680" cy="1306440"/>
            </a:xfrm>
            <a:prstGeom prst="wedgeRectCallout">
              <a:avLst>
                <a:gd name="adj1" fmla="val -37481"/>
                <a:gd name="adj2" fmla="val -6949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1.</a:t>
              </a: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只要我長大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2.</a:t>
              </a: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模仿海底動物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藝文、海洋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9" name="AutoShape 14"/>
            <p:cNvSpPr/>
            <p:nvPr/>
          </p:nvSpPr>
          <p:spPr>
            <a:xfrm>
              <a:off x="5508000" y="1125360"/>
              <a:ext cx="1584000" cy="1071000"/>
            </a:xfrm>
            <a:prstGeom prst="wedgeRectCallout">
              <a:avLst>
                <a:gd name="adj1" fmla="val -64712"/>
                <a:gd name="adj2" fmla="val 31319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 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理財小高手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數學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議題 </a:t>
              </a:r>
              <a:r>
                <a:rPr b="0" lang="en-US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資訊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0" name="AutoShape 15"/>
            <p:cNvSpPr/>
            <p:nvPr/>
          </p:nvSpPr>
          <p:spPr>
            <a:xfrm>
              <a:off x="1967400" y="5199120"/>
              <a:ext cx="1715400" cy="1346040"/>
            </a:xfrm>
            <a:prstGeom prst="wedgeRectCallout">
              <a:avLst>
                <a:gd name="adj1" fmla="val -31597"/>
                <a:gd name="adj2" fmla="val -8210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小小出版社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新細明體"/>
                  <a:ea typeface="新細明體"/>
                </a:rPr>
                <a:t>〜</a:t>
              </a: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我的奇妙探訪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藝文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議題</a:t>
              </a:r>
              <a:r>
                <a:rPr b="0" lang="en-US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家庭教育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1" name="AutoShape 16"/>
            <p:cNvSpPr/>
            <p:nvPr/>
          </p:nvSpPr>
          <p:spPr>
            <a:xfrm>
              <a:off x="3995280" y="5230440"/>
              <a:ext cx="1730520" cy="1176120"/>
            </a:xfrm>
            <a:prstGeom prst="wedgeRectCallout">
              <a:avLst>
                <a:gd name="adj1" fmla="val -66833"/>
                <a:gd name="adj2" fmla="val -9302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家鄉的名勝古蹟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社會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議題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: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國防教育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627280" y="2565360"/>
            <a:ext cx="4049640" cy="31719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5"/>
          <p:cNvSpPr/>
          <p:nvPr/>
        </p:nvSpPr>
        <p:spPr>
          <a:xfrm>
            <a:off x="0" y="0"/>
            <a:ext cx="93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99"/>
                </a:solidFill>
                <a:latin typeface="標楷體"/>
                <a:ea typeface="標楷體"/>
              </a:rPr>
              <a:t>四下「東信樂園</a:t>
            </a:r>
            <a:r>
              <a:rPr b="0" lang="en-US" sz="3200" spc="-1" strike="noStrike">
                <a:solidFill>
                  <a:srgbClr val="666699"/>
                </a:solidFill>
                <a:latin typeface="標楷體"/>
                <a:ea typeface="標楷體"/>
              </a:rPr>
              <a:t>〜</a:t>
            </a:r>
            <a:r>
              <a:rPr b="1" lang="zh-TW" sz="3200" spc="-1" strike="noStrike">
                <a:solidFill>
                  <a:srgbClr val="666699"/>
                </a:solidFill>
                <a:latin typeface="標楷體"/>
                <a:ea typeface="標楷體"/>
              </a:rPr>
              <a:t>動感東信」主題統整架構圖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264" name="群組 29"/>
          <p:cNvGrpSpPr/>
          <p:nvPr/>
        </p:nvGrpSpPr>
        <p:grpSpPr>
          <a:xfrm>
            <a:off x="611280" y="1268280"/>
            <a:ext cx="8043840" cy="5300640"/>
            <a:chOff x="611280" y="1268280"/>
            <a:chExt cx="8043840" cy="5300640"/>
          </a:xfrm>
        </p:grpSpPr>
        <p:sp>
          <p:nvSpPr>
            <p:cNvPr id="265" name="AutoShape 4"/>
            <p:cNvSpPr/>
            <p:nvPr/>
          </p:nvSpPr>
          <p:spPr>
            <a:xfrm>
              <a:off x="3021480" y="2996280"/>
              <a:ext cx="2643120" cy="245916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動感東信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6" name="AutoShape 5"/>
            <p:cNvSpPr/>
            <p:nvPr/>
          </p:nvSpPr>
          <p:spPr>
            <a:xfrm>
              <a:off x="3269160" y="2399400"/>
              <a:ext cx="1728000" cy="636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3366"/>
                  </a:solidFill>
                  <a:latin typeface="Arial"/>
                  <a:ea typeface="新細明體"/>
                </a:rPr>
                <a:t>唱遊海洋印象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7" name="AutoShape 6"/>
            <p:cNvSpPr/>
            <p:nvPr/>
          </p:nvSpPr>
          <p:spPr>
            <a:xfrm>
              <a:off x="1325160" y="4379400"/>
              <a:ext cx="1728000" cy="457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3366"/>
                  </a:solidFill>
                  <a:latin typeface="Arial"/>
                  <a:ea typeface="新細明體"/>
                </a:rPr>
                <a:t>生活情報家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5525280" y="4379400"/>
              <a:ext cx="1980720" cy="5594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3366"/>
                  </a:solidFill>
                  <a:latin typeface="Arial"/>
                  <a:ea typeface="新細明體"/>
                </a:rPr>
                <a:t>合作學習快樂多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9" name="AutoShape 9"/>
            <p:cNvSpPr/>
            <p:nvPr/>
          </p:nvSpPr>
          <p:spPr>
            <a:xfrm>
              <a:off x="611280" y="1271160"/>
              <a:ext cx="1789560" cy="1200600"/>
            </a:xfrm>
            <a:prstGeom prst="wedgeRectCallout">
              <a:avLst>
                <a:gd name="adj1" fmla="val 94703"/>
                <a:gd name="adj2" fmla="val 48101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 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家鄉風情印象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藝文、海洋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70" name="AutoShape 10"/>
            <p:cNvSpPr/>
            <p:nvPr/>
          </p:nvSpPr>
          <p:spPr>
            <a:xfrm>
              <a:off x="611280" y="5376600"/>
              <a:ext cx="1789560" cy="921240"/>
            </a:xfrm>
            <a:prstGeom prst="wedgeRectCallout">
              <a:avLst>
                <a:gd name="adj1" fmla="val 12356"/>
                <a:gd name="adj2" fmla="val -9937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為民服務的機構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社會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議題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資訊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71" name="AutoShape 11"/>
            <p:cNvSpPr/>
            <p:nvPr/>
          </p:nvSpPr>
          <p:spPr>
            <a:xfrm>
              <a:off x="825480" y="2892600"/>
              <a:ext cx="2271600" cy="1116000"/>
            </a:xfrm>
            <a:prstGeom prst="wedgeRectCallout">
              <a:avLst>
                <a:gd name="adj1" fmla="val -6300"/>
                <a:gd name="adj2" fmla="val 7965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長度和方位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數學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議題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資訊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72" name="AutoShape 12"/>
            <p:cNvSpPr/>
            <p:nvPr/>
          </p:nvSpPr>
          <p:spPr>
            <a:xfrm>
              <a:off x="6804000" y="2852280"/>
              <a:ext cx="1851120" cy="1158840"/>
            </a:xfrm>
            <a:prstGeom prst="wedgeRectCallout">
              <a:avLst>
                <a:gd name="adj1" fmla="val -92500"/>
                <a:gd name="adj2" fmla="val 7649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新細明體"/>
                  <a:ea typeface="新細明體"/>
                </a:rPr>
                <a:t>一起來跳繩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健體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議題</a:t>
              </a:r>
              <a:r>
                <a:rPr b="0" lang="en-US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: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健康促進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73" name="AutoShape 13"/>
            <p:cNvSpPr/>
            <p:nvPr/>
          </p:nvSpPr>
          <p:spPr>
            <a:xfrm>
              <a:off x="6361560" y="5339160"/>
              <a:ext cx="1830600" cy="1142640"/>
            </a:xfrm>
            <a:prstGeom prst="wedgeRectCallout">
              <a:avLst>
                <a:gd name="adj1" fmla="val -45240"/>
                <a:gd name="adj2" fmla="val -79134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一起做專題報告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國語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議題</a:t>
              </a:r>
              <a:r>
                <a:rPr b="0" lang="en-US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: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人權法治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74" name="AutoShape 14"/>
            <p:cNvSpPr/>
            <p:nvPr/>
          </p:nvSpPr>
          <p:spPr>
            <a:xfrm>
              <a:off x="5507640" y="1268280"/>
              <a:ext cx="1604520" cy="1101240"/>
            </a:xfrm>
            <a:prstGeom prst="wedgeRectCallout">
              <a:avLst>
                <a:gd name="adj1" fmla="val -79805"/>
                <a:gd name="adj2" fmla="val 71921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 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水中生物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自然、海洋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75" name="AutoShape 15"/>
            <p:cNvSpPr/>
            <p:nvPr/>
          </p:nvSpPr>
          <p:spPr>
            <a:xfrm>
              <a:off x="3100320" y="5546880"/>
              <a:ext cx="2274120" cy="1022040"/>
            </a:xfrm>
            <a:prstGeom prst="wedgeRectCallout">
              <a:avLst>
                <a:gd name="adj1" fmla="val -60212"/>
                <a:gd name="adj2" fmla="val -11273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活動內容：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天才小記者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  <a:ea typeface="新細明體"/>
                </a:rPr>
                <a:t>綜合、資訊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融入議題</a:t>
              </a:r>
              <a:r>
                <a:rPr b="0" lang="en-US" sz="1400" spc="-1" strike="noStrike">
                  <a:solidFill>
                    <a:srgbClr val="666699"/>
                  </a:solidFill>
                  <a:latin typeface="Arial"/>
                  <a:ea typeface="新細明體"/>
                </a:rPr>
                <a:t>: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人權法治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1c1c1c"/>
                </a:solidFill>
                <a:latin typeface="黑体"/>
                <a:ea typeface="標楷體"/>
              </a:rPr>
              <a:t>「東信樂園」四上主題統整教學活動說明</a:t>
            </a:r>
            <a:endParaRPr b="0" lang="en-US" sz="3600" spc="-1" strike="noStrike">
              <a:solidFill>
                <a:srgbClr val="1c1c1c"/>
              </a:solidFill>
              <a:latin typeface="黑体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826920" y="1197000"/>
          <a:ext cx="7632720" cy="5094360"/>
        </p:xfrm>
        <a:graphic>
          <a:graphicData uri="http://schemas.openxmlformats.org/drawingml/2006/table">
            <a:tbl>
              <a:tblPr/>
              <a:tblGrid>
                <a:gridCol w="1152720"/>
                <a:gridCol w="1297080"/>
                <a:gridCol w="2993760"/>
                <a:gridCol w="669960"/>
                <a:gridCol w="858960"/>
                <a:gridCol w="660240"/>
              </a:tblGrid>
              <a:tr h="80172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主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內容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領域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能力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指標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重要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</a:tr>
              <a:tr h="823680">
                <a:tc rowSpan="5">
                  <a:txBody>
                    <a:bodyPr lIns="42480" rIns="424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大家一起動一動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理財小高手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能製做家庭收支表，並計算每月、每年食衣住行等各項花費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數學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N-2-1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N-2-19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家庭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涯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0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與繩共舞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以不同姿態參與各類的繩子遊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健體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-2-2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-2-3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涯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0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橫掃千軍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利用長繩來玩遊戲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健體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-2-2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-2-3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涯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0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社區小志工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透過社區服務活動，培養積極的服務精神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-2-1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-2-3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環境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6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校園服務隊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透過校園服務活動，建立積極的人生觀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-2-1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-2-3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環境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2060"/>
                </a:solidFill>
                <a:latin typeface="標楷體"/>
                <a:ea typeface="標楷體"/>
              </a:rPr>
              <a:t>「東信樂園」四上主題統整教學活動說明</a:t>
            </a:r>
            <a:endParaRPr b="0" lang="en-US" sz="3600" spc="-1" strike="noStrike">
              <a:solidFill>
                <a:srgbClr val="1c1c1c"/>
              </a:solidFill>
              <a:latin typeface="黑体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68360" y="765000"/>
          <a:ext cx="8229600" cy="5867640"/>
        </p:xfrm>
        <a:graphic>
          <a:graphicData uri="http://schemas.openxmlformats.org/drawingml/2006/table">
            <a:tbl>
              <a:tblPr/>
              <a:tblGrid>
                <a:gridCol w="1022400"/>
                <a:gridCol w="1568520"/>
                <a:gridCol w="3255840"/>
                <a:gridCol w="728640"/>
                <a:gridCol w="936720"/>
                <a:gridCol w="717480"/>
              </a:tblGrid>
              <a:tr h="4870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主題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內容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領域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能力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指標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重要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</a:tr>
              <a:tr h="973800">
                <a:tc rowSpan="4">
                  <a:txBody>
                    <a:bodyPr lIns="42480" rIns="424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環境細觀察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善變的月姑娘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觀察及討論月相的變化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自然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-2-4-2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5-2-1-2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小小出版社）〜我的奇妙探訪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製作古蹟探訪的小書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藝文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-2-2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-2-2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4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山和海的書信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分享欣賞山景和海景的心得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-2-1-1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-1-1-1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-1-1-2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-2-2-2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海洋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家鄉的名勝古蹟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實地參觀訪問、運用網路資源、蒐集學校附近家鄉名勝古蹟等資料，提出維護名勝、古蹟的具體作法。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-2-2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7080">
                <a:tc rowSpan="3">
                  <a:txBody>
                    <a:bodyPr lIns="42480" rIns="424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成長‧乘風破浪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歡度聯歡會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排定節目表並參與活動及欣賞各組的演出。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綜合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-2-2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-2-2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只要我長大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運用肢體與聲音扮演職業的角色。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藝文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-2-1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-2-2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-2-4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-2-7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命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模仿海底動物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模仿海底動物的姿態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藝文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-2-1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-2-2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-2-4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海洋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-360"/>
            <a:ext cx="8640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1c1c1c"/>
                </a:solidFill>
                <a:latin typeface="黑体"/>
                <a:ea typeface="標楷體"/>
              </a:rPr>
              <a:t>「東信樂園」四上主題統整教學活動說明</a:t>
            </a:r>
            <a:endParaRPr b="0" lang="en-US" sz="3600" spc="-1" strike="noStrike">
              <a:solidFill>
                <a:srgbClr val="1c1c1c"/>
              </a:solidFill>
              <a:latin typeface="黑体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8360" y="620640"/>
          <a:ext cx="8229600" cy="5976720"/>
        </p:xfrm>
        <a:graphic>
          <a:graphicData uri="http://schemas.openxmlformats.org/drawingml/2006/table">
            <a:tbl>
              <a:tblPr/>
              <a:tblGrid>
                <a:gridCol w="1155600"/>
                <a:gridCol w="1839960"/>
                <a:gridCol w="2705040"/>
                <a:gridCol w="878040"/>
                <a:gridCol w="1036440"/>
                <a:gridCol w="614520"/>
              </a:tblGrid>
              <a:tr h="7304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主題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活動內容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領域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能力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指標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重要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</a:tr>
              <a:tr h="730440">
                <a:tc rowSpan="2">
                  <a:txBody>
                    <a:bodyPr lIns="47880" rIns="47880" tIns="0" bIns="0" anchor="t" anchorCtr="1" vert="eaVert">
                      <a:noAutofit/>
                    </a:bodyPr>
                    <a:p>
                      <a:pPr marL="712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唱遊海洋印象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家鄉風情印象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探索社區藝術家記錄的風情之美，並創作拍念有關家鄉文化的語詞節奏。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藝文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-2-5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海洋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水中生物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飼養、觀察水中生物並描述魚的體型及運動方式。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自然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2-2-2-2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0440">
                <a:tc rowSpan="3">
                  <a:txBody>
                    <a:bodyPr lIns="47880" rIns="47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生活情報家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長度與方位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認識東南西北、運用方位語詞描述物體的位置與方向。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數學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S-2-4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家庭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為民服務的機構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能在地圖上標示出信義區主要機構的位置。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6-2-1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天才小記者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說出蒐集到的信義區主要機構的服務內容。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綜合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-2-4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資訊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0440">
                <a:tc rowSpan="2">
                  <a:txBody>
                    <a:bodyPr lIns="47880" rIns="47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合作學習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marL="712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快樂多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一起來跳繩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運用繩子做三人合作的跳繩動作。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健體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-2-2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3-2-3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一起做專題報告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說出合作與分享的重要，並舉例說明。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國語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C2-2-4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1c1c1c"/>
                          </a:solidFill>
                          <a:latin typeface="標楷體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1c1c1c"/>
                </a:solidFill>
                <a:latin typeface="黑体"/>
                <a:ea typeface="標楷體"/>
              </a:rPr>
              <a:t>貳、彈性課程規劃</a:t>
            </a:r>
            <a:endParaRPr b="0" lang="en-US" sz="4400" spc="-1" strike="noStrike">
              <a:solidFill>
                <a:srgbClr val="1c1c1c"/>
              </a:solidFill>
              <a:latin typeface="黑体"/>
            </a:endParaRPr>
          </a:p>
        </p:txBody>
      </p:sp>
      <p:grpSp>
        <p:nvGrpSpPr>
          <p:cNvPr id="283" name="Organization Chart 95"/>
          <p:cNvGrpSpPr/>
          <p:nvPr/>
        </p:nvGrpSpPr>
        <p:grpSpPr>
          <a:xfrm>
            <a:off x="457200" y="1052640"/>
            <a:ext cx="8228880" cy="5072760"/>
            <a:chOff x="457200" y="1052640"/>
            <a:chExt cx="8228880" cy="5072760"/>
          </a:xfrm>
        </p:grpSpPr>
        <p:cxnSp>
          <p:nvCxnSpPr>
            <p:cNvPr id="284" name="_s53260"/>
            <p:cNvCxnSpPr>
              <a:stCxn id="285" idx="1"/>
              <a:endCxn id="286" idx="2"/>
            </p:cNvCxnSpPr>
            <p:nvPr/>
          </p:nvCxnSpPr>
          <p:spPr>
            <a:xfrm rot="10800000">
              <a:off x="1370520" y="4741200"/>
              <a:ext cx="305280" cy="92304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87" name="_s53261"/>
            <p:cNvCxnSpPr>
              <a:stCxn id="288" idx="0"/>
              <a:endCxn id="289" idx="2"/>
            </p:cNvCxnSpPr>
            <p:nvPr/>
          </p:nvCxnSpPr>
          <p:spPr>
            <a:xfrm flipV="1">
              <a:off x="7772040" y="3357720"/>
              <a:ext cx="2880" cy="461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90" name="_s53262"/>
            <p:cNvCxnSpPr>
              <a:stCxn id="291" idx="0"/>
              <a:endCxn id="292" idx="2"/>
            </p:cNvCxnSpPr>
            <p:nvPr/>
          </p:nvCxnSpPr>
          <p:spPr>
            <a:xfrm flipV="1">
              <a:off x="5638680" y="3357720"/>
              <a:ext cx="2880" cy="461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93" name="_s53263"/>
            <p:cNvCxnSpPr>
              <a:stCxn id="294" idx="0"/>
              <a:endCxn id="295" idx="2"/>
            </p:cNvCxnSpPr>
            <p:nvPr/>
          </p:nvCxnSpPr>
          <p:spPr>
            <a:xfrm flipV="1">
              <a:off x="3507120" y="3357720"/>
              <a:ext cx="2520" cy="461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96" name="_s53264"/>
            <p:cNvCxnSpPr>
              <a:stCxn id="286" idx="0"/>
              <a:endCxn id="297" idx="2"/>
            </p:cNvCxnSpPr>
            <p:nvPr/>
          </p:nvCxnSpPr>
          <p:spPr>
            <a:xfrm flipV="1">
              <a:off x="1371240" y="3357720"/>
              <a:ext cx="2880" cy="461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98" name="_s53265"/>
            <p:cNvCxnSpPr>
              <a:stCxn id="289" idx="0"/>
              <a:endCxn id="299" idx="2"/>
            </p:cNvCxnSpPr>
            <p:nvPr/>
          </p:nvCxnSpPr>
          <p:spPr>
            <a:xfrm flipV="1" rot="16200000">
              <a:off x="5940720" y="604800"/>
              <a:ext cx="461880" cy="3200760"/>
            </a:xfrm>
            <a:prstGeom prst="bentConnector3">
              <a:avLst>
                <a:gd name="adj1" fmla="val 31123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300" name="_s53266"/>
            <p:cNvCxnSpPr>
              <a:stCxn id="292" idx="0"/>
              <a:endCxn id="299" idx="2"/>
            </p:cNvCxnSpPr>
            <p:nvPr/>
          </p:nvCxnSpPr>
          <p:spPr>
            <a:xfrm flipV="1" rot="16200000">
              <a:off x="4874040" y="1671480"/>
              <a:ext cx="461880" cy="1067040"/>
            </a:xfrm>
            <a:prstGeom prst="bentConnector3">
              <a:avLst>
                <a:gd name="adj1" fmla="val 31123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301" name="_s53267"/>
            <p:cNvCxnSpPr>
              <a:stCxn id="295" idx="0"/>
              <a:endCxn id="299" idx="2"/>
            </p:cNvCxnSpPr>
            <p:nvPr/>
          </p:nvCxnSpPr>
          <p:spPr>
            <a:xfrm flipH="1" flipV="1" rot="5400000">
              <a:off x="3808800" y="1672560"/>
              <a:ext cx="461880" cy="1065240"/>
            </a:xfrm>
            <a:prstGeom prst="bentConnector3">
              <a:avLst>
                <a:gd name="adj1" fmla="val 31123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302" name="_s53268"/>
            <p:cNvCxnSpPr>
              <a:stCxn id="297" idx="0"/>
              <a:endCxn id="299" idx="2"/>
            </p:cNvCxnSpPr>
            <p:nvPr/>
          </p:nvCxnSpPr>
          <p:spPr>
            <a:xfrm flipH="1" flipV="1" rot="5400000">
              <a:off x="2740680" y="604800"/>
              <a:ext cx="461880" cy="3201120"/>
            </a:xfrm>
            <a:prstGeom prst="bentConnector3">
              <a:avLst>
                <a:gd name="adj1" fmla="val 31123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299" name="_s53269"/>
            <p:cNvSpPr/>
            <p:nvPr/>
          </p:nvSpPr>
          <p:spPr>
            <a:xfrm>
              <a:off x="3657600" y="1052640"/>
              <a:ext cx="1828440" cy="9223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000" spc="-1" strike="noStrike">
                  <a:solidFill>
                    <a:srgbClr val="666699"/>
                  </a:solidFill>
                  <a:latin typeface="Times New Roman"/>
                  <a:ea typeface="標楷體"/>
                </a:rPr>
                <a:t>彈性節數</a:t>
              </a:r>
              <a:r>
                <a:rPr b="0" lang="zh-TW" sz="1600" spc="-1" strike="noStrike">
                  <a:solidFill>
                    <a:srgbClr val="666699"/>
                  </a:solidFill>
                  <a:latin typeface="Times New Roman"/>
                  <a:ea typeface="新細明體"/>
                </a:rPr>
                <a:t> 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97" name="_s53270"/>
            <p:cNvSpPr/>
            <p:nvPr/>
          </p:nvSpPr>
          <p:spPr>
            <a:xfrm>
              <a:off x="457200" y="2436120"/>
              <a:ext cx="1828440" cy="922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666699"/>
                  </a:solidFill>
                  <a:latin typeface="Arial"/>
                  <a:ea typeface="標楷體"/>
                </a:rPr>
                <a:t>學校本位</a:t>
              </a:r>
              <a:endParaRPr b="0" lang="en-US" sz="26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666699"/>
                  </a:solidFill>
                  <a:latin typeface="Arial"/>
                  <a:ea typeface="標楷體"/>
                </a:rPr>
                <a:t>課程</a:t>
              </a:r>
              <a:endParaRPr b="0" lang="en-US" sz="2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95" name="_s53271"/>
            <p:cNvSpPr/>
            <p:nvPr/>
          </p:nvSpPr>
          <p:spPr>
            <a:xfrm>
              <a:off x="2590560" y="2436120"/>
              <a:ext cx="1828440" cy="9223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666699"/>
                  </a:solidFill>
                  <a:latin typeface="Arial"/>
                  <a:ea typeface="標楷體"/>
                </a:rPr>
                <a:t>數學補救</a:t>
              </a:r>
              <a:endParaRPr b="0" lang="en-US" sz="26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666699"/>
                  </a:solidFill>
                  <a:latin typeface="Arial"/>
                  <a:ea typeface="標楷體"/>
                </a:rPr>
                <a:t>教學</a:t>
              </a:r>
              <a:endParaRPr b="0" lang="en-US" sz="2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92" name="_s53272"/>
            <p:cNvSpPr/>
            <p:nvPr/>
          </p:nvSpPr>
          <p:spPr>
            <a:xfrm>
              <a:off x="4724280" y="2436120"/>
              <a:ext cx="1828440" cy="922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666699"/>
                  </a:solidFill>
                  <a:latin typeface="Arial"/>
                  <a:ea typeface="標楷體"/>
                </a:rPr>
                <a:t>英語</a:t>
              </a:r>
              <a:endParaRPr b="0" lang="en-US" sz="2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89" name="_s53273"/>
            <p:cNvSpPr/>
            <p:nvPr/>
          </p:nvSpPr>
          <p:spPr>
            <a:xfrm>
              <a:off x="6857640" y="2436120"/>
              <a:ext cx="1828440" cy="922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666699"/>
                  </a:solidFill>
                  <a:latin typeface="Arial"/>
                  <a:ea typeface="標楷體"/>
                </a:rPr>
                <a:t>資訊</a:t>
              </a:r>
              <a:endParaRPr b="0" lang="en-US" sz="2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86" name="_s53274"/>
            <p:cNvSpPr/>
            <p:nvPr/>
          </p:nvSpPr>
          <p:spPr>
            <a:xfrm>
              <a:off x="457200" y="3819600"/>
              <a:ext cx="1828440" cy="922320"/>
            </a:xfrm>
            <a:prstGeom prst="roundRect">
              <a:avLst>
                <a:gd name="adj" fmla="val 16667"/>
              </a:avLst>
            </a:prstGeom>
            <a:solidFill>
              <a:srgbClr val="49cacd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666699"/>
                  </a:solidFill>
                  <a:latin typeface="Arial"/>
                  <a:ea typeface="標楷體"/>
                </a:rPr>
                <a:t>每週一節</a:t>
              </a:r>
              <a:endParaRPr b="0" lang="en-US" sz="2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94" name="_s53275"/>
            <p:cNvSpPr/>
            <p:nvPr/>
          </p:nvSpPr>
          <p:spPr>
            <a:xfrm>
              <a:off x="2590560" y="3819600"/>
              <a:ext cx="1828440" cy="922320"/>
            </a:xfrm>
            <a:prstGeom prst="roundRect">
              <a:avLst>
                <a:gd name="adj" fmla="val 16667"/>
              </a:avLst>
            </a:prstGeom>
            <a:solidFill>
              <a:srgbClr val="49cacd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666699"/>
                  </a:solidFill>
                  <a:latin typeface="Arial"/>
                  <a:ea typeface="標楷體"/>
                </a:rPr>
                <a:t>每週一節</a:t>
              </a:r>
              <a:endParaRPr b="0" lang="en-US" sz="2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91" name="_s53276"/>
            <p:cNvSpPr/>
            <p:nvPr/>
          </p:nvSpPr>
          <p:spPr>
            <a:xfrm>
              <a:off x="4724280" y="3819600"/>
              <a:ext cx="1828440" cy="922320"/>
            </a:xfrm>
            <a:prstGeom prst="roundRect">
              <a:avLst>
                <a:gd name="adj" fmla="val 16667"/>
              </a:avLst>
            </a:prstGeom>
            <a:solidFill>
              <a:srgbClr val="49cacd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666699"/>
                  </a:solidFill>
                  <a:latin typeface="Arial"/>
                  <a:ea typeface="標楷體"/>
                </a:rPr>
                <a:t>每週一節</a:t>
              </a:r>
              <a:endParaRPr b="0" lang="en-US" sz="2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88" name="_s53277"/>
            <p:cNvSpPr/>
            <p:nvPr/>
          </p:nvSpPr>
          <p:spPr>
            <a:xfrm>
              <a:off x="6857640" y="3819600"/>
              <a:ext cx="1828440" cy="922320"/>
            </a:xfrm>
            <a:prstGeom prst="roundRect">
              <a:avLst>
                <a:gd name="adj" fmla="val 16667"/>
              </a:avLst>
            </a:prstGeom>
            <a:solidFill>
              <a:srgbClr val="49cacd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666699"/>
                  </a:solidFill>
                  <a:latin typeface="Arial"/>
                  <a:ea typeface="標楷體"/>
                </a:rPr>
                <a:t>每週一節</a:t>
              </a:r>
              <a:endParaRPr b="0" lang="en-US" sz="2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85" name="_s53278"/>
            <p:cNvSpPr/>
            <p:nvPr/>
          </p:nvSpPr>
          <p:spPr>
            <a:xfrm>
              <a:off x="1676160" y="5203080"/>
              <a:ext cx="1828440" cy="922320"/>
            </a:xfrm>
            <a:prstGeom prst="roundRect">
              <a:avLst>
                <a:gd name="adj" fmla="val 16667"/>
              </a:avLst>
            </a:prstGeom>
            <a:solidFill>
              <a:srgbClr val="49cacd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66"/>
                  </a:solidFill>
                  <a:latin typeface="Arial"/>
                  <a:ea typeface="標楷體"/>
                </a:rPr>
                <a:t>東信閱讀通</a:t>
              </a:r>
              <a:endParaRPr b="0" lang="en-US" sz="26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66"/>
                  </a:solidFill>
                  <a:latin typeface="Arial"/>
                  <a:ea typeface="標楷體"/>
                </a:rPr>
                <a:t>跳躍繩奇</a:t>
              </a:r>
              <a:endParaRPr b="0" lang="en-US" sz="26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user</cp:lastModifiedBy>
  <dcterms:modified xsi:type="dcterms:W3CDTF">2014-07-24T11:38:36Z</dcterms:modified>
  <cp:revision>81</cp:revision>
  <dc:subject/>
  <dc:title>PowerPoint Template</dc:title>
</cp:coreProperties>
</file>