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7EEF-186B-4901-BBB0-E096C00C1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3A55-48CF-46B3-B76F-75CBDBC2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B592-9BBC-4097-ADAC-19AC98322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F77D-BAD6-4C85-9C8D-BD4B29CE1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1431-3B5D-45BA-967C-2EA79E83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4A0C-2E3F-44AE-8696-5EB50D5B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47B3-FB87-4348-9F45-4D6F2B32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488F-1611-4C44-9340-77513BE6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5C06-17B1-44C3-AAB4-4B97F938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2242-A00C-4B10-BB6F-2156FA84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88DC-E9B7-451F-B1AA-3F152BA7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EB75-6366-4B1B-92B2-165D6935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B2AC-9560-4CE1-A4B0-6B786D67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5914-BB88-4EDE-BFE3-EB9CF658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59B8-3F27-4413-ADC0-948A2F22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7CDE-1D43-4CF6-BA2C-22E72067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CF21-F9B2-45C1-8390-C169E5223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52FC-2D6E-4FD7-AD22-3820B725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A938-EACB-4298-B05E-10C4067B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2D49-3233-43B4-9EB3-F9A69CA5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9990-EC33-4C7C-A83B-3387FBDB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3C57-BB4F-4EB8-86AB-CF2B6041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7CBC-2628-4685-B710-1C7DF595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3ECD-D432-46DD-8373-25060DE6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0C82-7041-4949-B4B7-8F73C6B62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10080" y="61560"/>
              <a:ext cx="3620160" cy="6130800"/>
              <a:chOff x="5410080" y="61560"/>
              <a:chExt cx="362016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7040"/>
                <a:ext cx="2115000" cy="235584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8400"/>
                <a:ext cx="906120" cy="84240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520" y="259020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400" y="67212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120" y="2646360"/>
                <a:ext cx="16308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8800" y="1244520"/>
                <a:ext cx="19008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360" y="2931480"/>
                <a:ext cx="523440" cy="32670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303120"/>
              <a:ext cx="894600" cy="821160"/>
              <a:chOff x="5652360" y="303120"/>
              <a:chExt cx="894600" cy="8211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7520" y="4028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33760"/>
              <a:chOff x="968760" y="5261400"/>
              <a:chExt cx="1059120" cy="83376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0720" y="5524560"/>
                <a:ext cx="250920" cy="301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5920" y="5739120"/>
                <a:ext cx="429480" cy="2502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480" y="5385600"/>
                <a:ext cx="448920" cy="1285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8A78-AEA5-4647-B06C-29205A601BDA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971640" y="909720"/>
            <a:ext cx="720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東信國小</a:t>
            </a:r>
            <a:r>
              <a:rPr b="1" lang="en-US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103</a:t>
            </a: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學年度</a:t>
            </a:r>
            <a:br>
              <a:rPr sz="4000"/>
            </a:br>
            <a:br>
              <a:rPr sz="4000"/>
            </a:b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二年級課程計畫簡報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8" name="Picture 9" descr="j0336075"/>
          <p:cNvPicPr/>
          <p:nvPr/>
        </p:nvPicPr>
        <p:blipFill>
          <a:blip r:embed="rId1"/>
          <a:stretch/>
        </p:blipFill>
        <p:spPr>
          <a:xfrm>
            <a:off x="2913120" y="3201840"/>
            <a:ext cx="33876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456000" y="92700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ff"/>
                </a:solidFill>
                <a:latin typeface="Verdana"/>
                <a:ea typeface="標楷體"/>
              </a:rPr>
              <a:t>報告大綱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340000" y="2133720"/>
            <a:ext cx="435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東信閱讀通介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學年特色發展說明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Picture 5" descr="himwari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4286160"/>
            <a:ext cx="91440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4138560" y="2492280"/>
            <a:ext cx="1873440" cy="151128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6680" indent="-16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二上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66680" indent="-16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1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公雞孵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66680" indent="-16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2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尊重生命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Oval 3"/>
          <p:cNvSpPr/>
          <p:nvPr/>
        </p:nvSpPr>
        <p:spPr>
          <a:xfrm>
            <a:off x="2987640" y="2214720"/>
            <a:ext cx="1084320" cy="92520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性別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教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Oval 4"/>
          <p:cNvSpPr/>
          <p:nvPr/>
        </p:nvSpPr>
        <p:spPr>
          <a:xfrm>
            <a:off x="2987640" y="3357720"/>
            <a:ext cx="1084320" cy="86184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生命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教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4200" y="2347920"/>
            <a:ext cx="208908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閱讀書目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66"/>
                </a:solidFill>
                <a:latin typeface="Verdana"/>
                <a:ea typeface="標楷體"/>
              </a:rPr>
              <a:t>紅公雞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754200" y="3429000"/>
            <a:ext cx="208908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閱讀書目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66"/>
                </a:solidFill>
                <a:latin typeface="Verdana"/>
                <a:ea typeface="標楷體"/>
              </a:rPr>
              <a:t>流浪狗</a:t>
            </a:r>
            <a:r>
              <a:rPr b="0" lang="zh-TW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6299280" y="2492280"/>
            <a:ext cx="2344680" cy="151128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二上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後跳二跳一迴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4138560" y="4653000"/>
            <a:ext cx="1873440" cy="158436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二下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1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心情故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2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肯定自我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Oval 9"/>
          <p:cNvSpPr/>
          <p:nvPr/>
        </p:nvSpPr>
        <p:spPr>
          <a:xfrm>
            <a:off x="2987640" y="4500720"/>
            <a:ext cx="1084320" cy="8715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情緒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教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Oval 10"/>
          <p:cNvSpPr/>
          <p:nvPr/>
        </p:nvSpPr>
        <p:spPr>
          <a:xfrm>
            <a:off x="2987640" y="5572080"/>
            <a:ext cx="1084320" cy="87948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自我認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754200" y="4508640"/>
            <a:ext cx="208908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閱讀書目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66"/>
                </a:solidFill>
                <a:latin typeface="Verdana"/>
                <a:ea typeface="標楷體"/>
              </a:rPr>
              <a:t>生氣湯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754200" y="5587920"/>
            <a:ext cx="2089080" cy="792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閱讀書目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66"/>
                </a:solidFill>
                <a:latin typeface="Verdana"/>
                <a:ea typeface="標楷體"/>
              </a:rPr>
              <a:t>大象艾瑪</a:t>
            </a:r>
            <a:r>
              <a:rPr b="0" lang="zh-TW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6299280" y="4653000"/>
            <a:ext cx="2344680" cy="158436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二下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後跳一跳一迴旋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10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次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357120" y="622440"/>
            <a:ext cx="8001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新細明體"/>
              </a:rPr>
              <a:t>103</a:t>
            </a:r>
            <a:r>
              <a:rPr b="1" lang="zh-TW" sz="3000" spc="-1" strike="noStrike">
                <a:solidFill>
                  <a:srgbClr val="ff0066"/>
                </a:solidFill>
                <a:latin typeface="Verdana"/>
                <a:ea typeface="標楷體"/>
              </a:rPr>
              <a:t>學年度二年級學校本位特色課程規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4138560" y="1341360"/>
            <a:ext cx="1873440" cy="79236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66"/>
                </a:solidFill>
                <a:latin typeface="Times New Roman"/>
                <a:ea typeface="標楷體"/>
              </a:rPr>
              <a:t>語文領域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ff"/>
                </a:solidFill>
                <a:latin typeface="Times New Roman"/>
                <a:ea typeface="標楷體"/>
              </a:rPr>
              <a:t>東信閱讀通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6299280" y="1341360"/>
            <a:ext cx="2017800" cy="79848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66"/>
                </a:solidFill>
                <a:latin typeface="Times New Roman"/>
                <a:ea typeface="標楷體"/>
              </a:rPr>
              <a:t>健體領域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660066"/>
                </a:solidFill>
                <a:latin typeface="Times New Roman"/>
                <a:ea typeface="標楷體"/>
              </a:rPr>
              <a:t>跳躍繩奇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81"/>
          <p:cNvSpPr/>
          <p:nvPr/>
        </p:nvSpPr>
        <p:spPr>
          <a:xfrm>
            <a:off x="642960" y="14184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一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性別教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042920" y="981000"/>
          <a:ext cx="7058160" cy="5426280"/>
        </p:xfrm>
        <a:graphic>
          <a:graphicData uri="http://schemas.openxmlformats.org/drawingml/2006/table">
            <a:tbl>
              <a:tblPr/>
              <a:tblGrid>
                <a:gridCol w="909720"/>
                <a:gridCol w="609480"/>
                <a:gridCol w="540000"/>
                <a:gridCol w="1476360"/>
                <a:gridCol w="1476360"/>
                <a:gridCol w="1022400"/>
                <a:gridCol w="1023840"/>
              </a:tblGrid>
              <a:tr h="101592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閱讀主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融入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選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書名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配合活動名稱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活動說明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融入領域或議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評量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方式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205360">
                <a:tc rowSpan="2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公雞孵蛋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性 別 教 育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紅 公 雞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家事誰來做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343080" indent="-343080" algn="just">
                        <a:lnSpc>
                          <a:spcPts val="1998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討論『何謂家事？』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ts val="1998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分享每人家中的家事分配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負責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性別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聆聽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討論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分享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誰來照顧我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1.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觀賞『文建會兒童文化館』相關動畫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2.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討論故事內容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負責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性別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聆聽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討論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分享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9"/>
          <p:cNvSpPr/>
          <p:nvPr/>
        </p:nvSpPr>
        <p:spPr>
          <a:xfrm>
            <a:off x="437040" y="21312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二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生命教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06360" y="662040"/>
          <a:ext cx="8424720" cy="5713200"/>
        </p:xfrm>
        <a:graphic>
          <a:graphicData uri="http://schemas.openxmlformats.org/drawingml/2006/table">
            <a:tbl>
              <a:tblPr/>
              <a:tblGrid>
                <a:gridCol w="1008000"/>
                <a:gridCol w="708120"/>
                <a:gridCol w="628560"/>
                <a:gridCol w="1982880"/>
                <a:gridCol w="1982880"/>
                <a:gridCol w="1057320"/>
                <a:gridCol w="1056960"/>
              </a:tblGrid>
              <a:tr h="609480">
                <a:tc>
                  <a:txBody>
                    <a:bodyPr lIns="12240" rIns="122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閱讀主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融入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選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書名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配合活動名稱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活動說明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融入領域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或議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評量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方式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  <a:tr h="1524240">
                <a:tc rowSpan="4">
                  <a:txBody>
                    <a:bodyPr lIns="12240" rIns="122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尊重生命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2240" marR="122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2240" rIns="122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 命 教 育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2240" rIns="122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流浪狗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你從哪裡來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）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1.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討論『為何會有流浪狗？』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2.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看到流浪狗的感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3.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角色扮演─如果我是一隻流浪狗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命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家庭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討論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分享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扮演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繪本分享與討論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）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1.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觀賞『文建會兒童文化館』相關動畫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2.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討論故事內容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命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聆聽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討論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分享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猜猜我是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）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1.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模仿小動物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2.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結合民間愛狗團體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分享寵物心事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命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能模仿各種小動物的姿態並分享飼養寵物心事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動物日記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）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1.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完成學習單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2.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共同分享飼養心得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命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家庭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能記錄動物的成長並愛護小動物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9"/>
          <p:cNvSpPr/>
          <p:nvPr/>
        </p:nvSpPr>
        <p:spPr>
          <a:xfrm>
            <a:off x="666360" y="21312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三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情緒教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00040" y="836640"/>
          <a:ext cx="8248680" cy="5900760"/>
        </p:xfrm>
        <a:graphic>
          <a:graphicData uri="http://schemas.openxmlformats.org/drawingml/2006/table">
            <a:tbl>
              <a:tblPr/>
              <a:tblGrid>
                <a:gridCol w="1192320"/>
                <a:gridCol w="807840"/>
                <a:gridCol w="668520"/>
                <a:gridCol w="1852560"/>
                <a:gridCol w="1852560"/>
                <a:gridCol w="936720"/>
                <a:gridCol w="938160"/>
              </a:tblGrid>
              <a:tr h="682560">
                <a:tc>
                  <a:txBody>
                    <a:bodyPr lIns="12240" rIns="122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閱讀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主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融入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選書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書名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配合活動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名稱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活動說明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240" rIns="12240" tIns="0" bIns="0" anchor="t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融入領域或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240" rIns="12240" tIns="0" bIns="0" anchor="t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方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38320">
                <a:tc rowSpan="3">
                  <a:txBody>
                    <a:bodyPr lIns="12240" rIns="122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心情故事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2240" marR="122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2240" rIns="122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情緒教育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2240" rIns="122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 氣 湯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心情故事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）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marL="343080" indent="-343080" algn="just">
                        <a:lnSpc>
                          <a:spcPts val="1998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繪本導讀生氣湯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ts val="1998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心得分享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氣的經驗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ts val="1998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3.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角色扮演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人權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涯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能說出自己如何處理情緒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我是小主人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）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時間大作戰</a:t>
                      </a: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自己的一天時間安排分配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我會比比看</a:t>
                      </a: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透過比較了解有計畫的安排生活能讓生活更順利減少生氣的機會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涯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數學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能安排自己的一天時間分配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我有話要說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）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請聽我說</a:t>
                      </a: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了解不好的情緒可以跟哪些人談談而獲得紓解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倒垃圾</a:t>
                      </a: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談談目前覺得生氣的事情煮</a:t>
                      </a: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3.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一鍋消氣湯</a:t>
                      </a: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分享其他可以消氣方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人權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涯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家庭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能用各種方式來自己調適心情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9"/>
          <p:cNvSpPr/>
          <p:nvPr/>
        </p:nvSpPr>
        <p:spPr>
          <a:xfrm>
            <a:off x="809280" y="-108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四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自我認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971640" y="620640"/>
          <a:ext cx="7272360" cy="5802480"/>
        </p:xfrm>
        <a:graphic>
          <a:graphicData uri="http://schemas.openxmlformats.org/drawingml/2006/table">
            <a:tbl>
              <a:tblPr/>
              <a:tblGrid>
                <a:gridCol w="811080"/>
                <a:gridCol w="665280"/>
                <a:gridCol w="579240"/>
                <a:gridCol w="1738440"/>
                <a:gridCol w="1739880"/>
                <a:gridCol w="927000"/>
                <a:gridCol w="811440"/>
              </a:tblGrid>
              <a:tr h="762120"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閱讀主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融入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選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書名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配合活動名稱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活動說明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融入領域或議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評量方式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270080">
                <a:tc rowSpan="4">
                  <a:txBody>
                    <a:bodyPr lIns="13320" rIns="133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肯定自我學習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3320" marR="133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3320" rIns="133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自我認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3320" rIns="133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大象艾瑪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導讀及討論（</a:t>
                      </a: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）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marL="343080" indent="-343080" algn="just">
                        <a:lnSpc>
                          <a:spcPts val="1998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透過學生們的相互討論對同一問題有不同的想法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發表討論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我是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）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marL="343080" indent="-343080" algn="just">
                        <a:lnSpc>
                          <a:spcPts val="1998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透過學習單的分享與討論，讓學生更深一層的認識並了解自己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經驗分享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角色扮演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）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學生的親自參與，更能體會出書中主角的感受與想法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綜合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角色扮演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彩色象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）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設計心目中的一隻或一群彩色象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能繪製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2700360" y="69228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476360" y="404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學年特色發展規劃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標楷體"/>
              </a:rPr>
              <a:t>-</a:t>
            </a:r>
            <a:r>
              <a:rPr b="1" lang="zh-TW" sz="3200" spc="-1" strike="noStrike">
                <a:solidFill>
                  <a:srgbClr val="ff0066"/>
                </a:solidFill>
                <a:latin typeface="Arial"/>
                <a:ea typeface="標楷體"/>
              </a:rPr>
              <a:t>「讀經教育」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611280" y="1442880"/>
            <a:ext cx="79214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4120" bIns="114120" anchor="ctr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壹、課程設計與實施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二年級全體老師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貳、設計理念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透過共同讀經活動，配合教師適度引導，讓孩子學習聖賢經典中做人處世的道理，在生活中身體力行，導正日常生活常規與觀念，並且希望藉讀經活動提升學生的專注力及語文能力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參、學習目標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1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能專心誦讀經文內容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2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能正確背出經文內容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3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能在日常生活中實踐習得之道理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4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培養學生識字、認讀的能力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肆、教學策略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1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運用領讀→齊讀→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輪讀→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接讀循序漸進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2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利用日常發生之實際例子進行解說、分享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3.</a:t>
            </a:r>
            <a:r>
              <a:rPr b="0" lang="zh-TW" sz="1800" spc="-1" strike="noStrike">
                <a:solidFill>
                  <a:srgbClr val="ff0066"/>
                </a:solidFill>
                <a:latin typeface="標楷體"/>
                <a:ea typeface="標楷體"/>
              </a:rPr>
              <a:t>配合學生護照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，背誦完畢後於集會時公開頒發獎狀予以鼓勵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伍、讀經教材規劃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二年級上學期：朱子治家格言 部首表        二年級下學期：千字文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8" name="Picture 8" descr="穿衣服的蠻頭"/>
          <p:cNvPicPr/>
          <p:nvPr/>
        </p:nvPicPr>
        <p:blipFill>
          <a:blip r:embed="rId1"/>
          <a:stretch/>
        </p:blipFill>
        <p:spPr>
          <a:xfrm>
            <a:off x="6500880" y="2781360"/>
            <a:ext cx="161136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File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1214280" y="200016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00000"/>
                </a:solidFill>
                <a:latin typeface="標楷體"/>
                <a:ea typeface="標楷體"/>
              </a:rPr>
              <a:t>謝謝您耐心的聆聽</a:t>
            </a:r>
            <a:r>
              <a:rPr b="1" lang="en-US" sz="4000" spc="-1" strike="noStrike">
                <a:solidFill>
                  <a:srgbClr val="c00000"/>
                </a:solidFill>
                <a:latin typeface="標楷體"/>
                <a:ea typeface="標楷體"/>
              </a:rPr>
              <a:t>~</a:t>
            </a:r>
            <a:r>
              <a:rPr b="1" lang="zh-TW" sz="4000" spc="-1" strike="noStrike">
                <a:solidFill>
                  <a:srgbClr val="c00000"/>
                </a:solidFill>
                <a:latin typeface="標楷體"/>
                <a:ea typeface="標楷體"/>
              </a:rPr>
              <a:t>報告完畢！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7:06:58Z</dcterms:created>
  <dc:creator>USER</dc:creator>
  <dc:description/>
  <dc:language>en-US</dc:language>
  <cp:lastModifiedBy>klpc</cp:lastModifiedBy>
  <dcterms:modified xsi:type="dcterms:W3CDTF">2014-07-18T06:23:48Z</dcterms:modified>
  <cp:revision>115</cp:revision>
  <dc:subject/>
  <dc:title>投影片 1</dc:title>
</cp:coreProperties>
</file>