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FA8-033A-40F1-96D0-2501BA8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481-83D7-4E52-8D94-3DF1EAE9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BE7-48BF-4CF8-AA16-C67B0660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B74-FBB3-4567-A1F6-7F9B0CA7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6829-09DD-4DF9-9991-E40878C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0D7-5A2D-4F5F-8ECB-3753B94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BB6-970B-4C02-81DB-825A3C0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17D1-A109-403D-95BE-1671261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1C19-2360-4D22-824C-2286A8C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59C6-6939-41D2-88B7-5F572510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5FF-D18A-405F-9C98-8A73FA2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142-6B71-419A-88DD-4CEF191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18B-B880-4A15-8583-D7B2EA2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00D-D182-4FD9-8789-563712C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BBD-690C-4B7F-9141-C6085AF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3AB1-F6C2-4B2B-B967-A47C158C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9C0-87BD-4DD3-895A-B20A973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48-3EC7-4AE5-B1FB-7C5F354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CFA-1A6D-4FD1-A8AB-6BBD911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C4B-CB72-4393-809A-1A3D3FE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C02-D91D-4286-95FB-0D957EB0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D54-C260-4D57-9979-A44210F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CE7-B843-494A-81FE-85D8272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135-86E7-4200-B4D6-A50C819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BD1B-D199-40F4-BC71-EB539DFC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91960"/>
              <a:ext cx="894600" cy="821160"/>
              <a:chOff x="5647320" y="29196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228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260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2480"/>
              <a:ext cx="1055160" cy="828720"/>
              <a:chOff x="970560" y="5262480"/>
              <a:chExt cx="1055160" cy="8287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920" y="5522040"/>
                <a:ext cx="250920" cy="2998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37320"/>
                <a:ext cx="429480" cy="24804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7040"/>
                <a:ext cx="448920" cy="1263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B8A-25FB-4302-8669-71C2E5935B4B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3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24000" y="836640"/>
          <a:ext cx="8246880" cy="5365800"/>
        </p:xfrm>
        <a:graphic>
          <a:graphicData uri="http://schemas.openxmlformats.org/drawingml/2006/table">
            <a:tbl>
              <a:tblPr/>
              <a:tblGrid>
                <a:gridCol w="1649160"/>
                <a:gridCol w="1649520"/>
                <a:gridCol w="1649520"/>
                <a:gridCol w="2252520"/>
                <a:gridCol w="10461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53028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學成果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校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國防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防災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及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母親節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班級田徑賽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節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校外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我學習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當王子遇上公主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灰王子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貛的禮物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安全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七手八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（二跳一迴旋）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氣風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菲菲生氣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自己的顏色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跳躍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跑帶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1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一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4240" y="627120"/>
          <a:ext cx="8143920" cy="5759280"/>
        </p:xfrm>
        <a:graphic>
          <a:graphicData uri="http://schemas.openxmlformats.org/drawingml/2006/table">
            <a:tbl>
              <a:tblPr/>
              <a:tblGrid>
                <a:gridCol w="698760"/>
                <a:gridCol w="730080"/>
                <a:gridCol w="714600"/>
                <a:gridCol w="1417320"/>
                <a:gridCol w="2054520"/>
                <a:gridCol w="1104840"/>
                <a:gridCol w="1423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68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當王子遇上公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別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灰王子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詞黑白配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故事中找出相似與相反詞來形容生活中的事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比比高矮胖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遊戲活動中察覺長短、大小、重量的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全家總動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學習單，紀錄並討論家事分工情況，並了解兩性平等分工的重要性和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學習單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好幫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讓孩子學習分擔家事，體會做家事的辛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42960" y="785880"/>
          <a:ext cx="8064360" cy="5999040"/>
        </p:xfrm>
        <a:graphic>
          <a:graphicData uri="http://schemas.openxmlformats.org/drawingml/2006/table">
            <a:tbl>
              <a:tblPr/>
              <a:tblGrid>
                <a:gridCol w="647640"/>
                <a:gridCol w="668520"/>
                <a:gridCol w="642960"/>
                <a:gridCol w="1641240"/>
                <a:gridCol w="2114640"/>
                <a:gridCol w="928800"/>
                <a:gridCol w="1420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7104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獾的禮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自己對於「死亡」的感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你給我「記住」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如果好朋友要轉學，該如何讓他記住自己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玩具分享時間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把愛傳出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進行「小天使小主人」活動，在班上散播關愛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關心同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給獾的一封信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森林動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；當獾離開大家後，有什麼話想對牠說呢？試著寫幾句話給「獾」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714240"/>
          <a:ext cx="8143920" cy="5715000"/>
        </p:xfrm>
        <a:graphic>
          <a:graphicData uri="http://schemas.openxmlformats.org/drawingml/2006/table">
            <a:tbl>
              <a:tblPr/>
              <a:tblGrid>
                <a:gridCol w="698400"/>
                <a:gridCol w="587520"/>
                <a:gridCol w="642960"/>
                <a:gridCol w="1357200"/>
                <a:gridCol w="2643120"/>
                <a:gridCol w="928800"/>
                <a:gridCol w="1285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32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風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菲菲生氣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小書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「生氣」的感覺及狀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表情比一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小鏡子觀察自己喜、怒、哀、樂的表情跟著音樂隨意擺動，擺出不同的表情，並觀察他人的表情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仔細觀察並作出不同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變變變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將「生氣」等不同情緒，嘗試以畫圖或塗色彩的方式呈現。作品完成後，再一起討論、分享畫作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畫出不同情緒的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剋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組討論不同情境避免生氣的方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4360" y="500040"/>
          <a:ext cx="7920000" cy="5648400"/>
        </p:xfrm>
        <a:graphic>
          <a:graphicData uri="http://schemas.openxmlformats.org/drawingml/2006/table">
            <a:tbl>
              <a:tblPr/>
              <a:tblGrid>
                <a:gridCol w="669600"/>
                <a:gridCol w="574920"/>
                <a:gridCol w="571320"/>
                <a:gridCol w="1285920"/>
                <a:gridCol w="2540160"/>
                <a:gridCol w="909720"/>
                <a:gridCol w="136836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528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肯定自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話我畫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說一說自己的特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透過分享與討論，讓學生更深一層的認識並了解自己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優點大轟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上台說出自己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優點卡並寫出同學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製作優點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大手牽小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與家人的互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了解自己在團體中所扮演的角色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繪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運用故事情境，瞭解自己的長處並肯定自我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能說出自己的長處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一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活動，促進學生之身心能力發展，培養學生互助合群、活潑樂觀的運動精神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了解跳繩正確之使用方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安全的進行跳繩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學會跳繩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經由教師說明，正確習得跳繩技巧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進行分組練習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完成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習活動設計架構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繩奇寶貝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500120" y="4000680"/>
            <a:ext cx="1857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安全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介紹跳繩活動的注意事項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5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714840" y="4786200"/>
            <a:ext cx="1606320" cy="85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Calibri"/>
              </a:rPr>
              <a:t>繩奇寶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500120" y="5357880"/>
            <a:ext cx="185760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七手八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二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1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715000" y="3857760"/>
            <a:ext cx="185724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跳躍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一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3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5715000" y="5357880"/>
            <a:ext cx="18572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跑帶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練習邊跑邊跳的跳繩技巧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4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5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377" name="直線單箭頭接點 14"/>
          <p:cNvCxnSpPr>
            <a:stCxn id="375" idx="1"/>
            <a:endCxn id="373" idx="7"/>
          </p:cNvCxnSpPr>
          <p:nvPr/>
        </p:nvCxnSpPr>
        <p:spPr>
          <a:xfrm flipH="1">
            <a:off x="5086080" y="4374000"/>
            <a:ext cx="629280" cy="537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8" name="直線單箭頭接點 15"/>
          <p:cNvCxnSpPr>
            <a:endCxn id="373" idx="3"/>
          </p:cNvCxnSpPr>
          <p:nvPr/>
        </p:nvCxnSpPr>
        <p:spPr>
          <a:xfrm flipV="1">
            <a:off x="3357720" y="5513040"/>
            <a:ext cx="592560" cy="488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9" name="直線單箭頭接點 17"/>
          <p:cNvCxnSpPr/>
          <p:nvPr/>
        </p:nvCxnSpPr>
        <p:spPr>
          <a:xfrm>
            <a:off x="3357720" y="4465800"/>
            <a:ext cx="643320" cy="5356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80" name="直線單箭頭接點 20"/>
          <p:cNvCxnSpPr>
            <a:endCxn id="373" idx="5"/>
          </p:cNvCxnSpPr>
          <p:nvPr/>
        </p:nvCxnSpPr>
        <p:spPr>
          <a:xfrm flipH="1" flipV="1">
            <a:off x="5086080" y="5512680"/>
            <a:ext cx="62928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pic>
        <p:nvPicPr>
          <p:cNvPr id="381" name="圖片 12" descr="過年.jpg"/>
          <p:cNvPicPr/>
          <p:nvPr/>
        </p:nvPicPr>
        <p:blipFill>
          <a:blip r:embed="rId1"/>
          <a:stretch/>
        </p:blipFill>
        <p:spPr>
          <a:xfrm>
            <a:off x="6572160" y="1714680"/>
            <a:ext cx="2024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看圖而說出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童詩童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主動欣賞與閱讀童詩，並畫出詩中的情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A-1-4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透過遊戲活動察覺學校的建築物和樹木的數量概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8508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數在哪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裡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好玩的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549600"/>
              <a:ext cx="2500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運用進位的計算方法，計數學校的建築物和樹木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000160"/>
            <a:chOff x="3297240" y="4500720"/>
            <a:chExt cx="5703840" cy="200016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1431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認識校園中各種植物的名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正確指出校園植物的構造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區分校園中各種植物生長的季節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花花草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96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拈花惹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786640"/>
              <a:ext cx="3143160" cy="71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選擇出適合壓花的花草植物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利用校園中既有植物進行遊戲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8012160" y="4500720"/>
              <a:ext cx="917640" cy="107136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1071360"/>
                <a:gd name="textAreaBottom" fmla="*/ 1026720 h 1071360"/>
              </a:gdLst>
              <a:ahLst/>
              <a:rect l="textAreaLeft" t="textAreaTop" r="textAreaRight" b="textAreaBottom"/>
              <a:pathLst>
                <a:path w="21600" h="25217">
                  <a:moveTo>
                    <a:pt x="3600" y="0"/>
                  </a:moveTo>
                  <a:arcTo wR="3600" hR="3600" stAng="16200000" swAng="-5400000"/>
                  <a:lnTo>
                    <a:pt x="0" y="21617"/>
                  </a:lnTo>
                  <a:arcTo wR="3600" hR="3600" stAng="10800000" swAng="-5400000"/>
                  <a:lnTo>
                    <a:pt x="18000" y="25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1-9   7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   8-1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8012160" y="5786640"/>
              <a:ext cx="98892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0  9-1-1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8680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8680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85880"/>
            <a:ext cx="264312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自己，了解優缺點，學習與同學相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快樂的我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572000" y="4071960"/>
            <a:ext cx="328608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體育課時能選擇適當服裝、鞋子並攜帶毛巾及水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做到運動前暖身及運動後整理服裝儀容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熟練洗手步驟並應用於日常生活中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健康寶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35780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718240"/>
            <a:ext cx="1060560" cy="92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天才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玩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35780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572000" y="5310360"/>
            <a:ext cx="3286080" cy="13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確實知道校園中“固定式遊戲器材”所在地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用身體動作安全使用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遵守規則按序操作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我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571760"/>
            <a:ext cx="264312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家人，體會家人的辛苦，進而關心與幫助家人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215120" y="10717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215120" y="1857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429680" y="78588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1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429680" y="157176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355840"/>
            <a:ext cx="8389800" cy="1314360"/>
            <a:chOff x="611280" y="2355840"/>
            <a:chExt cx="8389800" cy="1314360"/>
          </a:xfrm>
        </p:grpSpPr>
        <p:sp>
          <p:nvSpPr>
            <p:cNvPr id="251" name="AutoShape 21"/>
            <p:cNvSpPr/>
            <p:nvPr/>
          </p:nvSpPr>
          <p:spPr>
            <a:xfrm>
              <a:off x="611280" y="269532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012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355840"/>
              <a:ext cx="6024960" cy="1314360"/>
              <a:chOff x="2976120" y="2355840"/>
              <a:chExt cx="6024960" cy="131436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572000" y="2355840"/>
                <a:ext cx="32148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樹枝和拓印樹木等自然媒材來完成黏貼完成美麗的圖畫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355840"/>
                <a:ext cx="10602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繽紛落葉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65572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35448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35744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054240"/>
                <a:ext cx="106020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花草遊戲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435744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4572000" y="3054240"/>
                <a:ext cx="321480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並發現校園中的花草有哪些並發展創作出不同的有趣遊戲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655720"/>
                <a:ext cx="1080" cy="69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78680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78680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8001000" y="23572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1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8001000" y="30718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6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9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83440" y="5715000"/>
            <a:ext cx="917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  3-1-2  5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389800" cy="1328760"/>
            <a:chOff x="428760" y="2143080"/>
            <a:chExt cx="8389800" cy="1328760"/>
          </a:xfrm>
        </p:grpSpPr>
        <p:sp>
          <p:nvSpPr>
            <p:cNvPr id="274" name="Line 4"/>
            <p:cNvSpPr/>
            <p:nvPr/>
          </p:nvSpPr>
          <p:spPr>
            <a:xfrm>
              <a:off x="2793960" y="244296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1417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48256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4296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800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703840" cy="1328760"/>
              <a:chOff x="3114720" y="2143080"/>
              <a:chExt cx="5703840" cy="132876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7120"/>
                <a:ext cx="23572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認識學校環境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逛逛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841480"/>
                <a:ext cx="127476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潔小超人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38948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603680" y="2871720"/>
                <a:ext cx="235728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護校園整潔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712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2871720"/>
                <a:ext cx="164304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1   4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6"/>
          <p:cNvSpPr/>
          <p:nvPr/>
        </p:nvSpPr>
        <p:spPr>
          <a:xfrm>
            <a:off x="2428920" y="5143680"/>
            <a:ext cx="1571760" cy="563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花花草草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214960" y="5143680"/>
            <a:ext cx="1643040" cy="5569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健康寶寶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428760" y="1000080"/>
            <a:ext cx="2286000" cy="1374840"/>
          </a:xfrm>
          <a:prstGeom prst="wedgeRectCallout">
            <a:avLst>
              <a:gd name="adj1" fmla="val 37634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像什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、生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5840" y="5429160"/>
            <a:ext cx="1654200" cy="1000080"/>
          </a:xfrm>
          <a:prstGeom prst="wedgeRectCallout">
            <a:avLst>
              <a:gd name="adj1" fmla="val 79527"/>
              <a:gd name="adj2" fmla="val -4026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超級比一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572160" y="3357720"/>
            <a:ext cx="2246400" cy="1512720"/>
          </a:xfrm>
          <a:prstGeom prst="wedgeRectCallout">
            <a:avLst>
              <a:gd name="adj1" fmla="val -44768"/>
              <a:gd name="adj2" fmla="val 6612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相見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猜猜我是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朋友在哪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2357280" y="271476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畫中有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2928960" y="857160"/>
            <a:ext cx="2286000" cy="1517760"/>
          </a:xfrm>
          <a:prstGeom prst="wedgeRectCallout">
            <a:avLst>
              <a:gd name="adj1" fmla="val -13476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聽的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看圖說一說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讀書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5219640" y="270828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童話季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23" name="AutoShape 17"/>
          <p:cNvGrpSpPr/>
          <p:nvPr/>
        </p:nvGrpSpPr>
        <p:grpSpPr>
          <a:xfrm>
            <a:off x="6334200" y="841320"/>
            <a:ext cx="2328840" cy="1889280"/>
            <a:chOff x="6334200" y="841320"/>
            <a:chExt cx="2328840" cy="1889280"/>
          </a:xfrm>
        </p:grpSpPr>
        <p:pic>
          <p:nvPicPr>
            <p:cNvPr id="324" name="AutoShape 17" descr=""/>
            <p:cNvPicPr/>
            <p:nvPr/>
          </p:nvPicPr>
          <p:blipFill>
            <a:blip r:embed="rId1"/>
            <a:stretch/>
          </p:blipFill>
          <p:spPr>
            <a:xfrm>
              <a:off x="6334200" y="841320"/>
              <a:ext cx="232884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57960" y="85716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與我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童詩</a:t>
              </a:r>
              <a:r>
                <a:rPr b="0" lang="zh-TW" sz="1800" spc="-1" strike="noStrike">
                  <a:solidFill>
                    <a:srgbClr val="0000ff"/>
                  </a:solidFill>
                  <a:latin typeface="Verdana"/>
                </a:rPr>
                <a:t>、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童謠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影片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：語文、鄉土、環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26" name="AutoShape 11"/>
          <p:cNvSpPr/>
          <p:nvPr/>
        </p:nvSpPr>
        <p:spPr>
          <a:xfrm>
            <a:off x="571680" y="3143160"/>
            <a:ext cx="1653840" cy="1584360"/>
          </a:xfrm>
          <a:prstGeom prst="wedgeRectCallout">
            <a:avLst>
              <a:gd name="adj1" fmla="val 88768"/>
              <a:gd name="adj2" fmla="val 6983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校園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和植物作朋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7000920" y="5084640"/>
            <a:ext cx="2000160" cy="1584360"/>
          </a:xfrm>
          <a:prstGeom prst="wedgeRectCallout">
            <a:avLst>
              <a:gd name="adj1" fmla="val -70078"/>
              <a:gd name="adj2" fmla="val 21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動動身體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跳繩安全守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二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健體、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5"/>
          <p:cNvSpPr/>
          <p:nvPr/>
        </p:nvSpPr>
        <p:spPr>
          <a:xfrm>
            <a:off x="2214720" y="3000240"/>
            <a:ext cx="1566720" cy="44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童詩童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214720" y="4357800"/>
            <a:ext cx="15714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拈花惹草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643720" y="4500720"/>
            <a:ext cx="1714320" cy="422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天才小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玩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71680" y="1571760"/>
            <a:ext cx="1714320" cy="1065240"/>
          </a:xfrm>
          <a:prstGeom prst="wedgeRectCallout">
            <a:avLst>
              <a:gd name="adj1" fmla="val 46981"/>
              <a:gd name="adj2" fmla="val 75648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玩的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14200" y="3500280"/>
            <a:ext cx="1857600" cy="1571760"/>
          </a:xfrm>
          <a:prstGeom prst="wedgeRectCallout">
            <a:avLst>
              <a:gd name="adj1" fmla="val 74064"/>
              <a:gd name="adj2" fmla="val -68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畫說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搜查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5572080" y="5214960"/>
            <a:ext cx="1663920" cy="1447920"/>
          </a:xfrm>
          <a:prstGeom prst="wedgeRectCallout">
            <a:avLst>
              <a:gd name="adj1" fmla="val -27472"/>
              <a:gd name="adj2" fmla="val -6719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暖身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一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跑帶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健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2571840" y="1143000"/>
            <a:ext cx="2286000" cy="1440000"/>
          </a:xfrm>
          <a:prstGeom prst="wedgeRectCallout">
            <a:avLst>
              <a:gd name="adj1" fmla="val -30259"/>
              <a:gd name="adj2" fmla="val 76115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看圖說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我是小書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童詩創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5643720" y="3000240"/>
            <a:ext cx="1600200" cy="4287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遊樂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7" name="AutoShape 17"/>
          <p:cNvGrpSpPr/>
          <p:nvPr/>
        </p:nvGrpSpPr>
        <p:grpSpPr>
          <a:xfrm>
            <a:off x="6407280" y="1054080"/>
            <a:ext cx="2328840" cy="1897200"/>
            <a:chOff x="6407280" y="1054080"/>
            <a:chExt cx="2328840" cy="1897200"/>
          </a:xfrm>
        </p:grpSpPr>
        <p:pic>
          <p:nvPicPr>
            <p:cNvPr id="338" name="AutoShape 17" descr=""/>
            <p:cNvPicPr/>
            <p:nvPr/>
          </p:nvPicPr>
          <p:blipFill>
            <a:blip r:embed="rId1"/>
            <a:stretch/>
          </p:blipFill>
          <p:spPr>
            <a:xfrm>
              <a:off x="6407280" y="1054080"/>
              <a:ext cx="23288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29240" y="1071720"/>
              <a:ext cx="22860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誰把大海變髒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與海洋有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﹕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環境、鄉土、語文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0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1643040" y="5214960"/>
            <a:ext cx="2928960" cy="1428840"/>
          </a:xfrm>
          <a:prstGeom prst="wedgeRectCallout">
            <a:avLst>
              <a:gd name="adj1" fmla="val -15037"/>
              <a:gd name="adj2" fmla="val -68652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春天嘉年華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和植物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愛的卡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7429680" y="3429000"/>
            <a:ext cx="1520640" cy="2000160"/>
          </a:xfrm>
          <a:prstGeom prst="wedgeRectCallout">
            <a:avLst>
              <a:gd name="adj1" fmla="val -74439"/>
              <a:gd name="adj2" fmla="val -26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請你跟我這樣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闖關活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大家來猜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57120" y="785880"/>
          <a:ext cx="8175600" cy="553716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5120"/>
                <a:gridCol w="2333880"/>
                <a:gridCol w="9363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60336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迎新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教師節慶祝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歲末聯歡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法治教育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、健康促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口腔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國防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防災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及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新生輔導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、節慶活動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主學習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3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SuperXP</cp:lastModifiedBy>
  <dcterms:modified xsi:type="dcterms:W3CDTF">2014-07-25T04:04:50Z</dcterms:modified>
  <cp:revision>126</cp:revision>
  <dc:subject/>
  <dc:title>投影片 1</dc:title>
</cp:coreProperties>
</file>