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2.jpeg" ContentType="image/jpeg"/>
  <Override PartName="/ppt/media/image3.gif" ContentType="image/gif"/>
  <Override PartName="/ppt/media/image4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DA45-D2D9-42B1-BE26-76CDCB55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3E9-B6EB-4B3E-B028-B94F51744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7679-6A68-4EE3-98DE-9D2108FE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6054-4F39-43D1-B5BC-D27786C2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2F3-9D55-4525-A571-7CD33E63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268-E916-4835-AF07-F36DFA90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876D-598C-4E8F-8B45-3C979AA2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3AF-CE00-4ACE-BB12-6D461E50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1CA7-876E-4D66-A473-ED129202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D60A-FCA2-442C-9622-911243D6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DCAC-ED09-40D7-B1B3-3176167D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984-470B-4154-9699-2CE8DC96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ADF-40FF-49EA-93F4-EC62B1CB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3B5-4AF2-4C18-AAEF-03605C98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653-5BBB-474A-982B-B36A6D35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7D3B-AA3E-45B8-9DC7-1B6E8556B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0CD9-8BB5-45AE-9190-F544060C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FA8-8E61-4AF3-81CF-8CC4A24D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56B-C274-42F3-B85C-034907A4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512-56A7-45F2-975C-35A0281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0EA-C874-42D7-A3ED-9005E9DF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C02-D56D-4879-BEF5-CD48B5C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1DC-455C-454F-9E78-8963D7A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81E-2058-4AF0-997A-D29708A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045-6FB2-423B-96C0-1599A8C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7F5-5C8F-4F68-9633-998F9F0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48A-FDED-436E-A013-0ABA8D1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F67-97DC-4ACA-B3F0-3319E4F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A0A-FE86-4745-9494-FB8B241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48C7-DC47-43BA-BD6A-56F853EDC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7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hyperlink" Target="http://life.edu.tw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7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3284640"/>
            <a:ext cx="864216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東信國小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四年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79280" y="5157720"/>
            <a:ext cx="86425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0066"/>
                </a:solidFill>
                <a:latin typeface="Arial"/>
                <a:ea typeface="標楷體"/>
              </a:rPr>
              <a:t>課程計畫簡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-252360" y="333360"/>
            <a:ext cx="75452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3300"/>
                </a:solidFill>
                <a:latin typeface="Arial"/>
                <a:ea typeface="標楷體"/>
              </a:rPr>
              <a:t> </a:t>
            </a:r>
            <a:r>
              <a:rPr b="1" lang="zh-TW" sz="4800" spc="-1" strike="noStrike">
                <a:solidFill>
                  <a:srgbClr val="cc3300"/>
                </a:solidFill>
                <a:latin typeface="標楷體"/>
                <a:ea typeface="標楷體"/>
              </a:rPr>
              <a:t>『東信閱讀通』設計課程計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1" descr="2690113_102356015_2"/>
          <p:cNvPicPr/>
          <p:nvPr/>
        </p:nvPicPr>
        <p:blipFill>
          <a:blip r:embed="rId2"/>
          <a:stretch/>
        </p:blipFill>
        <p:spPr>
          <a:xfrm>
            <a:off x="468360" y="1484280"/>
            <a:ext cx="466560" cy="4683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0"/>
          <p:cNvSpPr/>
          <p:nvPr/>
        </p:nvSpPr>
        <p:spPr>
          <a:xfrm>
            <a:off x="826920" y="1484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壹、課程設計與實施：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年級全體老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826920" y="227664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0a0"/>
                </a:solidFill>
                <a:latin typeface="標楷體"/>
                <a:ea typeface="標楷體"/>
              </a:rPr>
              <a:t>貳、設計理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本學年學校本位閱讀課程之設計，是以融入九年一貫課程七大相關領域，並與多元智慧、重大議題及十大基本能力相結合，同時適當融入海洋教育，以期勉本學年之學生，再接受完此閱讀課程之後，不但能增進語文閱讀方面之能力，更能藉由主題統整學習之方式，了解其他相關領域之知識與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灑落葉"/>
          <p:cNvPicPr/>
          <p:nvPr/>
        </p:nvPicPr>
        <p:blipFill>
          <a:blip r:embed="rId3"/>
          <a:stretch/>
        </p:blipFill>
        <p:spPr>
          <a:xfrm>
            <a:off x="0" y="0"/>
            <a:ext cx="185256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1" descr="2690113_102356015_2"/>
          <p:cNvPicPr/>
          <p:nvPr/>
        </p:nvPicPr>
        <p:blipFill>
          <a:blip r:embed="rId4"/>
          <a:stretch/>
        </p:blipFill>
        <p:spPr>
          <a:xfrm>
            <a:off x="468360" y="2349360"/>
            <a:ext cx="4665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203056320"/>
          <p:cNvPicPr/>
          <p:nvPr/>
        </p:nvPicPr>
        <p:blipFill>
          <a:blip r:embed="rId2"/>
          <a:stretch/>
        </p:blipFill>
        <p:spPr>
          <a:xfrm>
            <a:off x="6108840" y="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85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3399"/>
                </a:solidFill>
                <a:latin typeface="標楷體"/>
                <a:ea typeface="標楷體"/>
              </a:rPr>
              <a:t>『東信閱讀通』</a:t>
            </a:r>
            <a:br>
              <a:rPr sz="4000"/>
            </a:br>
            <a:r>
              <a:rPr b="1" lang="zh-TW" sz="4000" spc="-1" strike="noStrike">
                <a:solidFill>
                  <a:srgbClr val="cc3399"/>
                </a:solidFill>
                <a:latin typeface="標楷體"/>
                <a:ea typeface="標楷體"/>
              </a:rPr>
              <a:t>學習活動說明與規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214e4d06b718"/>
          <p:cNvPicPr/>
          <p:nvPr/>
        </p:nvPicPr>
        <p:blipFill>
          <a:blip r:embed="rId3"/>
          <a:stretch/>
        </p:blipFill>
        <p:spPr>
          <a:xfrm>
            <a:off x="1187280" y="2781360"/>
            <a:ext cx="397080" cy="395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1"/>
          <p:cNvSpPr/>
          <p:nvPr/>
        </p:nvSpPr>
        <p:spPr>
          <a:xfrm>
            <a:off x="1547640" y="324324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214e4d06b718"/>
          <p:cNvPicPr/>
          <p:nvPr/>
        </p:nvPicPr>
        <p:blipFill>
          <a:blip r:embed="rId5"/>
          <a:stretch/>
        </p:blipFill>
        <p:spPr>
          <a:xfrm>
            <a:off x="7524720" y="278136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214e4d06b718"/>
          <p:cNvPicPr/>
          <p:nvPr/>
        </p:nvPicPr>
        <p:blipFill>
          <a:blip r:embed="rId6"/>
          <a:stretch/>
        </p:blipFill>
        <p:spPr>
          <a:xfrm>
            <a:off x="5435640" y="2781360"/>
            <a:ext cx="396720" cy="39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214e4d06b718"/>
          <p:cNvPicPr/>
          <p:nvPr/>
        </p:nvPicPr>
        <p:blipFill>
          <a:blip r:embed="rId7"/>
          <a:stretch/>
        </p:blipFill>
        <p:spPr>
          <a:xfrm>
            <a:off x="3276720" y="2781360"/>
            <a:ext cx="395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163" name="Organization Chart 3"/>
          <p:cNvGrpSpPr/>
          <p:nvPr/>
        </p:nvGrpSpPr>
        <p:grpSpPr>
          <a:xfrm>
            <a:off x="468360" y="1628640"/>
            <a:ext cx="8228880" cy="4524840"/>
            <a:chOff x="468360" y="1628640"/>
            <a:chExt cx="8228880" cy="4524840"/>
          </a:xfrm>
        </p:grpSpPr>
        <p:cxnSp>
          <p:nvCxnSpPr>
            <p:cNvPr id="164" name="_s2052"/>
            <p:cNvCxnSpPr>
              <a:stCxn id="165" idx="0"/>
              <a:endCxn id="166" idx="2"/>
            </p:cNvCxnSpPr>
            <p:nvPr/>
          </p:nvCxnSpPr>
          <p:spPr>
            <a:xfrm flipV="1">
              <a:off x="7783200" y="445608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3"/>
            <p:cNvCxnSpPr>
              <a:stCxn id="168" idx="0"/>
              <a:endCxn id="169" idx="2"/>
            </p:cNvCxnSpPr>
            <p:nvPr/>
          </p:nvCxnSpPr>
          <p:spPr>
            <a:xfrm flipV="1">
              <a:off x="5649840" y="445608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2054"/>
            <p:cNvCxnSpPr>
              <a:stCxn id="171" idx="0"/>
              <a:endCxn id="172" idx="2"/>
            </p:cNvCxnSpPr>
            <p:nvPr/>
          </p:nvCxnSpPr>
          <p:spPr>
            <a:xfrm flipV="1">
              <a:off x="3518280" y="4456080"/>
              <a:ext cx="252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2055"/>
            <p:cNvCxnSpPr>
              <a:stCxn id="174" idx="0"/>
              <a:endCxn id="175" idx="2"/>
            </p:cNvCxnSpPr>
            <p:nvPr/>
          </p:nvCxnSpPr>
          <p:spPr>
            <a:xfrm flipV="1">
              <a:off x="1382400" y="445608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6"/>
            <p:cNvCxnSpPr>
              <a:stCxn id="166" idx="0"/>
              <a:endCxn id="177" idx="2"/>
            </p:cNvCxnSpPr>
            <p:nvPr/>
          </p:nvCxnSpPr>
          <p:spPr>
            <a:xfrm flipV="1" rot="16200000">
              <a:off x="5899680" y="1441800"/>
              <a:ext cx="566280" cy="320076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7"/>
            <p:cNvCxnSpPr>
              <a:stCxn id="169" idx="0"/>
              <a:endCxn id="177" idx="2"/>
            </p:cNvCxnSpPr>
            <p:nvPr/>
          </p:nvCxnSpPr>
          <p:spPr>
            <a:xfrm flipV="1" rot="16200000">
              <a:off x="4833000" y="2508480"/>
              <a:ext cx="566280" cy="106704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2058"/>
            <p:cNvCxnSpPr>
              <a:stCxn id="172" idx="0"/>
              <a:endCxn id="177" idx="2"/>
            </p:cNvCxnSpPr>
            <p:nvPr/>
          </p:nvCxnSpPr>
          <p:spPr>
            <a:xfrm flipH="1" flipV="1" rot="5400000">
              <a:off x="3767760" y="2509560"/>
              <a:ext cx="566280" cy="106524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9"/>
            <p:cNvCxnSpPr>
              <a:stCxn id="175" idx="0"/>
              <a:endCxn id="177" idx="2"/>
            </p:cNvCxnSpPr>
            <p:nvPr/>
          </p:nvCxnSpPr>
          <p:spPr>
            <a:xfrm flipH="1" flipV="1" rot="5400000">
              <a:off x="2699640" y="1441800"/>
              <a:ext cx="566280" cy="320112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2060"/>
            <p:cNvSpPr/>
            <p:nvPr/>
          </p:nvSpPr>
          <p:spPr>
            <a:xfrm>
              <a:off x="3668760" y="162864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東信閱讀通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61"/>
            <p:cNvSpPr/>
            <p:nvPr/>
          </p:nvSpPr>
          <p:spPr>
            <a:xfrm>
              <a:off x="468360" y="33253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爸爸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f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暑假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2"/>
            <p:cNvSpPr/>
            <p:nvPr/>
          </p:nvSpPr>
          <p:spPr>
            <a:xfrm>
              <a:off x="2601720" y="33253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草莓心事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3"/>
            <p:cNvSpPr/>
            <p:nvPr/>
          </p:nvSpPr>
          <p:spPr>
            <a:xfrm>
              <a:off x="4735440" y="33253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好一個吵架天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064"/>
            <p:cNvSpPr/>
            <p:nvPr/>
          </p:nvSpPr>
          <p:spPr>
            <a:xfrm>
              <a:off x="6868800" y="33253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愛心樹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5"/>
            <p:cNvSpPr/>
            <p:nvPr/>
          </p:nvSpPr>
          <p:spPr>
            <a:xfrm>
              <a:off x="468360" y="502236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生 命 教 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6"/>
            <p:cNvSpPr/>
            <p:nvPr/>
          </p:nvSpPr>
          <p:spPr>
            <a:xfrm>
              <a:off x="2601720" y="502236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性 別 教 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7"/>
            <p:cNvSpPr/>
            <p:nvPr/>
          </p:nvSpPr>
          <p:spPr>
            <a:xfrm>
              <a:off x="4735440" y="502236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情 緒 教 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068"/>
            <p:cNvSpPr/>
            <p:nvPr/>
          </p:nvSpPr>
          <p:spPr>
            <a:xfrm>
              <a:off x="6868800" y="502236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自我認同教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1341360"/>
          <a:ext cx="8424720" cy="4629240"/>
        </p:xfrm>
        <a:graphic>
          <a:graphicData uri="http://schemas.openxmlformats.org/drawingml/2006/table">
            <a:tbl>
              <a:tblPr/>
              <a:tblGrid>
                <a:gridCol w="482760"/>
                <a:gridCol w="485640"/>
                <a:gridCol w="808200"/>
                <a:gridCol w="1236600"/>
                <a:gridCol w="2914560"/>
                <a:gridCol w="1338120"/>
                <a:gridCol w="115884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138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之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爸爸</a:t>
                      </a: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暑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好書報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「爸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暑假」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並撰寫閱讀心得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藉由學習單及報告，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會安排假期生活，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增進家人之間情感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製作小卡並心情分享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寫作評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作品發表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與口頭報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1268280"/>
          <a:ext cx="7962840" cy="5348520"/>
        </p:xfrm>
        <a:graphic>
          <a:graphicData uri="http://schemas.openxmlformats.org/drawingml/2006/table">
            <a:tbl>
              <a:tblPr/>
              <a:tblGrid>
                <a:gridCol w="345960"/>
                <a:gridCol w="347760"/>
                <a:gridCol w="577800"/>
                <a:gridCol w="1595520"/>
                <a:gridCol w="1549440"/>
                <a:gridCol w="1671480"/>
                <a:gridCol w="187488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034720"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命之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爸爸</a:t>
                      </a: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f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暑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付出你的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為家人做一件事，體驗家人的辛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人權法治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真正幫忙家人並說明其過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我們都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家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製作相框，放進全家人的照片並與大家分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品發表與欣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生命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1341360"/>
          <a:ext cx="7554600" cy="4695840"/>
        </p:xfrm>
        <a:graphic>
          <a:graphicData uri="http://schemas.openxmlformats.org/drawingml/2006/table">
            <a:tbl>
              <a:tblPr/>
              <a:tblGrid>
                <a:gridCol w="439560"/>
                <a:gridCol w="441360"/>
                <a:gridCol w="733320"/>
                <a:gridCol w="1339920"/>
                <a:gridCol w="2325600"/>
                <a:gridCol w="1366920"/>
                <a:gridCol w="90792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804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之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爸爸</a:t>
                      </a: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暑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為你點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一盞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網為親友點燈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祈福（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標楷體"/>
                          <a:ea typeface="標楷體"/>
                          <a:hlinkClick r:id="rId3"/>
                        </a:rPr>
                        <a:t>http://Life.edu.tw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網站上留言，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祝福親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實際操作電腦上網並留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性別教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1280" y="1328760"/>
          <a:ext cx="8310600" cy="4714920"/>
        </p:xfrm>
        <a:graphic>
          <a:graphicData uri="http://schemas.openxmlformats.org/drawingml/2006/table">
            <a:tbl>
              <a:tblPr/>
              <a:tblGrid>
                <a:gridCol w="539640"/>
                <a:gridCol w="578160"/>
                <a:gridCol w="634680"/>
                <a:gridCol w="1187640"/>
                <a:gridCol w="2446200"/>
                <a:gridCol w="1874880"/>
                <a:gridCol w="1049400"/>
              </a:tblGrid>
              <a:tr h="131544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948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她的心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草莓心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男生女生一樣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108000">
                        <a:lnSpc>
                          <a:spcPct val="13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討論「當男好、當女生好、當男生女生一樣好」，讓學生體認男女生的個別差異，並學習互相尊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侵害防治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性別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79600" y="1087560"/>
          <a:ext cx="7808760" cy="5260680"/>
        </p:xfrm>
        <a:graphic>
          <a:graphicData uri="http://schemas.openxmlformats.org/drawingml/2006/table">
            <a:tbl>
              <a:tblPr/>
              <a:tblGrid>
                <a:gridCol w="473040"/>
                <a:gridCol w="404640"/>
                <a:gridCol w="442800"/>
                <a:gridCol w="1524240"/>
                <a:gridCol w="1906560"/>
                <a:gridCol w="1757160"/>
                <a:gridCol w="1300320"/>
              </a:tblGrid>
              <a:tr h="131544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44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她的心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 別 教 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草莓心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興趣大不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討論數項休閒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活動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統計各項活動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男女人數各有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多少人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統計圖中，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發現休閒運動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並不限於單一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性別才能參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數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條圖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繪製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守護小天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暗中協助關心同學，進而養成主動關懷他人的習慣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參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與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907920"/>
          <a:ext cx="8386560" cy="565020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803520"/>
                <a:gridCol w="1461960"/>
                <a:gridCol w="2454120"/>
                <a:gridCol w="1862280"/>
                <a:gridCol w="84132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6638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你我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好一個吵架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家為什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麼生氣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由教師帶頭導讀繪本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，大致說明整本書的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容，接著讓學生自行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閱讀繪本，並且將內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容中各個人物生氣的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原因，分別寫在自己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的小卡片上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師透過問題與討論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的方式，讓學生了解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書中人物相處方式的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不佳。接著讓學生分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別發表自己生活經驗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中，與書中人物生氣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吵架相類似的例子，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以讓學生了解，情緒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控制在我們日常生活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中的重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情緒管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讀書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卡片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30200" y="1243080"/>
          <a:ext cx="8067600" cy="5187960"/>
        </p:xfrm>
        <a:graphic>
          <a:graphicData uri="http://schemas.openxmlformats.org/drawingml/2006/table">
            <a:tbl>
              <a:tblPr/>
              <a:tblGrid>
                <a:gridCol w="426960"/>
                <a:gridCol w="425520"/>
                <a:gridCol w="709560"/>
                <a:gridCol w="1220760"/>
                <a:gridCol w="2335320"/>
                <a:gridCol w="1776240"/>
                <a:gridCol w="117324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87252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你我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好一個吵架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的滋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角色扮演─讓學生分組且每人輪流扮演書中各個角色的方式，分別演出各組自己「好一個吵架天」的短劇。透過扮演每一個角色，讓學生明白被別人發脾氣的難受進而了解控制自己情緒的重要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參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與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表演技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巧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情緒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1125360"/>
          <a:ext cx="8358120" cy="5564520"/>
        </p:xfrm>
        <a:graphic>
          <a:graphicData uri="http://schemas.openxmlformats.org/drawingml/2006/table">
            <a:tbl>
              <a:tblPr/>
              <a:tblGrid>
                <a:gridCol w="479160"/>
                <a:gridCol w="482760"/>
                <a:gridCol w="799920"/>
                <a:gridCol w="1266840"/>
                <a:gridCol w="2872080"/>
                <a:gridCol w="1528560"/>
                <a:gridCol w="928800"/>
              </a:tblGrid>
              <a:tr h="131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4908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你我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標楷體"/>
                          <a:ea typeface="標楷體"/>
                        </a:rPr>
                        <a:t>好一個吵架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束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吵架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利用《好一個吵架天》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中─「每個人生氣原因」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的讀書卡片，讓學生分別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寫下如何讓此生氣原因消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失的行為辦法，並且請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分別發表，讓大家知道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如何結束吵架天的情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透過問題與討論的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式，請孩子說說合理的情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緒發洩管道，並說明如何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向別人道歉的方法。並且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學生發表如何定出團體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的制度，以避免任何人成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為別人情緒發洩的對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權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壓力調適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寫作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與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7680" y="349992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800" spc="-1" strike="noStrike">
                <a:solidFill>
                  <a:srgbClr val="660066"/>
                </a:solidFill>
                <a:latin typeface="Arial"/>
                <a:ea typeface="標楷體"/>
              </a:rPr>
              <a:t>大綱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64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2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b050"/>
                </a:solidFill>
                <a:latin typeface="標楷體"/>
                <a:ea typeface="標楷體"/>
              </a:rPr>
              <a:t>貳、彈性時間規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2214720"/>
            <a:ext cx="8858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24000" y="1197000"/>
            <a:ext cx="807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68360" y="126828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壹、學校本位課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95240" y="1585800"/>
          <a:ext cx="7547040" cy="4443480"/>
        </p:xfrm>
        <a:graphic>
          <a:graphicData uri="http://schemas.openxmlformats.org/drawingml/2006/table">
            <a:tbl>
              <a:tblPr/>
              <a:tblGrid>
                <a:gridCol w="519120"/>
                <a:gridCol w="471600"/>
                <a:gridCol w="685800"/>
                <a:gridCol w="1243080"/>
                <a:gridCol w="2154240"/>
                <a:gridCol w="1433520"/>
                <a:gridCol w="103968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1280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繪本導讀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《愛心樹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從書名與封面設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計想到什麼？想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要從書上獲得什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麼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瞭解書的內容大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要與風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建立讀 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本書的概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  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  參與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  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14360" y="1370160"/>
          <a:ext cx="8215200" cy="4906800"/>
        </p:xfrm>
        <a:graphic>
          <a:graphicData uri="http://schemas.openxmlformats.org/drawingml/2006/table">
            <a:tbl>
              <a:tblPr/>
              <a:tblGrid>
                <a:gridCol w="701640"/>
                <a:gridCol w="612720"/>
                <a:gridCol w="581040"/>
                <a:gridCol w="1093680"/>
                <a:gridCol w="2781360"/>
                <a:gridCol w="1609920"/>
                <a:gridCol w="83484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59136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故事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接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先讓孩子閱讀書中的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一段落章節，或老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師先講故事的開頭，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孩子們根據書的封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面設計、書名與自我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的想像，接龍出故事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的結局。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再讓學生把故事看完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並將書中的故事與他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們編的故事加以比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藝術與人 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參與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ea13d8430552"/>
          <p:cNvPicPr/>
          <p:nvPr/>
        </p:nvPicPr>
        <p:blipFill>
          <a:blip r:embed="rId2"/>
          <a:stretch/>
        </p:blipFill>
        <p:spPr>
          <a:xfrm>
            <a:off x="5508720" y="3645000"/>
            <a:ext cx="3846240" cy="3522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東信閱讀通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自我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14520" y="1014480"/>
          <a:ext cx="7827840" cy="5543640"/>
        </p:xfrm>
        <a:graphic>
          <a:graphicData uri="http://schemas.openxmlformats.org/drawingml/2006/table">
            <a:tbl>
              <a:tblPr/>
              <a:tblGrid>
                <a:gridCol w="411120"/>
                <a:gridCol w="444240"/>
                <a:gridCol w="536760"/>
                <a:gridCol w="1193760"/>
                <a:gridCol w="3054240"/>
                <a:gridCol w="1403640"/>
                <a:gridCol w="784080"/>
              </a:tblGrid>
              <a:tr h="14558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08780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大進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樹是上天賜給人類珍貴的禮物，它帶給人類的益處還真不少呢！樹與人類的生活是如此息息相關。在書中，愛心樹扮演的是「施」的角色，男孩扮演的是「受」的角色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在日常生活中，比較像</a:t>
                      </a:r>
                      <a:br>
                        <a:rPr sz="1900"/>
                      </a:b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愛心樹還是男孩？為什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喜歡這樣的自己嗎？如</a:t>
                      </a:r>
                      <a:br>
                        <a:rPr sz="1900"/>
                      </a:b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果不喜歡，你想要怎麼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</a:t>
                      </a: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變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如果你是書中的愛心樹或</a:t>
                      </a:r>
                      <a:br>
                        <a:rPr sz="1900"/>
                      </a:b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男孩，你是否有其他更好</a:t>
                      </a:r>
                      <a:br>
                        <a:rPr sz="1900"/>
                      </a:br>
                      <a:r>
                        <a:rPr b="0" lang="zh-TW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的做法呢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（生命教育）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參與</a:t>
                      </a: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學校本位特色課程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『繩采飛揚』設計課程計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rope-010"/>
          <p:cNvPicPr/>
          <p:nvPr/>
        </p:nvPicPr>
        <p:blipFill>
          <a:blip r:embed="rId2"/>
          <a:stretch/>
        </p:blipFill>
        <p:spPr>
          <a:xfrm>
            <a:off x="2340000" y="1268280"/>
            <a:ext cx="439272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內容版面配置區 2"/>
          <p:cNvSpPr/>
          <p:nvPr/>
        </p:nvSpPr>
        <p:spPr>
          <a:xfrm>
            <a:off x="539640" y="1628640"/>
            <a:ext cx="82915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壹、課程設計與實施：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年級全體老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b050"/>
                </a:solidFill>
                <a:latin typeface="標楷體"/>
                <a:ea typeface="標楷體"/>
              </a:rPr>
              <a:t>貳、設計理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東信向來以扯鈴、跳繩的民俗體育名聞全市。當然，東信的孩子更應「人手一繩，快樂無窮」才是。況且，跳繩更是不花大錢、不限場地、不限人數就能盡其在我的娛樂。它不僅能健身又能藉多變的花樣而獲得成就感，如此快哉！何樂而不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參、學習目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能透過跳繩運動，有效改善體適能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認知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能利用課餘時間主動參與跳繩等運動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認知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會運用繩子做單人的跳繩動作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技能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能與同伴合作，和諧的完成動作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情意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認真學習並注意自身與他人的安全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情意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6" descr="R1"/>
          <p:cNvPicPr/>
          <p:nvPr/>
        </p:nvPicPr>
        <p:blipFill>
          <a:blip r:embed="rId3"/>
          <a:stretch/>
        </p:blipFill>
        <p:spPr>
          <a:xfrm>
            <a:off x="0" y="1628640"/>
            <a:ext cx="53352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6" descr="R1"/>
          <p:cNvPicPr/>
          <p:nvPr/>
        </p:nvPicPr>
        <p:blipFill>
          <a:blip r:embed="rId4"/>
          <a:stretch/>
        </p:blipFill>
        <p:spPr>
          <a:xfrm>
            <a:off x="0" y="2276640"/>
            <a:ext cx="533520" cy="61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6" descr="R1"/>
          <p:cNvPicPr/>
          <p:nvPr/>
        </p:nvPicPr>
        <p:blipFill>
          <a:blip r:embed="rId5"/>
          <a:stretch/>
        </p:blipFill>
        <p:spPr>
          <a:xfrm>
            <a:off x="0" y="4221000"/>
            <a:ext cx="5335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『繩采飛揚』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設計架構圖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7" descr="R1"/>
          <p:cNvPicPr/>
          <p:nvPr/>
        </p:nvPicPr>
        <p:blipFill>
          <a:blip r:embed="rId2"/>
          <a:stretch/>
        </p:blipFill>
        <p:spPr>
          <a:xfrm>
            <a:off x="4356000" y="2708280"/>
            <a:ext cx="53352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8" descr="R1"/>
          <p:cNvPicPr/>
          <p:nvPr/>
        </p:nvPicPr>
        <p:blipFill>
          <a:blip r:embed="rId3"/>
          <a:stretch/>
        </p:blipFill>
        <p:spPr>
          <a:xfrm>
            <a:off x="4356000" y="4508640"/>
            <a:ext cx="533520" cy="6188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4"/>
          <p:cNvSpPr/>
          <p:nvPr/>
        </p:nvSpPr>
        <p:spPr>
          <a:xfrm>
            <a:off x="395280" y="981000"/>
            <a:ext cx="370188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</a:rPr>
              <a:t>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遊戲名稱：搖搖擺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四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站在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繩者將繩子左右擺盪，跳躍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原地跳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下，並加上跨腳停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3-1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95280" y="4005360"/>
            <a:ext cx="366228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遊戲名稱：繩氣十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四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繩者將繩子左右擺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繩者將繩子搖起，跳躍者能隨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奏跳躍，並於節奏完畢出繩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6-1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6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5148360" y="981000"/>
            <a:ext cx="3622680" cy="27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遊戲名稱：跳跳唱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四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繩者將繩子左右擺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能隨節奏跳躍，並加上跨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腳停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-1-2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1-4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5148360" y="4005360"/>
            <a:ext cx="3624120" cy="26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       </a:t>
            </a:r>
            <a:r>
              <a:rPr b="0" lang="zh-TW" sz="1800" spc="-1" strike="noStrike">
                <a:solidFill>
                  <a:srgbClr val="7030a0"/>
                </a:solidFill>
                <a:latin typeface="標楷體"/>
                <a:ea typeface="標楷體"/>
              </a:rPr>
              <a:t>遊戲名稱：時光隧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四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繩者將繩子搖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跳躍者能隨節奏跳躍，並於節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完畢出繩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能力指標：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4-3-5</a:t>
            </a:r>
            <a:r>
              <a:rPr b="0" lang="zh-TW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b050"/>
                </a:solidFill>
                <a:latin typeface="標楷體"/>
                <a:ea typeface="標楷體"/>
              </a:rPr>
              <a:t>5-1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3780000" y="3284640"/>
            <a:ext cx="16556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繩采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rope-010"/>
          <p:cNvPicPr/>
          <p:nvPr/>
        </p:nvPicPr>
        <p:blipFill>
          <a:blip r:embed="rId4"/>
          <a:stretch/>
        </p:blipFill>
        <p:spPr>
          <a:xfrm>
            <a:off x="2340000" y="6426360"/>
            <a:ext cx="43927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4360" y="270792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0066"/>
                </a:solidFill>
                <a:latin typeface="標楷體"/>
                <a:ea typeface="標楷體"/>
              </a:rPr>
              <a:t>兩隻老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0066"/>
                </a:solidFill>
                <a:latin typeface="標楷體"/>
                <a:ea typeface="標楷體"/>
              </a:rPr>
              <a:t> </a:t>
            </a:r>
            <a:r>
              <a:rPr b="0" lang="zh-TW" sz="6000" spc="-1" strike="noStrike">
                <a:solidFill>
                  <a:srgbClr val="cc0066"/>
                </a:solidFill>
                <a:latin typeface="標楷體"/>
                <a:ea typeface="標楷體"/>
              </a:rPr>
              <a:t>祝福大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0066"/>
                </a:solidFill>
                <a:latin typeface="標楷體"/>
                <a:ea typeface="標楷體"/>
              </a:rPr>
              <a:t>   </a:t>
            </a:r>
            <a:r>
              <a:rPr b="0" lang="zh-TW" sz="6000" spc="-1" strike="noStrike">
                <a:solidFill>
                  <a:srgbClr val="cc0066"/>
                </a:solidFill>
                <a:latin typeface="標楷體"/>
                <a:ea typeface="標楷體"/>
              </a:rPr>
              <a:t>教學順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258920" y="1890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99"/>
                </a:solidFill>
                <a:latin typeface="標楷體"/>
                <a:ea typeface="標楷體"/>
              </a:rPr>
              <a:t>報告完畢</a:t>
            </a:r>
            <a:br>
              <a:rPr sz="6000"/>
            </a:br>
            <a:r>
              <a:rPr b="0" lang="zh-TW" sz="6000" spc="-1" strike="noStrike">
                <a:solidFill>
                  <a:srgbClr val="000099"/>
                </a:solidFill>
                <a:latin typeface="標楷體"/>
                <a:ea typeface="標楷體"/>
              </a:rPr>
              <a:t>       謝謝聆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>
            <a:alpha val="1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1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壹、學校本位課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"/>
          <p:cNvGrpSpPr/>
          <p:nvPr/>
        </p:nvGrpSpPr>
        <p:grpSpPr>
          <a:xfrm>
            <a:off x="928800" y="1414440"/>
            <a:ext cx="7086240" cy="5132520"/>
            <a:chOff x="928800" y="1414440"/>
            <a:chExt cx="7086240" cy="5132520"/>
          </a:xfrm>
        </p:grpSpPr>
        <p:sp>
          <p:nvSpPr>
            <p:cNvPr id="57" name="AutoShape 3"/>
            <p:cNvSpPr/>
            <p:nvPr/>
          </p:nvSpPr>
          <p:spPr>
            <a:xfrm>
              <a:off x="928800" y="1429200"/>
              <a:ext cx="7071840" cy="5117760"/>
            </a:xfrm>
            <a:prstGeom prst="hexagon">
              <a:avLst>
                <a:gd name="adj" fmla="val 34546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4"/>
            <p:cNvSpPr/>
            <p:nvPr/>
          </p:nvSpPr>
          <p:spPr>
            <a:xfrm>
              <a:off x="2597040" y="2505960"/>
              <a:ext cx="3621960" cy="31222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2679480" y="1414440"/>
              <a:ext cx="3595680" cy="51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2652840" y="1414440"/>
              <a:ext cx="3528720" cy="51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943200" y="3970800"/>
              <a:ext cx="707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3516120" y="3254040"/>
              <a:ext cx="1896840" cy="156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3916440" y="3491640"/>
              <a:ext cx="15940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東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樂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"/>
            <p:cNvSpPr/>
            <p:nvPr/>
          </p:nvSpPr>
          <p:spPr>
            <a:xfrm>
              <a:off x="4033080" y="2472840"/>
              <a:ext cx="835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5240520" y="2941560"/>
              <a:ext cx="795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388840" y="4033800"/>
              <a:ext cx="9388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3948120" y="4815000"/>
              <a:ext cx="111240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Calibri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2825640" y="4033800"/>
              <a:ext cx="8751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cademy Engraved LET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2915640" y="2999160"/>
              <a:ext cx="8751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cademy Engraved LET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4075560" y="1504440"/>
              <a:ext cx="144540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快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5931360" y="2317680"/>
              <a:ext cx="1271880" cy="11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話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6208200" y="4313880"/>
              <a:ext cx="1366560" cy="11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3822840" y="5578560"/>
              <a:ext cx="13860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</a:rPr>
                <a:t>動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0"/>
            <p:cNvSpPr/>
            <p:nvPr/>
          </p:nvSpPr>
          <p:spPr>
            <a:xfrm>
              <a:off x="1960920" y="2323440"/>
              <a:ext cx="116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深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1756800" y="4345920"/>
              <a:ext cx="1360800" cy="11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彩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5"/>
          <p:cNvSpPr/>
          <p:nvPr/>
        </p:nvSpPr>
        <p:spPr>
          <a:xfrm>
            <a:off x="1908000" y="836640"/>
            <a:ext cx="538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Arial"/>
              </a:rPr>
              <a:t>東信樂園橫向主題統整架構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站牌"/>
          <p:cNvPicPr/>
          <p:nvPr/>
        </p:nvPicPr>
        <p:blipFill>
          <a:blip r:embed="rId1"/>
          <a:stretch/>
        </p:blipFill>
        <p:spPr>
          <a:xfrm>
            <a:off x="0" y="0"/>
            <a:ext cx="1332000" cy="185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種子"/>
          <p:cNvPicPr/>
          <p:nvPr/>
        </p:nvPicPr>
        <p:blipFill>
          <a:blip r:embed="rId2"/>
          <a:stretch/>
        </p:blipFill>
        <p:spPr>
          <a:xfrm>
            <a:off x="7596360" y="4794120"/>
            <a:ext cx="1547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0" y="0"/>
            <a:ext cx="93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上「東信樂園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動感東信」主題統整架構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眨眼寶寶"/>
          <p:cNvPicPr/>
          <p:nvPr/>
        </p:nvPicPr>
        <p:blipFill>
          <a:blip r:embed="rId2"/>
          <a:stretch/>
        </p:blipFill>
        <p:spPr>
          <a:xfrm>
            <a:off x="0" y="0"/>
            <a:ext cx="77796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6840" y="2997000"/>
            <a:ext cx="1522440" cy="3128760"/>
          </a:xfrm>
          <a:prstGeom prst="rect">
            <a:avLst/>
          </a:prstGeom>
          <a:ln w="0">
            <a:noFill/>
          </a:ln>
        </p:spPr>
      </p:pic>
      <p:grpSp>
        <p:nvGrpSpPr>
          <p:cNvPr id="82" name="群組 15"/>
          <p:cNvGrpSpPr/>
          <p:nvPr/>
        </p:nvGrpSpPr>
        <p:grpSpPr>
          <a:xfrm>
            <a:off x="179280" y="1125360"/>
            <a:ext cx="8731440" cy="5419800"/>
            <a:chOff x="179280" y="1125360"/>
            <a:chExt cx="8731440" cy="5419800"/>
          </a:xfrm>
        </p:grpSpPr>
        <p:sp>
          <p:nvSpPr>
            <p:cNvPr id="83" name="AutoShape 4"/>
            <p:cNvSpPr/>
            <p:nvPr/>
          </p:nvSpPr>
          <p:spPr>
            <a:xfrm>
              <a:off x="3350520" y="2686320"/>
              <a:ext cx="2057760" cy="201924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動感東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3493080" y="1967400"/>
              <a:ext cx="1803960" cy="71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標楷體"/>
                </a:rPr>
                <a:t>大家一起動一動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>
              <a:off x="1835280" y="4149360"/>
              <a:ext cx="1730520" cy="593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環境細觀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5150880" y="4257000"/>
              <a:ext cx="1600200" cy="593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成長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‧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乘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破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7196040" y="1848600"/>
              <a:ext cx="1714680" cy="1442520"/>
            </a:xfrm>
            <a:prstGeom prst="wedgeRectCallout">
              <a:avLst>
                <a:gd name="adj1" fmla="val -149814"/>
                <a:gd name="adj2" fmla="val 1692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與繩共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橫掃千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健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健康促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613080" y="1488240"/>
              <a:ext cx="2627640" cy="1271880"/>
            </a:xfrm>
            <a:prstGeom prst="wedgeRectCallout">
              <a:avLst>
                <a:gd name="adj1" fmla="val 56888"/>
                <a:gd name="adj2" fmla="val 2457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社區小志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校園服務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﹕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綜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人權法治、防災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0"/>
            <p:cNvSpPr/>
            <p:nvPr/>
          </p:nvSpPr>
          <p:spPr>
            <a:xfrm>
              <a:off x="371160" y="4923000"/>
              <a:ext cx="1486440" cy="1293480"/>
            </a:xfrm>
            <a:prstGeom prst="wedgeRectCallout">
              <a:avLst>
                <a:gd name="adj1" fmla="val 45467"/>
                <a:gd name="adj2" fmla="val -8183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山和海的書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語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海洋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1"/>
            <p:cNvSpPr/>
            <p:nvPr/>
          </p:nvSpPr>
          <p:spPr>
            <a:xfrm>
              <a:off x="179280" y="2853360"/>
              <a:ext cx="1760760" cy="1280160"/>
            </a:xfrm>
            <a:prstGeom prst="wedgeRectCallout">
              <a:avLst>
                <a:gd name="adj1" fmla="val 42699"/>
                <a:gd name="adj2" fmla="val 6819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善變的月姑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自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生命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2"/>
            <p:cNvSpPr/>
            <p:nvPr/>
          </p:nvSpPr>
          <p:spPr>
            <a:xfrm>
              <a:off x="7194600" y="3425400"/>
              <a:ext cx="1714680" cy="1067400"/>
            </a:xfrm>
            <a:prstGeom prst="wedgeRectCallout">
              <a:avLst>
                <a:gd name="adj1" fmla="val -55092"/>
                <a:gd name="adj2" fmla="val 7089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7030a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7030a0"/>
                  </a:solidFill>
                  <a:latin typeface="新細明體"/>
                </a:rPr>
                <a:t>歡度聯歡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綜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>
              <a:off x="6170400" y="5123160"/>
              <a:ext cx="1714680" cy="1306440"/>
            </a:xfrm>
            <a:prstGeom prst="wedgeRectCallout">
              <a:avLst>
                <a:gd name="adj1" fmla="val -37481"/>
                <a:gd name="adj2" fmla="val -694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只要我長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模仿海底動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藝文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4"/>
            <p:cNvSpPr/>
            <p:nvPr/>
          </p:nvSpPr>
          <p:spPr>
            <a:xfrm>
              <a:off x="5508000" y="1125360"/>
              <a:ext cx="1584000" cy="1071000"/>
            </a:xfrm>
            <a:prstGeom prst="wedgeRectCallout">
              <a:avLst>
                <a:gd name="adj1" fmla="val -64712"/>
                <a:gd name="adj2" fmla="val 31319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理財小高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數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>
              <a:off x="1967400" y="5199120"/>
              <a:ext cx="1715400" cy="1346040"/>
            </a:xfrm>
            <a:prstGeom prst="wedgeRectCallout">
              <a:avLst>
                <a:gd name="adj1" fmla="val -31597"/>
                <a:gd name="adj2" fmla="val -8210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小小出版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新細明體"/>
                </a:rPr>
                <a:t>〜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我的奇妙探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藝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家庭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3995280" y="5230440"/>
              <a:ext cx="1730520" cy="1176120"/>
            </a:xfrm>
            <a:prstGeom prst="wedgeRectCallout">
              <a:avLst>
                <a:gd name="adj1" fmla="val -66833"/>
                <a:gd name="adj2" fmla="val -930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家鄉的名勝古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社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國防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0" y="0"/>
            <a:ext cx="93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下「東信樂園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動感東信」主題統整架構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眨眼寶寶"/>
          <p:cNvPicPr/>
          <p:nvPr/>
        </p:nvPicPr>
        <p:blipFill>
          <a:blip r:embed="rId2"/>
          <a:stretch/>
        </p:blipFill>
        <p:spPr>
          <a:xfrm>
            <a:off x="0" y="0"/>
            <a:ext cx="77796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6840" y="2997000"/>
            <a:ext cx="1522440" cy="3128760"/>
          </a:xfrm>
          <a:prstGeom prst="rect">
            <a:avLst/>
          </a:prstGeom>
          <a:ln w="0">
            <a:noFill/>
          </a:ln>
        </p:spPr>
      </p:pic>
      <p:grpSp>
        <p:nvGrpSpPr>
          <p:cNvPr id="99" name="群組 29"/>
          <p:cNvGrpSpPr/>
          <p:nvPr/>
        </p:nvGrpSpPr>
        <p:grpSpPr>
          <a:xfrm>
            <a:off x="684360" y="1197000"/>
            <a:ext cx="8043840" cy="5300640"/>
            <a:chOff x="684360" y="1197000"/>
            <a:chExt cx="8043840" cy="5300640"/>
          </a:xfrm>
        </p:grpSpPr>
        <p:sp>
          <p:nvSpPr>
            <p:cNvPr id="100" name="AutoShape 4"/>
            <p:cNvSpPr/>
            <p:nvPr/>
          </p:nvSpPr>
          <p:spPr>
            <a:xfrm>
              <a:off x="3094560" y="2925000"/>
              <a:ext cx="2643120" cy="245916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動感東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3342240" y="2328120"/>
              <a:ext cx="1728000" cy="636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唱遊海洋印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1398240" y="4308120"/>
              <a:ext cx="1728000" cy="457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生活情報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7"/>
            <p:cNvSpPr/>
            <p:nvPr/>
          </p:nvSpPr>
          <p:spPr>
            <a:xfrm>
              <a:off x="5598360" y="4308120"/>
              <a:ext cx="1980720" cy="55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合作學習快樂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684360" y="1199880"/>
              <a:ext cx="1789560" cy="1200600"/>
            </a:xfrm>
            <a:prstGeom prst="wedgeRectCallout">
              <a:avLst>
                <a:gd name="adj1" fmla="val 94703"/>
                <a:gd name="adj2" fmla="val 4810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家鄉風情印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藝文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684360" y="5305320"/>
              <a:ext cx="1789560" cy="921240"/>
            </a:xfrm>
            <a:prstGeom prst="wedgeRectCallout">
              <a:avLst>
                <a:gd name="adj1" fmla="val 12356"/>
                <a:gd name="adj2" fmla="val -993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為民服務的機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社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1"/>
            <p:cNvSpPr/>
            <p:nvPr/>
          </p:nvSpPr>
          <p:spPr>
            <a:xfrm>
              <a:off x="898560" y="2821320"/>
              <a:ext cx="2271600" cy="1116000"/>
            </a:xfrm>
            <a:prstGeom prst="wedgeRectCallout">
              <a:avLst>
                <a:gd name="adj1" fmla="val -6300"/>
                <a:gd name="adj2" fmla="val 796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長度和方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數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2"/>
            <p:cNvSpPr/>
            <p:nvPr/>
          </p:nvSpPr>
          <p:spPr>
            <a:xfrm>
              <a:off x="6877080" y="2781000"/>
              <a:ext cx="1851120" cy="1158840"/>
            </a:xfrm>
            <a:prstGeom prst="wedgeRectCallout">
              <a:avLst>
                <a:gd name="adj1" fmla="val -92500"/>
                <a:gd name="adj2" fmla="val 7649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一起來跳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健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健康促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3"/>
            <p:cNvSpPr/>
            <p:nvPr/>
          </p:nvSpPr>
          <p:spPr>
            <a:xfrm>
              <a:off x="6434640" y="5267880"/>
              <a:ext cx="1830600" cy="1142640"/>
            </a:xfrm>
            <a:prstGeom prst="wedgeRectCallout">
              <a:avLst>
                <a:gd name="adj1" fmla="val -45240"/>
                <a:gd name="adj2" fmla="val -7913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一起做專題報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國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人權法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4"/>
            <p:cNvSpPr/>
            <p:nvPr/>
          </p:nvSpPr>
          <p:spPr>
            <a:xfrm>
              <a:off x="5580720" y="1197000"/>
              <a:ext cx="1604520" cy="1101240"/>
            </a:xfrm>
            <a:prstGeom prst="wedgeRectCallout">
              <a:avLst>
                <a:gd name="adj1" fmla="val -79805"/>
                <a:gd name="adj2" fmla="val 7192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水中生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自然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5"/>
            <p:cNvSpPr/>
            <p:nvPr/>
          </p:nvSpPr>
          <p:spPr>
            <a:xfrm>
              <a:off x="3173400" y="5475600"/>
              <a:ext cx="2274120" cy="1022040"/>
            </a:xfrm>
            <a:prstGeom prst="wedgeRectCallout">
              <a:avLst>
                <a:gd name="adj1" fmla="val -60212"/>
                <a:gd name="adj2" fmla="val -11273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天才小記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</a:t>
              </a:r>
              <a:r>
                <a:rPr b="0" lang="zh-TW" sz="1400" spc="-1" strike="noStrike">
                  <a:solidFill>
                    <a:srgbClr val="00b050"/>
                  </a:solidFill>
                  <a:latin typeface="Arial"/>
                </a:rPr>
                <a:t>綜合、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ff0000"/>
                  </a:solidFill>
                  <a:latin typeface="Arial"/>
                </a:rPr>
                <a:t>人權法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標楷體"/>
                <a:ea typeface="標楷體"/>
              </a:rPr>
              <a:t>「東信樂園」四上主題統整教學活動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321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99"/>
              </a:solidFill>
              <a:latin typeface="標楷體"/>
              <a:ea typeface="標楷體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13000"/>
          <a:ext cx="8447040" cy="4548240"/>
        </p:xfrm>
        <a:graphic>
          <a:graphicData uri="http://schemas.openxmlformats.org/drawingml/2006/table">
            <a:tbl>
              <a:tblPr/>
              <a:tblGrid>
                <a:gridCol w="1050840"/>
                <a:gridCol w="1395360"/>
                <a:gridCol w="3554280"/>
                <a:gridCol w="747720"/>
                <a:gridCol w="960480"/>
                <a:gridCol w="738360"/>
              </a:tblGrid>
              <a:tr h="7189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719280">
                <a:tc rowSpan="5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大家一起動一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理財小高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製做家庭收支表，並計算每月、每年食衣住行等各項花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N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N-2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與繩共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不同姿態參與各類的繩子遊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橫掃千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利用長繩來玩遊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區小志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透過社區服務活動，培養積極的服務精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5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校園服務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透過校園服務活動，建立積極的人生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071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標楷體"/>
                <a:ea typeface="標楷體"/>
              </a:rPr>
              <a:t>「東信樂園」四上主題統整教學活動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321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99"/>
              </a:solidFill>
              <a:latin typeface="標楷體"/>
              <a:ea typeface="標楷體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692280"/>
          <a:ext cx="8010720" cy="5929200"/>
        </p:xfrm>
        <a:graphic>
          <a:graphicData uri="http://schemas.openxmlformats.org/drawingml/2006/table">
            <a:tbl>
              <a:tblPr/>
              <a:tblGrid>
                <a:gridCol w="995400"/>
                <a:gridCol w="1527120"/>
                <a:gridCol w="3168720"/>
                <a:gridCol w="709560"/>
                <a:gridCol w="911160"/>
                <a:gridCol w="698760"/>
              </a:tblGrid>
              <a:tr h="4870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973800">
                <a:tc rowSpan="4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環境細觀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善變的月姑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觀察及討論月相的變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5-2-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小出版社）〜我的奇妙探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製作古蹟探訪的小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和海的書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欣賞山景和海景的心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1-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1-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鄉的名勝古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實地參觀訪問、運用網路資源、蒐集學校附近家鄉名勝古蹟等資料，提出維護名勝、古蹟的具體作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7080">
                <a:tc rowSpan="3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成長‧乘風破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歡度聯歡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排定節目表並參與活動及欣賞各組的演出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只要我長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運用肢體與聲音扮演職業的角色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模仿海底動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模仿海底動物的姿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07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2060"/>
                </a:solidFill>
                <a:latin typeface="標楷體"/>
                <a:ea typeface="標楷體"/>
              </a:rPr>
              <a:t>「東信樂園」四下主題統整教學活動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523800" y="476280"/>
            <a:ext cx="1047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99"/>
              </a:solidFill>
              <a:latin typeface="標楷體"/>
              <a:ea typeface="標楷體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692280"/>
          <a:ext cx="7848360" cy="6037200"/>
        </p:xfrm>
        <a:graphic>
          <a:graphicData uri="http://schemas.openxmlformats.org/drawingml/2006/table">
            <a:tbl>
              <a:tblPr/>
              <a:tblGrid>
                <a:gridCol w="1101600"/>
                <a:gridCol w="1755720"/>
                <a:gridCol w="2579760"/>
                <a:gridCol w="836640"/>
                <a:gridCol w="988920"/>
                <a:gridCol w="585720"/>
              </a:tblGrid>
              <a:tr h="7304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7304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唱遊海洋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鄉風情印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探索社區藝術家記錄的風情之美，並創作拍念有關家鄉文化的語詞節奏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水中生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飼養、觀察水中生物並描述魚的體型及運動方式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rowSpan="3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活情報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長度與方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認識東南西北、運用方位語詞描述物體的位置與方向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S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為民服務的機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在地圖上標示出信義區主要機構的位置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6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天才小記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出蒐集到的信義區主要機構的服務內容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快樂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合作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起來跳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運用繩子做三人合作的跳繩動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起做專題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出合作與分享的重要，並舉例說明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2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203056320"/>
          <p:cNvPicPr/>
          <p:nvPr/>
        </p:nvPicPr>
        <p:blipFill>
          <a:blip r:embed="rId2"/>
          <a:stretch/>
        </p:blipFill>
        <p:spPr>
          <a:xfrm>
            <a:off x="6108840" y="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973440" y="188640"/>
            <a:ext cx="75452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3399"/>
                </a:solidFill>
                <a:latin typeface="標楷體"/>
                <a:ea typeface="標楷體"/>
              </a:rPr>
              <a:t>貳、彈性課程規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214e4d06b718"/>
          <p:cNvPicPr/>
          <p:nvPr/>
        </p:nvPicPr>
        <p:blipFill>
          <a:blip r:embed="rId3"/>
          <a:stretch/>
        </p:blipFill>
        <p:spPr>
          <a:xfrm>
            <a:off x="1332000" y="234936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1547640" y="324324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95"/>
          <p:cNvGrpSpPr/>
          <p:nvPr/>
        </p:nvGrpSpPr>
        <p:grpSpPr>
          <a:xfrm>
            <a:off x="611280" y="1557360"/>
            <a:ext cx="7971840" cy="4942800"/>
            <a:chOff x="611280" y="1557360"/>
            <a:chExt cx="7971840" cy="4942800"/>
          </a:xfrm>
        </p:grpSpPr>
        <p:cxnSp>
          <p:nvCxnSpPr>
            <p:cNvPr id="125" name="_s1028"/>
            <p:cNvCxnSpPr>
              <a:stCxn id="126" idx="1"/>
              <a:endCxn id="127" idx="2"/>
            </p:cNvCxnSpPr>
            <p:nvPr/>
          </p:nvCxnSpPr>
          <p:spPr>
            <a:xfrm rot="10800000">
              <a:off x="1496880" y="5151600"/>
              <a:ext cx="295560" cy="89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29"/>
            <p:cNvCxnSpPr>
              <a:stCxn id="129" idx="0"/>
              <a:endCxn id="130" idx="2"/>
            </p:cNvCxnSpPr>
            <p:nvPr/>
          </p:nvCxnSpPr>
          <p:spPr>
            <a:xfrm flipV="1">
              <a:off x="7697520" y="3803760"/>
              <a:ext cx="2880" cy="45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030"/>
            <p:cNvCxnSpPr>
              <a:stCxn id="132" idx="0"/>
              <a:endCxn id="133" idx="2"/>
            </p:cNvCxnSpPr>
            <p:nvPr/>
          </p:nvCxnSpPr>
          <p:spPr>
            <a:xfrm flipV="1">
              <a:off x="5630400" y="3803760"/>
              <a:ext cx="2880" cy="45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1"/>
            <p:cNvCxnSpPr>
              <a:stCxn id="135" idx="0"/>
              <a:endCxn id="136" idx="2"/>
            </p:cNvCxnSpPr>
            <p:nvPr/>
          </p:nvCxnSpPr>
          <p:spPr>
            <a:xfrm flipV="1">
              <a:off x="3565800" y="3803760"/>
              <a:ext cx="2520" cy="45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2"/>
            <p:cNvCxnSpPr>
              <a:stCxn id="127" idx="0"/>
              <a:endCxn id="138" idx="2"/>
            </p:cNvCxnSpPr>
            <p:nvPr/>
          </p:nvCxnSpPr>
          <p:spPr>
            <a:xfrm flipV="1">
              <a:off x="1496880" y="3803760"/>
              <a:ext cx="2880" cy="45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3"/>
            <p:cNvCxnSpPr>
              <a:stCxn id="130" idx="0"/>
              <a:endCxn id="140" idx="2"/>
            </p:cNvCxnSpPr>
            <p:nvPr/>
          </p:nvCxnSpPr>
          <p:spPr>
            <a:xfrm flipV="1" rot="16200000">
              <a:off x="5922360" y="1130040"/>
              <a:ext cx="450000" cy="3100680"/>
            </a:xfrm>
            <a:prstGeom prst="bentConnector3">
              <a:avLst>
                <a:gd name="adj1" fmla="val 311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4"/>
            <p:cNvCxnSpPr>
              <a:stCxn id="133" idx="0"/>
              <a:endCxn id="140" idx="2"/>
            </p:cNvCxnSpPr>
            <p:nvPr/>
          </p:nvCxnSpPr>
          <p:spPr>
            <a:xfrm flipV="1" rot="16200000">
              <a:off x="4888800" y="2163600"/>
              <a:ext cx="450000" cy="1033560"/>
            </a:xfrm>
            <a:prstGeom prst="bentConnector3">
              <a:avLst>
                <a:gd name="adj1" fmla="val 311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5"/>
            <p:cNvCxnSpPr>
              <a:stCxn id="136" idx="0"/>
              <a:endCxn id="140" idx="2"/>
            </p:cNvCxnSpPr>
            <p:nvPr/>
          </p:nvCxnSpPr>
          <p:spPr>
            <a:xfrm flipH="1" flipV="1" rot="5400000">
              <a:off x="3856680" y="2164680"/>
              <a:ext cx="450000" cy="1031760"/>
            </a:xfrm>
            <a:prstGeom prst="bentConnector3">
              <a:avLst>
                <a:gd name="adj1" fmla="val 311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6"/>
            <p:cNvCxnSpPr>
              <a:stCxn id="138" idx="0"/>
              <a:endCxn id="140" idx="2"/>
            </p:cNvCxnSpPr>
            <p:nvPr/>
          </p:nvCxnSpPr>
          <p:spPr>
            <a:xfrm flipH="1" flipV="1" rot="5400000">
              <a:off x="2822040" y="1130040"/>
              <a:ext cx="450000" cy="3101040"/>
            </a:xfrm>
            <a:prstGeom prst="bentConnector3">
              <a:avLst>
                <a:gd name="adj1" fmla="val 311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037"/>
            <p:cNvSpPr/>
            <p:nvPr/>
          </p:nvSpPr>
          <p:spPr>
            <a:xfrm>
              <a:off x="3711600" y="155736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彈性節數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8"/>
            <p:cNvSpPr/>
            <p:nvPr/>
          </p:nvSpPr>
          <p:spPr>
            <a:xfrm>
              <a:off x="611280" y="29052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學校本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課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9"/>
            <p:cNvSpPr/>
            <p:nvPr/>
          </p:nvSpPr>
          <p:spPr>
            <a:xfrm>
              <a:off x="2678040" y="29052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數學補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教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0"/>
            <p:cNvSpPr/>
            <p:nvPr/>
          </p:nvSpPr>
          <p:spPr>
            <a:xfrm>
              <a:off x="4744800" y="29052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英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1"/>
            <p:cNvSpPr/>
            <p:nvPr/>
          </p:nvSpPr>
          <p:spPr>
            <a:xfrm>
              <a:off x="6811560" y="29052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資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2"/>
            <p:cNvSpPr/>
            <p:nvPr/>
          </p:nvSpPr>
          <p:spPr>
            <a:xfrm>
              <a:off x="611280" y="42534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43"/>
            <p:cNvSpPr/>
            <p:nvPr/>
          </p:nvSpPr>
          <p:spPr>
            <a:xfrm>
              <a:off x="2678040" y="42534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44"/>
            <p:cNvSpPr/>
            <p:nvPr/>
          </p:nvSpPr>
          <p:spPr>
            <a:xfrm>
              <a:off x="4744800" y="42534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5"/>
            <p:cNvSpPr/>
            <p:nvPr/>
          </p:nvSpPr>
          <p:spPr>
            <a:xfrm>
              <a:off x="6811560" y="42534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6"/>
            <p:cNvSpPr/>
            <p:nvPr/>
          </p:nvSpPr>
          <p:spPr>
            <a:xfrm>
              <a:off x="1792080" y="5601600"/>
              <a:ext cx="1771560" cy="89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東信閱讀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跳躍繩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214e4d06b718"/>
          <p:cNvPicPr/>
          <p:nvPr/>
        </p:nvPicPr>
        <p:blipFill>
          <a:blip r:embed="rId5"/>
          <a:stretch/>
        </p:blipFill>
        <p:spPr>
          <a:xfrm>
            <a:off x="7451640" y="2349360"/>
            <a:ext cx="397080" cy="3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214e4d06b718"/>
          <p:cNvPicPr/>
          <p:nvPr/>
        </p:nvPicPr>
        <p:blipFill>
          <a:blip r:embed="rId6"/>
          <a:stretch/>
        </p:blipFill>
        <p:spPr>
          <a:xfrm>
            <a:off x="5435640" y="2349360"/>
            <a:ext cx="396720" cy="39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214e4d06b718"/>
          <p:cNvPicPr/>
          <p:nvPr/>
        </p:nvPicPr>
        <p:blipFill>
          <a:blip r:embed="rId7"/>
          <a:stretch/>
        </p:blipFill>
        <p:spPr>
          <a:xfrm>
            <a:off x="3348000" y="2349360"/>
            <a:ext cx="397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4:03:53Z</dcterms:created>
  <dc:creator>franlin</dc:creator>
  <dc:description/>
  <dc:language>en-US</dc:language>
  <cp:lastModifiedBy>user</cp:lastModifiedBy>
  <dcterms:modified xsi:type="dcterms:W3CDTF">2013-08-06T03:45:28Z</dcterms:modified>
  <cp:revision>283</cp:revision>
  <dc:subject/>
  <dc:title>投影片 1</dc:title>
</cp:coreProperties>
</file>