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120-401B-4640-B4DE-4157A827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010-DA14-4778-9A94-0774880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DF8-ABE3-4C97-926C-58E553D2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6B5-CA37-4C36-B1FC-0196EA39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61D-D723-4E68-B0ED-8AEA8504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4C5-226D-4B83-A6E5-959CAC46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594-E4CE-403D-809A-8F800AB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86EE-6869-4648-818D-01E936C6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FF8-EB03-4B4A-AC30-3CF2D7C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010F-970F-4E84-A3C1-BA03BEF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5BA9-B434-47C4-B23F-0378FA2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200-8B47-48C6-9398-9BC07844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0D1-208D-4A2E-9830-A4399CE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F60-042B-47FB-B2FC-C37D6A1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4CBE-585E-4D21-979D-871819F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AAC-1382-44B8-9A45-D5A30DCF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3DA3-753C-43A3-BDD9-87818F78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43E-551F-4618-B50F-6A27E78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249-F067-452B-AD14-4852A0FC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8B6-3F7A-48A4-BD94-B35AF0E4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1B6-A208-4ADA-96F5-74A9F29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877-EBA7-44ED-9E48-132AF4B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683-DC03-47A4-A9E4-49D9E3F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E95-DFEB-4179-B257-9DB1C74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836-8C77-4932-97F5-3A8E3F83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_0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BE4-24B1-4FE5-A327-D848588954A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6160" y="47628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五年級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   課程計畫簡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j0336075"/>
          <p:cNvPicPr/>
          <p:nvPr/>
        </p:nvPicPr>
        <p:blipFill>
          <a:blip r:embed="rId1"/>
          <a:stretch/>
        </p:blipFill>
        <p:spPr>
          <a:xfrm>
            <a:off x="1136520" y="2952720"/>
            <a:ext cx="338796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BD14996_"/>
          <p:cNvPicPr/>
          <p:nvPr/>
        </p:nvPicPr>
        <p:blipFill>
          <a:blip r:embed="rId2"/>
          <a:stretch/>
        </p:blipFill>
        <p:spPr>
          <a:xfrm>
            <a:off x="2720880" y="206064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j0158007"/>
          <p:cNvPicPr/>
          <p:nvPr/>
        </p:nvPicPr>
        <p:blipFill>
          <a:blip r:embed="rId3"/>
          <a:stretch/>
        </p:blipFill>
        <p:spPr>
          <a:xfrm>
            <a:off x="5024520" y="4005360"/>
            <a:ext cx="363384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52520" y="363600"/>
            <a:ext cx="756144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東信國小學校本位「東信樂園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彩繪東信」 </a:t>
            </a:r>
            <a:br>
              <a:rPr sz="2600"/>
            </a:b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主題統整教學活動說明（五上）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23800" y="1571760"/>
          <a:ext cx="9001080" cy="474660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23920"/>
                <a:gridCol w="1125360"/>
                <a:gridCol w="1285920"/>
              </a:tblGrid>
              <a:tr h="11430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71400">
                <a:tc rowSpan="2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逃出〝迷宮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閱讀《青春跌入了迷宮》並進行心得報告與討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男？生女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過去社會中對於男女性別的看法進行資料蒐集，並討論是否適宜於現代社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4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357120"/>
          <a:ext cx="9239400" cy="630720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154160"/>
                <a:gridCol w="1155600"/>
                <a:gridCol w="1319400"/>
              </a:tblGrid>
              <a:tr h="12682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04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男女大進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了解男女生理構造的不同以及了解如何調適及處理青春期生理變化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彩虹物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同性戀議題介紹其成因及其性行為異常之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從新聞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藉由閱讀性侵害防治新聞引導學童了解身體是屬於自己，我們要好好保護，並能拒絕任何不舒服的身體接觸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侵害知多少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在討論完新聞後，來明白對於性侵害防法的了解性，並學會正確的防範方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-3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9600" y="206280"/>
          <a:ext cx="9239040" cy="6369120"/>
        </p:xfrm>
        <a:graphic>
          <a:graphicData uri="http://schemas.openxmlformats.org/drawingml/2006/table">
            <a:tbl>
              <a:tblPr/>
              <a:tblGrid>
                <a:gridCol w="1155600"/>
                <a:gridCol w="1812960"/>
                <a:gridCol w="2641680"/>
                <a:gridCol w="1154160"/>
                <a:gridCol w="1155600"/>
                <a:gridCol w="131904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092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和家人一起成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相聚的時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常做的事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人生活調查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相處方式與感覺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休閒中成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請學生分享自己最喜愛的休閒活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說一說，家人中誰和你有相同的休閒活動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教師引導學生發表是否和家人有共同的休閒活動，並分享活動的心得和感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3-4-9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F-3-2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學生發表你認為生活是什麼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自己常用哪些學習方法？這些學習方法對哪些學習比較有效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全班共同歸納家人常用的學習方式，並進行簡單的學習型態分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.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實際練習借一本與家人工作或休閒有關的好書，回家與家人共讀，或閱讀後與家人分享心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安排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思索家人面臨意外死亡或過世的時候，該如何來面對往後的生活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04880" y="476280"/>
          <a:ext cx="8750160" cy="5761080"/>
        </p:xfrm>
        <a:graphic>
          <a:graphicData uri="http://schemas.openxmlformats.org/drawingml/2006/table">
            <a:tbl>
              <a:tblPr/>
              <a:tblGrid>
                <a:gridCol w="1093680"/>
                <a:gridCol w="1714680"/>
                <a:gridCol w="2376360"/>
                <a:gridCol w="1395360"/>
                <a:gridCol w="919080"/>
                <a:gridCol w="1251000"/>
              </a:tblGrid>
              <a:tr h="8668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9216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前進中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藉由影片的介紹，認識中元祭的由來及基隆中元節的特殊習俗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認識海洋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7080" indent="-127080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播放影片「自然科學小博士小朋友的為什麼之十一魚類大全」ＶＣ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indent="-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學童利用網路找尋海洋生物的資料，並將找到的資料與同學分享。教師協調每位學童所介紹的海洋生物不要重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數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452520" y="214200"/>
          <a:ext cx="8786880" cy="6194520"/>
        </p:xfrm>
        <a:graphic>
          <a:graphicData uri="http://schemas.openxmlformats.org/drawingml/2006/table">
            <a:tbl>
              <a:tblPr/>
              <a:tblGrid>
                <a:gridCol w="1098360"/>
                <a:gridCol w="1712880"/>
                <a:gridCol w="2697480"/>
                <a:gridCol w="1223640"/>
                <a:gridCol w="798480"/>
                <a:gridCol w="1256040"/>
              </a:tblGrid>
              <a:tr h="9828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4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港邊風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師介紹基隆的正濱漁港、八斗子漁港與碧砂漁港等各地風情，以及漁民生活風貌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基隆地區資源或學生的經驗，討論漁民生活特色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oGo</a:t>
                      </a: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魚市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類魚兒收集資料，除上台介紹外並加以推銷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船舶設計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種不同用途的船舶蒐集資料、介紹，並讓學生設計畫出屬於自己心目中理想的船隻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7800" y="363240"/>
            <a:ext cx="74898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東信國小學校本位「東信樂園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-</a:t>
            </a: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彩繪東信」 </a:t>
            </a:r>
            <a:br>
              <a:rPr sz="2600"/>
            </a:br>
            <a:r>
              <a:rPr b="1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主題統整教學活動說明（五下）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15800" y="1484280"/>
          <a:ext cx="9144000" cy="507204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77920"/>
                <a:gridCol w="1214280"/>
                <a:gridCol w="1285920"/>
              </a:tblGrid>
              <a:tr h="11620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89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心情轉換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誰該負責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繪本《不是我的錯》並進行心得發表與討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境變辨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進行情境表演，並針對情境中之問題進行小組討論及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3-8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紀錄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本身對於負面情緒的處理及轉換進行自我觀察、紀錄，並於紀錄完成後在課堂上進行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-3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357120"/>
          <a:ext cx="9239400" cy="602784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033560"/>
                <a:gridCol w="1428840"/>
                <a:gridCol w="116676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0328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追尋之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孤島』紀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《守著孤島的女孩》，並進行心得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-3-3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老王賣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找出自己的優點，針對優點作出屬於自我的廣告詞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04880" y="476280"/>
          <a:ext cx="8786880" cy="5759280"/>
        </p:xfrm>
        <a:graphic>
          <a:graphicData uri="http://schemas.openxmlformats.org/drawingml/2006/table">
            <a:tbl>
              <a:tblPr/>
              <a:tblGrid>
                <a:gridCol w="755640"/>
                <a:gridCol w="1728720"/>
                <a:gridCol w="3024360"/>
                <a:gridCol w="1152360"/>
                <a:gridCol w="863640"/>
                <a:gridCol w="1262160"/>
              </a:tblGrid>
              <a:tr h="6872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65320">
                <a:tc rowSpan="5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繽紛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鯨』奇不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繪本《聽那鯨魚在唱歌》，請小朋友針對鯨魚的叫聲進行資料蒐集，並加以模仿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蟹將點兵囉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台灣常見之螃蟹類，並進行螃蟹習性模仿大賽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雕刻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基隆和平島為例，介紹基隆常見之海岸地形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-3-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旅行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觀賞《海底總動員》了解到現今人與海中生物的交互關係及該有的態度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-2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的哀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除了針對台灣海岸所受到的破壞進行介紹，更希望能藉由課堂討論，讓學生體會到愛護海洋的重要性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1800" y="276120"/>
            <a:ext cx="5833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本位課程主題統整架構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944880" y="1268280"/>
            <a:ext cx="2400480" cy="936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東信閱讀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37240" y="1268280"/>
            <a:ext cx="2519280" cy="93672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44880" y="2781360"/>
            <a:ext cx="2376720" cy="107928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修習戀愛學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生命的勇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2720880" y="2205000"/>
            <a:ext cx="935280" cy="8604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649600" y="3213000"/>
            <a:ext cx="9349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44520" y="1989000"/>
            <a:ext cx="202392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芭樂秘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15800" y="3284640"/>
            <a:ext cx="187344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哆啦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A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夢之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537240" y="2781360"/>
            <a:ext cx="295272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前後兩人面對面跳</a:t>
            </a:r>
            <a:r>
              <a:rPr b="0" lang="en-US" sz="2000" spc="-1" strike="noStrike">
                <a:solidFill>
                  <a:srgbClr val="0000ff"/>
                </a:solidFill>
                <a:latin typeface="新細明體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H="1" flipV="1">
            <a:off x="3657240" y="306828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3657240" y="3429000"/>
            <a:ext cx="2286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2360520" y="2708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944880" y="4797360"/>
            <a:ext cx="2305080" cy="1152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 情緒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我真的很不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2720880" y="4508640"/>
            <a:ext cx="93528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2720880" y="5589720"/>
            <a:ext cx="9367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560520" y="4581360"/>
            <a:ext cx="180000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山城之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488880" y="5516640"/>
            <a:ext cx="1943280" cy="933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油桐花下的精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6537240" y="4869000"/>
            <a:ext cx="288144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左右兩人同方向跳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H="1" flipV="1">
            <a:off x="3657240" y="522900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 flipH="1">
            <a:off x="3657240" y="558972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7"/>
          <p:cNvSpPr/>
          <p:nvPr/>
        </p:nvSpPr>
        <p:spPr>
          <a:xfrm>
            <a:off x="2289240" y="36450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2360520" y="49417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9"/>
          <p:cNvSpPr/>
          <p:nvPr/>
        </p:nvSpPr>
        <p:spPr>
          <a:xfrm>
            <a:off x="243216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 13"/>
          <p:cNvSpPr/>
          <p:nvPr/>
        </p:nvSpPr>
        <p:spPr>
          <a:xfrm>
            <a:off x="3773520" y="2519280"/>
            <a:ext cx="2220840" cy="223848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357720" y="2519280"/>
            <a:ext cx="55404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3357360" y="4199040"/>
            <a:ext cx="55404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5854680" y="4199040"/>
            <a:ext cx="55548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5854320" y="2519280"/>
            <a:ext cx="55548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136520" y="3825720"/>
            <a:ext cx="2221200" cy="147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青春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6410160" y="3825720"/>
            <a:ext cx="2719440" cy="1548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找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健康的</a:t>
            </a: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桃花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10160" y="1773360"/>
            <a:ext cx="2359080" cy="14922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追星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36520" y="1773360"/>
            <a:ext cx="2221200" cy="149220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跳躍繩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4016520" y="3357720"/>
            <a:ext cx="1728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2057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75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343880" y="150120"/>
            <a:ext cx="2741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跳繩學習活動設計架構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800" y="28789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00"/>
                </a:solidFill>
                <a:latin typeface="Arial"/>
                <a:ea typeface="標楷體"/>
              </a:rPr>
              <a:t>彈性時間規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Arial"/>
                <a:ea typeface="標楷體"/>
              </a:rPr>
              <a:t>橫向主統整活動說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0000"/>
                </a:solidFill>
                <a:latin typeface="Arial"/>
                <a:ea typeface="標楷體"/>
              </a:rPr>
              <a:t>學校本位課程設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208160" y="981000"/>
          <a:ext cx="7777080" cy="5511960"/>
        </p:xfrm>
        <a:graphic>
          <a:graphicData uri="http://schemas.openxmlformats.org/drawingml/2006/table">
            <a:tbl>
              <a:tblPr/>
              <a:tblGrid>
                <a:gridCol w="649080"/>
                <a:gridCol w="668520"/>
                <a:gridCol w="528480"/>
                <a:gridCol w="962280"/>
                <a:gridCol w="3235320"/>
                <a:gridCol w="612720"/>
                <a:gridCol w="611280"/>
                <a:gridCol w="509400"/>
              </a:tblGrid>
              <a:tr h="609480"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t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94920"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ㄧ、生命的勇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 命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之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身世之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人發表看過的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故事中印象最深的情節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之父－藤子不二雄的故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2-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C-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1-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堅持到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標楷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組蒐集堅持理想，付出自己一生努力的成功人士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簡報形式呈現，與同學分享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記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-3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合作學習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其力斷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發表藤本弘和安孫子素雄因為有著共同的興趣，而合作創造出哆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夢的艱苦歷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描述曾經與人合作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 algn="just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藉由兩人三腳的遊戲了解合作重要及困難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體育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8-9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形成性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136520" y="1197000"/>
          <a:ext cx="8064720" cy="5554800"/>
        </p:xfrm>
        <a:graphic>
          <a:graphicData uri="http://schemas.openxmlformats.org/drawingml/2006/table">
            <a:tbl>
              <a:tblPr/>
              <a:tblGrid>
                <a:gridCol w="665280"/>
                <a:gridCol w="592200"/>
                <a:gridCol w="647640"/>
                <a:gridCol w="981000"/>
                <a:gridCol w="2959200"/>
                <a:gridCol w="592200"/>
                <a:gridCol w="664920"/>
                <a:gridCol w="962280"/>
              </a:tblGrid>
              <a:tr h="812880"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書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114200"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二、友情＆愛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 別 教 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1520" rIns="1152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芭樂秘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真情告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討論：喜歡跟愛有什麼不一樣呢？當我們開始在意一個人時，就是談戀愛了嗎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性別平等教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針對問題提出自己的見解和想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友情深似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家都有把自己的願望和夢想和別人分享的經驗；請在小卡上寫出三個你為好朋友許下的願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3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祝福小卡：能真心為好朋友著想，並寫出祝福願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超級任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劉乃堂一直希望柴巧玫能對他印象好一點，不過想了很多方法都失敗了，如果你是劉乃堂的麻吉，你會給他哪些建議呢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如果你的好朋友和洪百樂一樣，因為家庭的問題心情不好，身為好朋友的你，會如何安慰他或鼓勵他呢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發展教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習單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(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給劉乃堂的建議卡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給洪百樂的加油卡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" marR="11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20">
                <a:tc gridSpan="8">
                  <a:txBody>
                    <a:bodyPr lIns="11520" rIns="11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" marR="1152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136520" y="1425600"/>
          <a:ext cx="7777440" cy="5232240"/>
        </p:xfrm>
        <a:graphic>
          <a:graphicData uri="http://schemas.openxmlformats.org/drawingml/2006/table">
            <a:tbl>
              <a:tblPr/>
              <a:tblGrid>
                <a:gridCol w="720720"/>
                <a:gridCol w="574920"/>
                <a:gridCol w="633240"/>
                <a:gridCol w="1023840"/>
                <a:gridCol w="3332160"/>
                <a:gridCol w="498600"/>
                <a:gridCol w="496800"/>
                <a:gridCol w="497160"/>
              </a:tblGrid>
              <a:tr h="609480"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71960"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三、情緒停看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情 緒 教 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城之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山城中的故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到九份遊覽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599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析故事中人物的個性。分組報告主人翁庭庭性情由內向害羞轉變活潑開朗的歷程與原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C-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口頭評量合作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愛要怎麼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六組討論並發表曾經讓自己感受到關愛的經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探討表現關愛的方法，讓父母或朋友感受到你的關愛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寫出不喜歡的關愛方式，當自己遇到厭惡情緒時，該如何表達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領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F-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E-2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1-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合作學習實作評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14400" rIns="14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" marR="14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992160" y="1247760"/>
          <a:ext cx="7921800" cy="542124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  <a:gridCol w="647640"/>
                <a:gridCol w="865080"/>
                <a:gridCol w="2735280"/>
                <a:gridCol w="647640"/>
                <a:gridCol w="576360"/>
                <a:gridCol w="1297080"/>
              </a:tblGrid>
              <a:tr h="1052640"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主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選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書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活動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議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相對應的能力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5480" rIns="15480" tIns="0" bIns="0" anchor="t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評量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79320">
                <a:tc rowSpan="3"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5480" rIns="154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 我 認 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5480" rIns="15480" tIns="0" bIns="0" anchor="ctr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油桐花下的精靈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我的隱身同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奇妙鍬形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組討論：將課前蒐集有關鍬形蟲的資料或圖片和組員分享，並討論鍬形蟲的特徵與其習性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2-5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聆聽別人發表並具體描述觀察的結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心事悄悄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你有心事嗎？當你有心事時會告訴誰呢？在小卡上寫上你最近的心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政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心事小卡：寫下自己內心的感受與想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長大的代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marL="343080" indent="-343080"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幼時趣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ts val="1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師生討論孩童世界與成人世界的特色與差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涯發展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4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專心聆聽他人發表、針對問題提出自己的看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2786879408_57ed6680fa"/>
          <p:cNvPicPr/>
          <p:nvPr/>
        </p:nvPicPr>
        <p:blipFill>
          <a:blip r:embed="rId1"/>
          <a:stretch/>
        </p:blipFill>
        <p:spPr>
          <a:xfrm>
            <a:off x="1928880" y="2133720"/>
            <a:ext cx="6054480" cy="45417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0"/>
          <p:cNvSpPr txBox="1"/>
          <p:nvPr/>
        </p:nvSpPr>
        <p:spPr>
          <a:xfrm rot="20158800">
            <a:off x="2215800" y="134100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6" name="WordArt 12"/>
          <p:cNvSpPr txBox="1"/>
          <p:nvPr/>
        </p:nvSpPr>
        <p:spPr>
          <a:xfrm rot="792000">
            <a:off x="3584520" y="62028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7" name="WordArt 13"/>
          <p:cNvSpPr txBox="1"/>
          <p:nvPr/>
        </p:nvSpPr>
        <p:spPr>
          <a:xfrm rot="20256000">
            <a:off x="4736880" y="119664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ＭＳ Ｐゴシック"/>
              </a:rPr>
              <a:t>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8" name="WordArt 14"/>
          <p:cNvSpPr txBox="1"/>
          <p:nvPr/>
        </p:nvSpPr>
        <p:spPr>
          <a:xfrm rot="792000">
            <a:off x="6321600" y="83628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ＭＳ Ｐゴシック"/>
              </a:rPr>
              <a:t>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9" name="WordArt 15"/>
          <p:cNvSpPr txBox="1"/>
          <p:nvPr/>
        </p:nvSpPr>
        <p:spPr>
          <a:xfrm rot="792000">
            <a:off x="7400880" y="1700280"/>
            <a:ext cx="14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ＭＳ Ｐゴシック"/>
              </a:rPr>
              <a:t>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87600" y="566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上學期彈性時間規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65240" y="1268280"/>
          <a:ext cx="7829640" cy="5445360"/>
        </p:xfrm>
        <a:graphic>
          <a:graphicData uri="http://schemas.openxmlformats.org/drawingml/2006/table">
            <a:tbl>
              <a:tblPr/>
              <a:tblGrid>
                <a:gridCol w="647640"/>
                <a:gridCol w="1584360"/>
                <a:gridCol w="3959280"/>
                <a:gridCol w="792000"/>
                <a:gridCol w="846360"/>
              </a:tblGrid>
              <a:tr h="309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學年海洋教育教學課程實施、語文巡迴演講、每週一句學生英語護照認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運用晨間活動及融入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交通安全教育、法治教育、環境教育、健康中心檢查、歲末聯歡活動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、家庭教育、性侵害防治教育、家庭暴力防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班級常規建立、配合節令活動、性別平等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臨時交辦或配合活動，視情況處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彩繪東信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數學補救教學及加深加廣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標楷體"/>
                        </a:rPr>
                        <a:t>資訊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3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00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87600" y="566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下學期彈性時間規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65240" y="1268280"/>
          <a:ext cx="7848720" cy="5394600"/>
        </p:xfrm>
        <a:graphic>
          <a:graphicData uri="http://schemas.openxmlformats.org/drawingml/2006/table">
            <a:tbl>
              <a:tblPr/>
              <a:tblGrid>
                <a:gridCol w="647640"/>
                <a:gridCol w="1655640"/>
                <a:gridCol w="3783240"/>
                <a:gridCol w="896760"/>
                <a:gridCol w="865440"/>
              </a:tblGrid>
              <a:tr h="309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學年海洋教育教學課程實施 、語文巡迴演講、每週一句學生英語護照認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880" rIns="288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運用晨間活動及融入綜合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兒童節慶祝活動、校慶活動、自治市長選舉、運動會等學校交辦事務處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、家庭教育、性侵害防治教育、家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暴力防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班級常規建立、配合節令活動、性別平等教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136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臨時交辦或配合活動，視情況處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彩繪東信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數學補救教學及加深加廣學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ff0000"/>
                          </a:solidFill>
                          <a:latin typeface="新細明體"/>
                          <a:ea typeface="標楷體"/>
                        </a:rPr>
                        <a:t>資訊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標楷體"/>
                          <a:ea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3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下學期彈性學習總節數：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99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880" rIns="2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12520" y="62064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東信樂園學校本位</a:t>
            </a:r>
            <a:br>
              <a:rPr sz="4400"/>
            </a:b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橫向主題統整架構圖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"/>
          <p:cNvGrpSpPr/>
          <p:nvPr/>
        </p:nvGrpSpPr>
        <p:grpSpPr>
          <a:xfrm>
            <a:off x="1595520" y="1643040"/>
            <a:ext cx="6572160" cy="4785840"/>
            <a:chOff x="1595520" y="1643040"/>
            <a:chExt cx="6572160" cy="4785840"/>
          </a:xfrm>
        </p:grpSpPr>
        <p:sp>
          <p:nvSpPr>
            <p:cNvPr id="96" name="AutoShape 3"/>
            <p:cNvSpPr/>
            <p:nvPr/>
          </p:nvSpPr>
          <p:spPr>
            <a:xfrm>
              <a:off x="1595520" y="1696680"/>
              <a:ext cx="6572160" cy="4732200"/>
            </a:xfrm>
            <a:prstGeom prst="hexagon">
              <a:avLst>
                <a:gd name="adj" fmla="val 34720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>
              <a:off x="3146040" y="2706480"/>
              <a:ext cx="3366000" cy="288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"/>
            <p:cNvSpPr/>
            <p:nvPr/>
          </p:nvSpPr>
          <p:spPr>
            <a:xfrm>
              <a:off x="3222720" y="1696680"/>
              <a:ext cx="334152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V="1">
              <a:off x="3197880" y="1696320"/>
              <a:ext cx="327924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1595520" y="4033440"/>
              <a:ext cx="65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3999960" y="3398040"/>
              <a:ext cx="1762560" cy="14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371840" y="3617640"/>
              <a:ext cx="1481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東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樂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4480200" y="2675880"/>
              <a:ext cx="77616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5602320" y="3109320"/>
              <a:ext cx="73872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5740200" y="4119120"/>
              <a:ext cx="87228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01360" y="4841280"/>
              <a:ext cx="103392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3358440" y="4119120"/>
              <a:ext cx="8136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ff"/>
                  </a:solidFill>
                  <a:latin typeface="Calibri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441960" y="3162240"/>
              <a:ext cx="813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4320000" y="1643040"/>
              <a:ext cx="134352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快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6244560" y="2532240"/>
              <a:ext cx="11818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話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501960" y="4377960"/>
              <a:ext cx="12700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4307760" y="5504040"/>
              <a:ext cx="12880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動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0"/>
            <p:cNvSpPr/>
            <p:nvPr/>
          </p:nvSpPr>
          <p:spPr>
            <a:xfrm>
              <a:off x="2409120" y="2520360"/>
              <a:ext cx="108468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深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2364840" y="4407840"/>
              <a:ext cx="126432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彩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0"/>
          <p:cNvGrpSpPr/>
          <p:nvPr/>
        </p:nvGrpSpPr>
        <p:grpSpPr>
          <a:xfrm>
            <a:off x="776160" y="260280"/>
            <a:ext cx="7572600" cy="6345360"/>
            <a:chOff x="776160" y="260280"/>
            <a:chExt cx="7572600" cy="6345360"/>
          </a:xfrm>
        </p:grpSpPr>
        <p:sp>
          <p:nvSpPr>
            <p:cNvPr id="116" name="Oval 41"/>
            <p:cNvSpPr/>
            <p:nvPr/>
          </p:nvSpPr>
          <p:spPr>
            <a:xfrm>
              <a:off x="3657240" y="1072440"/>
              <a:ext cx="1861920" cy="13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2"/>
            <p:cNvSpPr/>
            <p:nvPr/>
          </p:nvSpPr>
          <p:spPr>
            <a:xfrm>
              <a:off x="4073760" y="26028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3"/>
            <p:cNvSpPr/>
            <p:nvPr/>
          </p:nvSpPr>
          <p:spPr>
            <a:xfrm>
              <a:off x="7761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4"/>
            <p:cNvSpPr/>
            <p:nvPr/>
          </p:nvSpPr>
          <p:spPr>
            <a:xfrm>
              <a:off x="4451040" y="2441880"/>
              <a:ext cx="312480" cy="272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>
              <a:off x="1272240" y="2729160"/>
              <a:ext cx="65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>
              <a:off x="1272240" y="2729160"/>
              <a:ext cx="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>
              <a:off x="5244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>
              <a:off x="400356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9"/>
            <p:cNvSpPr/>
            <p:nvPr/>
          </p:nvSpPr>
          <p:spPr>
            <a:xfrm>
              <a:off x="263808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0"/>
            <p:cNvSpPr/>
            <p:nvPr/>
          </p:nvSpPr>
          <p:spPr>
            <a:xfrm>
              <a:off x="785232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1"/>
            <p:cNvSpPr/>
            <p:nvPr/>
          </p:nvSpPr>
          <p:spPr>
            <a:xfrm>
              <a:off x="6486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>
              <a:off x="1265040" y="3599280"/>
              <a:ext cx="756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3"/>
            <p:cNvSpPr/>
            <p:nvPr/>
          </p:nvSpPr>
          <p:spPr>
            <a:xfrm>
              <a:off x="263808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4"/>
            <p:cNvSpPr/>
            <p:nvPr/>
          </p:nvSpPr>
          <p:spPr>
            <a:xfrm>
              <a:off x="400356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5"/>
            <p:cNvSpPr/>
            <p:nvPr/>
          </p:nvSpPr>
          <p:spPr>
            <a:xfrm>
              <a:off x="5244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6"/>
            <p:cNvSpPr/>
            <p:nvPr/>
          </p:nvSpPr>
          <p:spPr>
            <a:xfrm>
              <a:off x="6486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7"/>
            <p:cNvSpPr/>
            <p:nvPr/>
          </p:nvSpPr>
          <p:spPr>
            <a:xfrm>
              <a:off x="785232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8"/>
            <p:cNvSpPr/>
            <p:nvPr/>
          </p:nvSpPr>
          <p:spPr>
            <a:xfrm>
              <a:off x="2559240" y="895320"/>
              <a:ext cx="86940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9"/>
            <p:cNvSpPr/>
            <p:nvPr/>
          </p:nvSpPr>
          <p:spPr>
            <a:xfrm>
              <a:off x="5632920" y="91296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0"/>
            <p:cNvSpPr/>
            <p:nvPr/>
          </p:nvSpPr>
          <p:spPr>
            <a:xfrm>
              <a:off x="5950800" y="1647000"/>
              <a:ext cx="86868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1"/>
            <p:cNvSpPr/>
            <p:nvPr/>
          </p:nvSpPr>
          <p:spPr>
            <a:xfrm>
              <a:off x="2304720" y="1647000"/>
              <a:ext cx="86832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2"/>
            <p:cNvSpPr/>
            <p:nvPr/>
          </p:nvSpPr>
          <p:spPr>
            <a:xfrm>
              <a:off x="338292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3"/>
            <p:cNvSpPr/>
            <p:nvPr/>
          </p:nvSpPr>
          <p:spPr>
            <a:xfrm>
              <a:off x="46245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4"/>
            <p:cNvSpPr/>
            <p:nvPr/>
          </p:nvSpPr>
          <p:spPr>
            <a:xfrm>
              <a:off x="58658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5"/>
            <p:cNvSpPr/>
            <p:nvPr/>
          </p:nvSpPr>
          <p:spPr>
            <a:xfrm>
              <a:off x="723168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6"/>
            <p:cNvSpPr/>
            <p:nvPr/>
          </p:nvSpPr>
          <p:spPr>
            <a:xfrm>
              <a:off x="21416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7"/>
            <p:cNvSpPr/>
            <p:nvPr/>
          </p:nvSpPr>
          <p:spPr>
            <a:xfrm flipV="1">
              <a:off x="4527360" y="738000"/>
              <a:ext cx="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8"/>
            <p:cNvSpPr/>
            <p:nvPr/>
          </p:nvSpPr>
          <p:spPr>
            <a:xfrm flipV="1">
              <a:off x="5259960" y="1072800"/>
              <a:ext cx="3542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9"/>
            <p:cNvSpPr/>
            <p:nvPr/>
          </p:nvSpPr>
          <p:spPr>
            <a:xfrm flipH="1" flipV="1">
              <a:off x="3448080" y="1145880"/>
              <a:ext cx="386640" cy="20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0"/>
            <p:cNvSpPr/>
            <p:nvPr/>
          </p:nvSpPr>
          <p:spPr>
            <a:xfrm flipH="1">
              <a:off x="3216240" y="1832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>
              <a:off x="5529960" y="1859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2"/>
            <p:cNvSpPr/>
            <p:nvPr/>
          </p:nvSpPr>
          <p:spPr>
            <a:xfrm>
              <a:off x="7761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3"/>
            <p:cNvSpPr/>
            <p:nvPr/>
          </p:nvSpPr>
          <p:spPr>
            <a:xfrm>
              <a:off x="2178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4"/>
            <p:cNvSpPr/>
            <p:nvPr/>
          </p:nvSpPr>
          <p:spPr>
            <a:xfrm>
              <a:off x="344052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5"/>
            <p:cNvSpPr/>
            <p:nvPr/>
          </p:nvSpPr>
          <p:spPr>
            <a:xfrm>
              <a:off x="470268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6"/>
            <p:cNvSpPr/>
            <p:nvPr/>
          </p:nvSpPr>
          <p:spPr>
            <a:xfrm>
              <a:off x="596484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東信海洋祭（社會、自然、海洋、資訊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迷惘少年時（語文、健體、綜合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和家人一起成長（綜合、社會、家庭、生命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7"/>
            <p:cNvSpPr/>
            <p:nvPr/>
          </p:nvSpPr>
          <p:spPr>
            <a:xfrm>
              <a:off x="7353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79"/>
          <p:cNvSpPr/>
          <p:nvPr/>
        </p:nvSpPr>
        <p:spPr>
          <a:xfrm>
            <a:off x="415800" y="26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上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1424160" y="0"/>
            <a:ext cx="7000200" cy="6572160"/>
            <a:chOff x="1424160" y="0"/>
            <a:chExt cx="7000200" cy="6572160"/>
          </a:xfrm>
        </p:grpSpPr>
        <p:sp>
          <p:nvSpPr>
            <p:cNvPr id="155" name="AutoShape 3"/>
            <p:cNvSpPr/>
            <p:nvPr/>
          </p:nvSpPr>
          <p:spPr>
            <a:xfrm>
              <a:off x="1424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"/>
            <p:cNvSpPr/>
            <p:nvPr/>
          </p:nvSpPr>
          <p:spPr>
            <a:xfrm>
              <a:off x="1882080" y="2577600"/>
              <a:ext cx="607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H="1">
              <a:off x="1881000" y="2577600"/>
              <a:ext cx="36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554904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40316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31428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>
              <a:off x="79560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669528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872720" y="3477600"/>
              <a:ext cx="1008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31428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440316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554904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669528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79560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>
              <a:off x="38300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8"/>
            <p:cNvSpPr/>
            <p:nvPr/>
          </p:nvSpPr>
          <p:spPr>
            <a:xfrm>
              <a:off x="49766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9"/>
            <p:cNvSpPr/>
            <p:nvPr/>
          </p:nvSpPr>
          <p:spPr>
            <a:xfrm>
              <a:off x="6122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0"/>
            <p:cNvSpPr/>
            <p:nvPr/>
          </p:nvSpPr>
          <p:spPr>
            <a:xfrm>
              <a:off x="7382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1"/>
            <p:cNvSpPr/>
            <p:nvPr/>
          </p:nvSpPr>
          <p:spPr>
            <a:xfrm>
              <a:off x="2684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>
              <a:off x="4094280" y="833400"/>
              <a:ext cx="1718640" cy="136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3"/>
            <p:cNvSpPr/>
            <p:nvPr/>
          </p:nvSpPr>
          <p:spPr>
            <a:xfrm>
              <a:off x="4478760" y="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4826880" y="2238120"/>
              <a:ext cx="28836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5"/>
            <p:cNvSpPr/>
            <p:nvPr/>
          </p:nvSpPr>
          <p:spPr>
            <a:xfrm>
              <a:off x="3080880" y="651600"/>
              <a:ext cx="80244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6"/>
            <p:cNvSpPr/>
            <p:nvPr/>
          </p:nvSpPr>
          <p:spPr>
            <a:xfrm>
              <a:off x="5917680" y="66960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7"/>
            <p:cNvSpPr/>
            <p:nvPr/>
          </p:nvSpPr>
          <p:spPr>
            <a:xfrm>
              <a:off x="6211080" y="1422720"/>
              <a:ext cx="80172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8"/>
            <p:cNvSpPr/>
            <p:nvPr/>
          </p:nvSpPr>
          <p:spPr>
            <a:xfrm>
              <a:off x="2845800" y="1422720"/>
              <a:ext cx="80136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4897440" y="490320"/>
              <a:ext cx="0" cy="32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5573520" y="845280"/>
              <a:ext cx="326880" cy="2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H="1" flipV="1">
              <a:off x="3900960" y="919440"/>
              <a:ext cx="357120" cy="18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H="1">
              <a:off x="3687120" y="161244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5823000" y="164016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14241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27183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504864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7"/>
            <p:cNvSpPr/>
            <p:nvPr/>
          </p:nvSpPr>
          <p:spPr>
            <a:xfrm>
              <a:off x="6213240" y="4077000"/>
              <a:ext cx="91692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海洋繽紛樂（海洋、自然、社會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自我追尋之旅（語文、生命、性侵害防治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心情轉換站（語文、社會、生命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8"/>
            <p:cNvSpPr/>
            <p:nvPr/>
          </p:nvSpPr>
          <p:spPr>
            <a:xfrm>
              <a:off x="750780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9"/>
            <p:cNvSpPr/>
            <p:nvPr/>
          </p:nvSpPr>
          <p:spPr>
            <a:xfrm>
              <a:off x="3884760" y="409392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41"/>
          <p:cNvSpPr/>
          <p:nvPr/>
        </p:nvSpPr>
        <p:spPr>
          <a:xfrm>
            <a:off x="380880" y="285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下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7"/>
          <p:cNvSpPr/>
          <p:nvPr/>
        </p:nvSpPr>
        <p:spPr>
          <a:xfrm>
            <a:off x="4521240" y="2565360"/>
            <a:ext cx="2157480" cy="20779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上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3657600" y="2492280"/>
            <a:ext cx="1003320" cy="58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和家人一起成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4738680" y="4786200"/>
            <a:ext cx="1087560" cy="587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迷惘少年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7905600" y="692280"/>
            <a:ext cx="1513080" cy="1800000"/>
          </a:xfrm>
          <a:prstGeom prst="wedgeRectCallout">
            <a:avLst>
              <a:gd name="adj1" fmla="val -72875"/>
              <a:gd name="adj2" fmla="val 5008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認識海洋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GoGo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魚市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船舶設計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600880" y="765000"/>
            <a:ext cx="1079280" cy="1584360"/>
          </a:xfrm>
          <a:prstGeom prst="wedgeRectCallout">
            <a:avLst>
              <a:gd name="adj1" fmla="val 52648"/>
              <a:gd name="adj2" fmla="val 66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前進中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港邊風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社會領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6"/>
          <p:cNvSpPr/>
          <p:nvPr/>
        </p:nvSpPr>
        <p:spPr>
          <a:xfrm>
            <a:off x="1928880" y="404640"/>
            <a:ext cx="1257120" cy="2651400"/>
          </a:xfrm>
          <a:prstGeom prst="wedgeRectCallout">
            <a:avLst>
              <a:gd name="adj1" fmla="val 87879"/>
              <a:gd name="adj2" fmla="val 2640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相聚的時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休閒中成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活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安排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2649600" y="4005360"/>
            <a:ext cx="1511280" cy="1871640"/>
          </a:xfrm>
          <a:prstGeom prst="wedgeRectCallout">
            <a:avLst>
              <a:gd name="adj1" fmla="val 81300"/>
              <a:gd name="adj2" fmla="val 165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逃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迷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男？生女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8"/>
          <p:cNvSpPr/>
          <p:nvPr/>
        </p:nvSpPr>
        <p:spPr>
          <a:xfrm>
            <a:off x="6608880" y="4076640"/>
            <a:ext cx="1511280" cy="2303640"/>
          </a:xfrm>
          <a:prstGeom prst="wedgeRectCallout">
            <a:avLst>
              <a:gd name="adj1" fmla="val -96009"/>
              <a:gd name="adj2" fmla="val -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男女大進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虹物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新聞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知多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、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5"/>
          <p:cNvSpPr/>
          <p:nvPr/>
        </p:nvSpPr>
        <p:spPr>
          <a:xfrm>
            <a:off x="6465960" y="2637000"/>
            <a:ext cx="1295280" cy="5871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東信海洋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2936880" y="2924280"/>
            <a:ext cx="140184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心情轉換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3081240" y="333360"/>
            <a:ext cx="1303560" cy="2000160"/>
          </a:xfrm>
          <a:prstGeom prst="wedgeRectCallout">
            <a:avLst>
              <a:gd name="adj1" fmla="val -27342"/>
              <a:gd name="adj2" fmla="val 7452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該負責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情境變辨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紀錄家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6608880" y="333360"/>
            <a:ext cx="1404720" cy="2519280"/>
          </a:xfrm>
          <a:prstGeom prst="wedgeRectCallout">
            <a:avLst>
              <a:gd name="adj1" fmla="val -8759"/>
              <a:gd name="adj2" fmla="val 670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鯨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奇不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蟹將點兵囉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3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雕刻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4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旅行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5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的哀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952880" y="4365720"/>
            <a:ext cx="1257480" cy="571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Calibri"/>
              </a:rPr>
              <a:t>自我追尋之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3008160" y="4653000"/>
            <a:ext cx="1239840" cy="1428840"/>
          </a:xfrm>
          <a:prstGeom prst="wedgeRectCallout">
            <a:avLst>
              <a:gd name="adj1" fmla="val 98527"/>
              <a:gd name="adj2" fmla="val -4322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孤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紀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6321600" y="5013360"/>
            <a:ext cx="1099800" cy="1285920"/>
          </a:xfrm>
          <a:prstGeom prst="wedgeRectCallout">
            <a:avLst>
              <a:gd name="adj1" fmla="val -52597"/>
              <a:gd name="adj2" fmla="val -6864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王賣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452840" y="2349360"/>
            <a:ext cx="2084400" cy="19512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下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6681960" y="3357720"/>
            <a:ext cx="1392120" cy="571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海洋繽紛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07:19:44Z</dcterms:created>
  <dc:creator>FHL</dc:creator>
  <dc:description/>
  <dc:language>en-US</dc:language>
  <cp:lastModifiedBy>Alice Yang</cp:lastModifiedBy>
  <dcterms:modified xsi:type="dcterms:W3CDTF">2013-08-05T15:24:53Z</dcterms:modified>
  <cp:revision>331</cp:revision>
  <dc:subject/>
  <dc:title>東信國小94學年度五年級 課程計畫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46041028</vt:lpwstr>
  </property>
</Properties>
</file>