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A588-C7BC-45A9-8DDB-98F60EB2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2D4-B630-4F20-9594-D3EA01CF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F81-73F3-4B56-B342-EA581B47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739-4146-4E1B-9C17-B0EB3691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DC62-23EE-4A49-8985-AF237000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F154-F3D9-4751-AB46-FAD02CDF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D9CB-310F-4CD5-AEA7-B0984B66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A014-C8BC-4C18-894C-786464BC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EF42-526D-4DBE-BB59-8E7A911B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8CCF-5679-49D9-BECE-B9A28009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C700-B550-4CF2-B288-C4EF9A59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C73-D14A-431B-AD42-A14D5070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E09C-D7EF-4048-90D9-2BA97A11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AA8E-1020-41EA-A32B-5CD8979E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183E-69C5-40C1-B1E2-5433600A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8C7D-C485-4E3B-ACD5-77D524F8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A4AD-0D44-4351-8A10-4B02218C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216-EE81-4696-9EEE-F9FF7743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5C8-1517-4BE4-AF67-04A9A753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DD8-AFE4-4F02-8533-016BE605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C395-9A04-4EE1-9F18-5FE109E1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47C-F3D0-44D8-9921-04D75B29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FB0-8CAD-4DB6-B805-AB4618F2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EAF7-90AE-4A9F-BD4E-4477BBE0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DF57-FB95-4249-A8E8-319432AA7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0880" cy="6130800"/>
              <a:chOff x="5409360" y="61560"/>
              <a:chExt cx="362088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240" y="346680"/>
                <a:ext cx="2115000" cy="23569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120"/>
                <a:ext cx="906120" cy="84240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9092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320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3560" y="264528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9640" y="2930760"/>
                <a:ext cx="52344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8440"/>
              <a:ext cx="892800" cy="825840"/>
              <a:chOff x="5652360" y="29844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3200" y="473040"/>
                <a:ext cx="30528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816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61400"/>
              <a:ext cx="1059480" cy="830880"/>
              <a:chOff x="968400" y="526140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768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600"/>
                <a:ext cx="448920" cy="127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F330-DEA6-4E4F-9BFC-0D1D40B54878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71640" y="909720"/>
            <a:ext cx="720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東信國小</a:t>
            </a:r>
            <a:r>
              <a:rPr b="1" lang="en-US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102</a:t>
            </a: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學年度</a:t>
            </a:r>
            <a:br>
              <a:rPr sz="4000"/>
            </a:br>
            <a:br>
              <a:rPr sz="4000"/>
            </a:b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二年級課程計畫簡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Picture 9" descr="j0336075"/>
          <p:cNvPicPr/>
          <p:nvPr/>
        </p:nvPicPr>
        <p:blipFill>
          <a:blip r:embed="rId1"/>
          <a:stretch/>
        </p:blipFill>
        <p:spPr>
          <a:xfrm>
            <a:off x="2913120" y="3201840"/>
            <a:ext cx="33876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456000" y="927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Verdana"/>
                <a:ea typeface="標楷體"/>
              </a:rPr>
              <a:t>報告大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340000" y="2133720"/>
            <a:ext cx="43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東信閱讀通介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說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5" descr="himwar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4138560" y="2492280"/>
            <a:ext cx="1873440" cy="15112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上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公雞孵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尊重生命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Oval 3"/>
          <p:cNvSpPr/>
          <p:nvPr/>
        </p:nvSpPr>
        <p:spPr>
          <a:xfrm>
            <a:off x="2987640" y="2214720"/>
            <a:ext cx="1084320" cy="92520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性別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Oval 4"/>
          <p:cNvSpPr/>
          <p:nvPr/>
        </p:nvSpPr>
        <p:spPr>
          <a:xfrm>
            <a:off x="2987640" y="3357720"/>
            <a:ext cx="1084320" cy="8618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生命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200" y="234792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紅公雞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754200" y="342900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流浪狗</a:t>
            </a:r>
            <a:r>
              <a:rPr b="0" lang="zh-TW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299280" y="2492280"/>
            <a:ext cx="2344680" cy="15112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上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後跳二跳一迴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4138560" y="4653000"/>
            <a:ext cx="1873440" cy="1584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下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心情故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肯定自我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2987640" y="4500720"/>
            <a:ext cx="1084320" cy="8715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情緒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2987640" y="5572080"/>
            <a:ext cx="1084320" cy="8794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自我認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754200" y="450864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生氣湯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54200" y="5587920"/>
            <a:ext cx="208908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大象艾瑪</a:t>
            </a:r>
            <a:r>
              <a:rPr b="0" lang="zh-TW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6299280" y="4653000"/>
            <a:ext cx="2344680" cy="1584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下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後跳一跳一迴旋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0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次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357120" y="622440"/>
            <a:ext cx="8001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新細明體"/>
              </a:rPr>
              <a:t>102</a:t>
            </a:r>
            <a:r>
              <a:rPr b="1" lang="zh-TW" sz="3000" spc="-1" strike="noStrike">
                <a:solidFill>
                  <a:srgbClr val="ff0066"/>
                </a:solidFill>
                <a:latin typeface="Verdana"/>
                <a:ea typeface="標楷體"/>
              </a:rPr>
              <a:t>學年度二年級學校本位特色課程規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4138560" y="1341360"/>
            <a:ext cx="1873440" cy="792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66"/>
                </a:solidFill>
                <a:latin typeface="Times New Roman"/>
                <a:ea typeface="標楷體"/>
              </a:rPr>
              <a:t>語文領域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ff"/>
                </a:solidFill>
                <a:latin typeface="Times New Roman"/>
                <a:ea typeface="標楷體"/>
              </a:rPr>
              <a:t>東信閱讀通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6299280" y="1341360"/>
            <a:ext cx="2017800" cy="7984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66"/>
                </a:solidFill>
                <a:latin typeface="Times New Roman"/>
                <a:ea typeface="標楷體"/>
              </a:rPr>
              <a:t>健體領域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660066"/>
                </a:solidFill>
                <a:latin typeface="Times New Roman"/>
                <a:ea typeface="標楷體"/>
              </a:rPr>
              <a:t>跳躍繩奇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81"/>
          <p:cNvSpPr/>
          <p:nvPr/>
        </p:nvSpPr>
        <p:spPr>
          <a:xfrm>
            <a:off x="642960" y="14184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性別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042920" y="981000"/>
          <a:ext cx="7058160" cy="5426280"/>
        </p:xfrm>
        <a:graphic>
          <a:graphicData uri="http://schemas.openxmlformats.org/drawingml/2006/table">
            <a:tbl>
              <a:tblPr/>
              <a:tblGrid>
                <a:gridCol w="909720"/>
                <a:gridCol w="609480"/>
                <a:gridCol w="540000"/>
                <a:gridCol w="1476360"/>
                <a:gridCol w="1476360"/>
                <a:gridCol w="1022400"/>
                <a:gridCol w="1023840"/>
              </a:tblGrid>
              <a:tr h="101592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配合活動名稱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領域或議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評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方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205360"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公雞孵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性 別 教 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紅 公 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事誰來做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『何謂家事？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每人家中的家事分配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負責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聆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誰來照顧我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觀賞『文建會兒童文化館』相關動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故事內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負責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聆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9"/>
          <p:cNvSpPr/>
          <p:nvPr/>
        </p:nvSpPr>
        <p:spPr>
          <a:xfrm>
            <a:off x="437040" y="21312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生命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06360" y="662040"/>
          <a:ext cx="8424720" cy="5711760"/>
        </p:xfrm>
        <a:graphic>
          <a:graphicData uri="http://schemas.openxmlformats.org/drawingml/2006/table">
            <a:tbl>
              <a:tblPr/>
              <a:tblGrid>
                <a:gridCol w="1008000"/>
                <a:gridCol w="708120"/>
                <a:gridCol w="628560"/>
                <a:gridCol w="1982880"/>
                <a:gridCol w="1982880"/>
                <a:gridCol w="1057320"/>
                <a:gridCol w="1056960"/>
              </a:tblGrid>
              <a:tr h="609480"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配合活動名稱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或議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評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方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524240">
                <a:tc rowSpan="4">
                  <a:txBody>
                    <a:bodyPr lIns="12240" rIns="122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尊重生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2240" rIns="122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 命 教 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2240" rIns="122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流浪狗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你從哪裡來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『為何會有流浪狗？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看到流浪狗的感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3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角色扮演─如果我是一隻流浪狗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庭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扮演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繪本分享與討論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觀賞『文建會兒童文化館』相關動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故事內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聆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猜猜我是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模仿小動物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結合民間愛狗團體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寵物心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能模仿各種小動物的姿態並分享飼養寵物心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動物日記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完成學習單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共同分享飼養心得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庭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能記錄動物的成長並愛護小動物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9"/>
          <p:cNvSpPr/>
          <p:nvPr/>
        </p:nvSpPr>
        <p:spPr>
          <a:xfrm>
            <a:off x="666360" y="21312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三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情緒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00040" y="836640"/>
          <a:ext cx="8248680" cy="5900760"/>
        </p:xfrm>
        <a:graphic>
          <a:graphicData uri="http://schemas.openxmlformats.org/drawingml/2006/table">
            <a:tbl>
              <a:tblPr/>
              <a:tblGrid>
                <a:gridCol w="1192320"/>
                <a:gridCol w="807840"/>
                <a:gridCol w="668520"/>
                <a:gridCol w="1852560"/>
                <a:gridCol w="1852560"/>
                <a:gridCol w="936720"/>
                <a:gridCol w="938160"/>
              </a:tblGrid>
              <a:tr h="682560"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領域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38320">
                <a:tc rowSpan="3">
                  <a:txBody>
                    <a:bodyPr lIns="12240" rIns="122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心情故事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2240" rIns="122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情緒教育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2240" rIns="122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 氣 湯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心情故事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繪本導讀生氣湯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心得分享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氣的經驗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ts val="1998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角色扮演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人權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能說出自己如何處理情緒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我是小主人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時間大作戰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自己的一天時間安排分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我會比比看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透過比較了解有計畫的安排生活能讓生活更順利減少生氣的機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數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能安排自己的一天時間分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我有話要說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請聽我說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了解不好的情緒可以跟哪些人談談而獲得紓解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倒垃圾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談談目前覺得生氣的事情煮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一鍋消氣湯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其他可以消氣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人權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庭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能用各種方式來自己調適心情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9"/>
          <p:cNvSpPr/>
          <p:nvPr/>
        </p:nvSpPr>
        <p:spPr>
          <a:xfrm>
            <a:off x="809280" y="-108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四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自我認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71640" y="620640"/>
          <a:ext cx="7272360" cy="5803920"/>
        </p:xfrm>
        <a:graphic>
          <a:graphicData uri="http://schemas.openxmlformats.org/drawingml/2006/table">
            <a:tbl>
              <a:tblPr/>
              <a:tblGrid>
                <a:gridCol w="811080"/>
                <a:gridCol w="665280"/>
                <a:gridCol w="579240"/>
                <a:gridCol w="1738440"/>
                <a:gridCol w="1739880"/>
                <a:gridCol w="927000"/>
                <a:gridCol w="811440"/>
              </a:tblGrid>
              <a:tr h="762120"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配合活動名稱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領域或議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270080">
                <a:tc rowSpan="4">
                  <a:txBody>
                    <a:bodyPr lIns="13320" rIns="133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肯定自我學習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3320" marR="133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3320" rIns="133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自我認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3320" rIns="133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大象艾瑪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導讀及討論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透過學生們的相互討論對同一問題有不同的想法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發表討論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我是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透過學習單的分享與討論，讓學生更深一層的認識並了解自己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經驗分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角色扮演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生的親自參與，更能體會出書中主角的感受與想法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綜合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角色扮演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彩色象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設計心目中的一隻或一群彩色象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能繪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700360" y="69228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476360" y="404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規劃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標楷體"/>
              </a:rPr>
              <a:t>「讀經教育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611280" y="1442880"/>
            <a:ext cx="7921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4120" bIns="114120" anchor="ctr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壹、課程設計與實施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二年級全體老師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貳、設計理念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透過共同讀經活動，配合教師適度引導，讓孩子學習聖賢經典中做人處世的道理，在生活中身體力行，導正日常生活常規與觀念，並且希望藉讀經活動提升學生的專注力及語文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參、學習目標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專心誦讀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正確背出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在日常生活中實踐習得之道理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4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培養學生識字、認讀的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肆、教學策略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運用領讀→齊讀→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輪讀→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接讀循序漸進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利用日常發生之實際例子進行解說、分享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ff0066"/>
                </a:solidFill>
                <a:latin typeface="標楷體"/>
                <a:ea typeface="標楷體"/>
              </a:rPr>
              <a:t>配合學生護照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，背誦完畢後於集會時公開頒發獎狀予以鼓勵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伍、讀經教材規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二年級上學期：朱子治家格言 部首表        二年級下學期：千字文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Picture 8" descr="穿衣服的蠻頭"/>
          <p:cNvPicPr/>
          <p:nvPr/>
        </p:nvPicPr>
        <p:blipFill>
          <a:blip r:embed="rId1"/>
          <a:stretch/>
        </p:blipFill>
        <p:spPr>
          <a:xfrm>
            <a:off x="6500880" y="2781360"/>
            <a:ext cx="161136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File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1214280" y="20001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謝謝您耐心的聆聽</a:t>
            </a:r>
            <a:r>
              <a:rPr b="1" lang="en-US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~</a:t>
            </a: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報告完畢！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7:06:58Z</dcterms:created>
  <dc:creator>USER</dc:creator>
  <dc:description/>
  <dc:language>en-US</dc:language>
  <cp:lastModifiedBy>klpc</cp:lastModifiedBy>
  <dcterms:modified xsi:type="dcterms:W3CDTF">2013-08-02T00:44:44Z</dcterms:modified>
  <cp:revision>114</cp:revision>
  <dc:subject/>
  <dc:title>投影片 1</dc:title>
</cp:coreProperties>
</file>