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23E-F9E8-40C1-A1A1-4EA1190C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FAC-F545-4B40-8EEF-FE4BBC1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516-26DE-4BDF-8DDC-9CFDA4AB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865-9A68-4011-9117-D4F5449E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C5ED-C543-40B7-BA2A-2357AAF1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09F-5D57-491A-99BC-FC93D36C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12CE-308C-43D8-85C0-E3BE5B81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8C7-58DF-4451-8992-C4727B6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1795-F3F7-4DFB-82EE-6C4EF447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9445-5A8E-42BE-8447-CCD1FE0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65E7-8D1C-4939-BE44-E2A28EA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C8E-8DF4-4EDC-86B1-88915FE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4C02-3337-428C-B648-86055F7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D91A-8E05-4E43-9633-3B70FE0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1485-CE2C-42BD-9EC2-D04F64C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D60F-FEB4-4587-88CC-9AE6A2CF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F5F3-4833-4BC0-AB5F-FC331286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A0D-FF9D-4887-91C8-D28E004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183-F9DF-49B6-9122-8AA8A93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FF9-90B1-4786-91A4-29D9AF56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A82-960E-4695-A755-4AB3179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1BF-B878-4EE0-AE4E-B931C0F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FF4-00FB-4953-9613-A316C77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AB0-C5B0-47B8-8DD5-3BAFA7D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A792-5209-4315-B35E-C3D65EB9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62A-0110-4EFD-9063-3BAC68A8DAD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4360" y="1054080"/>
          <a:ext cx="7920000" cy="5421240"/>
        </p:xfrm>
        <a:graphic>
          <a:graphicData uri="http://schemas.openxmlformats.org/drawingml/2006/table">
            <a:tbl>
              <a:tblPr/>
              <a:tblGrid>
                <a:gridCol w="1150920"/>
                <a:gridCol w="1512720"/>
                <a:gridCol w="1008000"/>
                <a:gridCol w="3240360"/>
                <a:gridCol w="1008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國語文競賽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學年特色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校慶活動、運動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、母親節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2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三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8" name="群組 16"/>
          <p:cNvGrpSpPr/>
          <p:nvPr/>
        </p:nvGrpSpPr>
        <p:grpSpPr>
          <a:xfrm>
            <a:off x="754200" y="1341360"/>
            <a:ext cx="7562880" cy="5110200"/>
            <a:chOff x="754200" y="1341360"/>
            <a:chExt cx="7562880" cy="5110200"/>
          </a:xfrm>
        </p:grpSpPr>
        <p:sp>
          <p:nvSpPr>
            <p:cNvPr id="349" name="Text Box 2"/>
            <p:cNvSpPr/>
            <p:nvPr/>
          </p:nvSpPr>
          <p:spPr>
            <a:xfrm>
              <a:off x="4138920" y="2492280"/>
              <a:ext cx="187308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 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書的禮物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Oval 3"/>
            <p:cNvSpPr/>
            <p:nvPr/>
          </p:nvSpPr>
          <p:spPr>
            <a:xfrm>
              <a:off x="2987640" y="234936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性別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Oval 4"/>
            <p:cNvSpPr/>
            <p:nvPr/>
          </p:nvSpPr>
          <p:spPr>
            <a:xfrm>
              <a:off x="2987640" y="335592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生命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754200" y="234756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威廉的洋娃娃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754200" y="342900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讓路給小鴨子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6299280" y="2492280"/>
              <a:ext cx="201780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手開叉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138920" y="4653000"/>
              <a:ext cx="187308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閱讀飛翔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987640" y="450864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情緒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2987640" y="5587920"/>
              <a:ext cx="107928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自我認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4200" y="450864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我變成一隻噴火龍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Text Box 12"/>
            <p:cNvSpPr/>
            <p:nvPr/>
          </p:nvSpPr>
          <p:spPr>
            <a:xfrm>
              <a:off x="754200" y="558792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你很特別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6299280" y="4653000"/>
              <a:ext cx="201780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交叉跳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4138920" y="1341360"/>
              <a:ext cx="1873080" cy="79200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語文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ff"/>
                  </a:solidFill>
                  <a:latin typeface="Times New Roman"/>
                  <a:ea typeface="標楷體"/>
                </a:rPr>
                <a:t>東信閱讀通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Text Box 16"/>
            <p:cNvSpPr/>
            <p:nvPr/>
          </p:nvSpPr>
          <p:spPr>
            <a:xfrm>
              <a:off x="6299280" y="1341360"/>
              <a:ext cx="2017800" cy="7984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健體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跳躍繩奇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125360"/>
          <a:ext cx="7662600" cy="54262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6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男女大不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性別平等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性侵害防治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威廉的洋娃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威廉的洋娃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用心聆聽並明瞭故事內容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引導學生對師長所介紹的書籍產生閱讀興趣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帥哥、美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變裝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角色互換扮演（男扮女、女扮男）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分享扮演異性的心得，以體認性別的差異，並增進性別之間的良性互動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男生女生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經由遊戲培養和同儕間的平和相處和彼此尊重的態度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拍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並於遊戲後分享心得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謀求和同學間的相處之道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1268280"/>
          <a:ext cx="7662600" cy="3902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愛發光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人權法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路給小鴨子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命的體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前胸背書包，走路、跑步體驗媽媽懷孕的辛苦，培養感恩惜福的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關懷弱勢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與里長有約─請教需關懷的對象及如何協助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讓路給小鴨子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彈性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907920"/>
          <a:ext cx="7669080" cy="5769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9000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生氣了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教育、壓力調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大轟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師生分享自己的情緒，讓小朋友說出不愉快的狀況和自己排解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共同閱讀繪本，並能說一說故事的大意、內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深究內容，共同討論，思考如何解決問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蚊子波泰最喜歡吸哪種人的血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也像阿古力一樣愛生氣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生氣的火造成了什麼後果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用了哪些方法想讓火熄滅？最後他的火是怎麼熄掉的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當你很生氣時，你知道有哪些方法讓自己不生氣的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創作四格漫畫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將故事內容利用四格漫畫的方式來呈現，並加入自己的創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原本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原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氣造成的後果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藝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利用收氣桶來抒發自己的情緒，並思考排解情緒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在教室內設置收氣桶，鼓勵學生將發脾氣的情況、原因寫下，投入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分享收氣桶內的內容，並討論自己的感受與解決的方法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健體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4360" y="977760"/>
          <a:ext cx="7920000" cy="3430800"/>
        </p:xfrm>
        <a:graphic>
          <a:graphicData uri="http://schemas.openxmlformats.org/drawingml/2006/table">
            <a:tbl>
              <a:tblPr/>
              <a:tblGrid>
                <a:gridCol w="669600"/>
                <a:gridCol w="696960"/>
                <a:gridCol w="720720"/>
                <a:gridCol w="1276560"/>
                <a:gridCol w="2278080"/>
                <a:gridCol w="909720"/>
                <a:gridCol w="13683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0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信心百分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自我認同、家庭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很特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男女主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4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說出最欣賞自己哪些地方及欣賞的原因</a:t>
                      </a:r>
                      <a:r>
                        <a:rPr b="0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優點大轟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請同學們輪流說出某一位同學的優點，做詳細具體的描述，並且肯定他的行為，讓被肯定的同學更有自信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三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本課程設計配合學校本位課程縱向（健康與體育領域）發展特色，利用觀察、觀賞本校民俗活動，帶入跳繩活動，協助學生學習、學會各種跳繩方式的動作要領和如何預防運動傷害，及處理方式，再藉由資料蒐集、討論、分享等活動，幫助學生認識更多不同特色的民俗活動，進而陪養其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遊戲的方式，學會簡單的單人跳繩技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技能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知道簡易的運動傷害處理方式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認知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會欣賞民俗才藝表演並分享心得，且做成紀錄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的活動體會運動的重要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跳繩活動，進而培養學生對休閒活動的興趣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以學生舊經驗來安排各項學習活動，且活動設計趨向於活動化、趣味化，以增加學生的參與，在教學上採以合作學習、互動學習等教學方式，來引導學生進行學習。而評量方式以多元化、多樣化的方式來評量學生學習過程，來激發學生主主動參與的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生能力分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運動對一個人是有至高無上的益處，三年級的小朋友雖非在青春發育期內，但由於腦力正在持績發展，更要有適當足鮈的活動來刺激腦部的成長，跳繩是一種既方便且具成效的運動方式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跳躍繩奇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3" name="圖片 12" descr="過年.jpg"/>
          <p:cNvPicPr/>
          <p:nvPr/>
        </p:nvPicPr>
        <p:blipFill>
          <a:blip r:embed="rId1"/>
          <a:stretch/>
        </p:blipFill>
        <p:spPr>
          <a:xfrm>
            <a:off x="6948360" y="2097000"/>
            <a:ext cx="1648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66"/>
                </a:solidFill>
                <a:latin typeface="Verdana"/>
              </a:rPr>
              <a:t>六、學習活動設計架構圖：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3924360" y="2924280"/>
            <a:ext cx="1257120" cy="685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跳躍繩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3348000" y="1413000"/>
            <a:ext cx="2448000" cy="1455480"/>
          </a:xfrm>
          <a:prstGeom prst="downArrowCallout">
            <a:avLst>
              <a:gd name="adj1" fmla="val 33937"/>
              <a:gd name="adj2" fmla="val 33942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歡喜跳繩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家政教育、人權教育、性別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1187280" y="2781360"/>
            <a:ext cx="2629080" cy="1028520"/>
          </a:xfrm>
          <a:prstGeom prst="rightArrowCallout">
            <a:avLst>
              <a:gd name="adj1" fmla="val 40106"/>
              <a:gd name="adj2" fmla="val 45454"/>
              <a:gd name="adj3" fmla="val 42437"/>
              <a:gd name="adj4" fmla="val 7277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我的最愛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生涯發展、環境教育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292720" y="2781360"/>
            <a:ext cx="2629080" cy="1028520"/>
          </a:xfrm>
          <a:prstGeom prst="leftArrowCallout">
            <a:avLst>
              <a:gd name="adj1" fmla="val 45004"/>
              <a:gd name="adj2" fmla="val 48148"/>
              <a:gd name="adj3" fmla="val 37869"/>
              <a:gd name="adj4" fmla="val 75317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有趣的民俗活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環境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492360" y="3716280"/>
            <a:ext cx="2171880" cy="1600200"/>
          </a:xfrm>
          <a:prstGeom prst="upArrowCallout">
            <a:avLst>
              <a:gd name="adj1" fmla="val 33934"/>
              <a:gd name="adj2" fmla="val 36909"/>
              <a:gd name="adj3" fmla="val 16667"/>
              <a:gd name="adj4" fmla="val 6666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『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繩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』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祕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性別教育、生涯發展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11280" y="1168560"/>
            <a:ext cx="79214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三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 輪讀→ 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</a:t>
            </a: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：朱子治家格言、千字文、孝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三年級：二年級未完成的部分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標楷體"/>
              </a:rPr>
              <a:t>,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論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3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夠上台流暢的說出一則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小小說書人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改編高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改編童話而創新作品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3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F-1-6-7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自製九九乘法表並運用乘法解決二位數乘一位數的問題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565360"/>
              <a:ext cx="113184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九九乘法大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公平分一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643200"/>
              <a:ext cx="250020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將老師給的花片或個體物平分給指定的人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6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168280"/>
            <a:chOff x="3297240" y="4500720"/>
            <a:chExt cx="5703840" cy="216828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024720" cy="90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綠豆的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學生自行挑選一種植物觀察並製作成生長筆記或小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79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600"/>
              <a:ext cx="1131840" cy="81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572080"/>
              <a:ext cx="306612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蓋斑鬥魚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班級自行挑選一種小動物觀察並製作成生長週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7923960" y="4500720"/>
              <a:ext cx="107712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1-2-5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7923960" y="5786280"/>
              <a:ext cx="1077120" cy="81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2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10480" y="5106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15160" y="6189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68240"/>
            <a:ext cx="2751120" cy="93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知道東信校園的自然及空間特色，進而認識與感受和校外地區的差異性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美之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726080" y="4280040"/>
            <a:ext cx="3132000" cy="94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欣賞本校民俗班跳繩表演，認識並了解“跳繩”運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了解跳繩運動對身體的幫助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說出跳繩基本跳法名稱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168560" cy="80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舞動奇蹟（跳繩１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505400" y="46004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557680"/>
            <a:ext cx="1170000" cy="92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“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繩”采飛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505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681440" y="5500800"/>
            <a:ext cx="3176640" cy="98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做出各項單人跳繩基本跳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察覺跳繩運動對體能及健康促進，進而發覺其他可替代的運動項目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繪製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700280"/>
            <a:ext cx="2751120" cy="8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從地圖中知道東信的所在地，並能簡略的繪製校園的平面圖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323120" y="108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323120" y="183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10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24720" y="78588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1  1-2-7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3  1-2-8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524720" y="157176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637000"/>
            <a:ext cx="8389800" cy="1574640"/>
            <a:chOff x="611280" y="2637000"/>
            <a:chExt cx="8389800" cy="1574640"/>
          </a:xfrm>
        </p:grpSpPr>
        <p:sp>
          <p:nvSpPr>
            <p:cNvPr id="251" name="AutoShape 21"/>
            <p:cNvSpPr/>
            <p:nvPr/>
          </p:nvSpPr>
          <p:spPr>
            <a:xfrm>
              <a:off x="611280" y="3043800"/>
              <a:ext cx="2016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4243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637000"/>
              <a:ext cx="6024960" cy="1574640"/>
              <a:chOff x="2976120" y="2637000"/>
              <a:chExt cx="6024960" cy="157464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932000" y="2637000"/>
                <a:ext cx="2390400" cy="787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校園中適合遊戲的各種素材，進行造型遊戲並佈置美化校園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637000"/>
                <a:ext cx="1384200" cy="85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校園遊樂場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995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8340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681440" y="30704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573000"/>
                <a:ext cx="1749240" cy="61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我的校園我的歌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5046480" y="38833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5220000" y="3473640"/>
                <a:ext cx="2102400" cy="705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直笛吹奏出校歌，增加對學校的認同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996280"/>
                <a:ext cx="108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323120" y="2995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354800" y="38721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7536600" y="2638800"/>
                <a:ext cx="146448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11 1-2-1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 </a:t>
                </a:r>
                <a:r>
                  <a:rPr b="0" lang="zh-TW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2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7569360" y="3494520"/>
                <a:ext cx="143172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4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2-7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79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2  4-2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2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72280" y="5322960"/>
            <a:ext cx="917640" cy="1116000"/>
          </a:xfrm>
          <a:custGeom>
            <a:avLst/>
            <a:gdLst>
              <a:gd name="textAreaLeft" fmla="*/ 44640 w 917640"/>
              <a:gd name="textAreaRight" fmla="*/ 873000 w 917640"/>
              <a:gd name="textAreaTop" fmla="*/ 44640 h 1116000"/>
              <a:gd name="textAreaBottom" fmla="*/ 1071360 h 1116000"/>
            </a:gdLst>
            <a:ahLst/>
            <a:rect l="textAreaLeft" t="textAreaTop" r="textAreaRight" b="textAreaBottom"/>
            <a:pathLst>
              <a:path w="21600" h="26267">
                <a:moveTo>
                  <a:pt x="3600" y="0"/>
                </a:moveTo>
                <a:arcTo wR="3600" hR="3600" stAng="16200000" swAng="-5400000"/>
                <a:lnTo>
                  <a:pt x="0" y="22667"/>
                </a:lnTo>
                <a:arcTo wR="3600" hR="3600" stAng="10800000" swAng="-5400000"/>
                <a:lnTo>
                  <a:pt x="18000" y="26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2  3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3  4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021520" cy="1573200"/>
            <a:chOff x="428760" y="2143080"/>
            <a:chExt cx="8021520" cy="1573200"/>
          </a:xfrm>
        </p:grpSpPr>
        <p:sp>
          <p:nvSpPr>
            <p:cNvPr id="274" name="Line 4"/>
            <p:cNvSpPr/>
            <p:nvPr/>
          </p:nvSpPr>
          <p:spPr>
            <a:xfrm>
              <a:off x="2793960" y="249840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3256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545200"/>
              <a:ext cx="2016000" cy="80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98040"/>
              <a:ext cx="1080" cy="82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9210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335560" cy="1573200"/>
              <a:chOff x="3114720" y="2143080"/>
              <a:chExt cx="5335560" cy="157320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9640"/>
                <a:ext cx="235728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參觀社區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(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四季春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)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廚餘推肥並試作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環保停看聽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970000"/>
                <a:ext cx="153108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動動手做環保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645080" y="3360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860000" y="3005640"/>
                <a:ext cx="210096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推肥及資收器皿來美化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3447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964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3005640"/>
                <a:ext cx="82152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3132000" y="2590920"/>
            <a:ext cx="2583000" cy="16383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探索東信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53"/>
          <p:cNvSpPr/>
          <p:nvPr/>
        </p:nvSpPr>
        <p:spPr>
          <a:xfrm>
            <a:off x="3657600" y="176220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二、海洋的禮物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52"/>
          <p:cNvSpPr/>
          <p:nvPr/>
        </p:nvSpPr>
        <p:spPr>
          <a:xfrm>
            <a:off x="1836720" y="420048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一、小小園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51"/>
          <p:cNvSpPr/>
          <p:nvPr/>
        </p:nvSpPr>
        <p:spPr>
          <a:xfrm>
            <a:off x="5051520" y="411156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三、男女翹翹板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6399360" y="771480"/>
            <a:ext cx="2565360" cy="1562040"/>
          </a:xfrm>
          <a:prstGeom prst="wedgeRectCallout">
            <a:avLst>
              <a:gd name="adj1" fmla="val -90106"/>
              <a:gd name="adj2" fmla="val 295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奇幻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小水滴遊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、藝術與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國防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684360" y="844560"/>
            <a:ext cx="2280960" cy="1603440"/>
          </a:xfrm>
          <a:prstGeom prst="wedgeRectCallout">
            <a:avLst>
              <a:gd name="adj1" fmla="val 79101"/>
              <a:gd name="adj2" fmla="val 266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超級變變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打造魚兒的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語文、閱讀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環境教育、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187200" y="4978440"/>
            <a:ext cx="1671840" cy="1574640"/>
          </a:xfrm>
          <a:prstGeom prst="wedgeRectCallout">
            <a:avLst>
              <a:gd name="adj1" fmla="val 44583"/>
              <a:gd name="adj2" fmla="val -70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大自然奇遇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藝術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家政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47"/>
          <p:cNvSpPr/>
          <p:nvPr/>
        </p:nvSpPr>
        <p:spPr>
          <a:xfrm>
            <a:off x="2193840" y="5141880"/>
            <a:ext cx="1730520" cy="1411200"/>
          </a:xfrm>
          <a:prstGeom prst="wedgeRectCallout">
            <a:avLst>
              <a:gd name="adj1" fmla="val 4949"/>
              <a:gd name="adj2" fmla="val -7043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生命的脈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數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健康促進、生命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46"/>
          <p:cNvSpPr/>
          <p:nvPr/>
        </p:nvSpPr>
        <p:spPr>
          <a:xfrm>
            <a:off x="187200" y="2562120"/>
            <a:ext cx="2006640" cy="1447920"/>
          </a:xfrm>
          <a:prstGeom prst="wedgeRectCallout">
            <a:avLst>
              <a:gd name="adj1" fmla="val 64347"/>
              <a:gd name="adj2" fmla="val 56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身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圖鑑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自然、資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防災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45"/>
          <p:cNvSpPr/>
          <p:nvPr/>
        </p:nvSpPr>
        <p:spPr>
          <a:xfrm>
            <a:off x="6824520" y="2505240"/>
            <a:ext cx="1714680" cy="1562040"/>
          </a:xfrm>
          <a:prstGeom prst="wedgeRectCallout">
            <a:avLst>
              <a:gd name="adj1" fmla="val -56555"/>
              <a:gd name="adj2" fmla="val 685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同學你我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當我們同在一起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社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平等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4932360" y="5157720"/>
            <a:ext cx="1467000" cy="1395360"/>
          </a:xfrm>
          <a:prstGeom prst="wedgeRectCallout">
            <a:avLst>
              <a:gd name="adj1" fmla="val -12513"/>
              <a:gd name="adj2" fmla="val -8212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身體新視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平等、家庭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873840" y="5113440"/>
            <a:ext cx="1784520" cy="1439640"/>
          </a:xfrm>
          <a:prstGeom prst="wedgeRectCallout">
            <a:avLst>
              <a:gd name="adj1" fmla="val -60152"/>
              <a:gd name="adj2" fmla="val -809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禮儀停看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綜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0" name="Group 17"/>
          <p:cNvGrpSpPr/>
          <p:nvPr/>
        </p:nvGrpSpPr>
        <p:grpSpPr>
          <a:xfrm>
            <a:off x="511200" y="912960"/>
            <a:ext cx="8291160" cy="5611680"/>
            <a:chOff x="511200" y="912960"/>
            <a:chExt cx="8291160" cy="5611680"/>
          </a:xfrm>
        </p:grpSpPr>
        <p:sp>
          <p:nvSpPr>
            <p:cNvPr id="331" name="AutoShape 28"/>
            <p:cNvSpPr/>
            <p:nvPr/>
          </p:nvSpPr>
          <p:spPr>
            <a:xfrm>
              <a:off x="3164400" y="3034080"/>
              <a:ext cx="2984760" cy="1508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探索東信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3495960" y="253152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二、咱的好所在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AutoShape 26"/>
            <p:cNvSpPr/>
            <p:nvPr/>
          </p:nvSpPr>
          <p:spPr>
            <a:xfrm>
              <a:off x="1503360" y="4365000"/>
              <a:ext cx="2321280" cy="4435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一、蟲蟲日記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5320080" y="436500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三、童話花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5652000" y="1052280"/>
              <a:ext cx="1989720" cy="1301400"/>
            </a:xfrm>
            <a:prstGeom prst="wedgeRectCallout">
              <a:avLst>
                <a:gd name="adj1" fmla="val -45814"/>
                <a:gd name="adj2" fmla="val 5818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文化祭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海洋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海洋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國防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AutoShape 23"/>
            <p:cNvSpPr/>
            <p:nvPr/>
          </p:nvSpPr>
          <p:spPr>
            <a:xfrm>
              <a:off x="676800" y="912960"/>
              <a:ext cx="3147840" cy="1470600"/>
            </a:xfrm>
            <a:prstGeom prst="wedgeRectCallout">
              <a:avLst>
                <a:gd name="adj1" fmla="val 47004"/>
                <a:gd name="adj2" fmla="val 5855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我們居住的地方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地方特色與居民的 特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社會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、性別教育、家庭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教育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AutoShape 22"/>
            <p:cNvSpPr/>
            <p:nvPr/>
          </p:nvSpPr>
          <p:spPr>
            <a:xfrm>
              <a:off x="511200" y="5163840"/>
              <a:ext cx="1989720" cy="1360800"/>
            </a:xfrm>
            <a:prstGeom prst="wedgeRectCallout">
              <a:avLst>
                <a:gd name="adj1" fmla="val -1712"/>
                <a:gd name="adj2" fmla="val -7097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之嘉年華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藝術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環境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2666880" y="5163840"/>
              <a:ext cx="1824120" cy="1360800"/>
            </a:xfrm>
            <a:prstGeom prst="wedgeRectCallout">
              <a:avLst>
                <a:gd name="adj1" fmla="val 4949"/>
                <a:gd name="adj2" fmla="val -7043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美麗新家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綜合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涯發展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AutoShape 20"/>
            <p:cNvSpPr/>
            <p:nvPr/>
          </p:nvSpPr>
          <p:spPr>
            <a:xfrm>
              <a:off x="511200" y="2753280"/>
              <a:ext cx="1989720" cy="1375560"/>
            </a:xfrm>
            <a:prstGeom prst="wedgeRectCallout">
              <a:avLst>
                <a:gd name="adj1" fmla="val 52398"/>
                <a:gd name="adj2" fmla="val 6446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大家來種菜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動物大會師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自然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命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資訊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>
              <a:off x="6315120" y="2531520"/>
              <a:ext cx="2487240" cy="1597320"/>
            </a:xfrm>
            <a:prstGeom prst="wedgeRectCallout">
              <a:avLst>
                <a:gd name="adj1" fmla="val -48638"/>
                <a:gd name="adj2" fmla="val 617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回大地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改編高手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3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走進童話世界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閱讀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生涯發展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6149160" y="5163840"/>
              <a:ext cx="2653200" cy="1360800"/>
            </a:xfrm>
            <a:prstGeom prst="wedgeRectCallout">
              <a:avLst>
                <a:gd name="adj1" fmla="val -10657"/>
                <a:gd name="adj2" fmla="val -715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花之圓舞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藝術與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907920"/>
          <a:ext cx="7704000" cy="5348520"/>
        </p:xfrm>
        <a:graphic>
          <a:graphicData uri="http://schemas.openxmlformats.org/drawingml/2006/table">
            <a:tbl>
              <a:tblPr/>
              <a:tblGrid>
                <a:gridCol w="1120680"/>
                <a:gridCol w="1471680"/>
                <a:gridCol w="979560"/>
                <a:gridCol w="3151080"/>
                <a:gridCol w="981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室佈置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作業成果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歲末聯歡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8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user</cp:lastModifiedBy>
  <dcterms:modified xsi:type="dcterms:W3CDTF">2013-08-05T14:29:28Z</dcterms:modified>
  <cp:revision>125</cp:revision>
  <dc:subject/>
  <dc:title>投影片 1</dc:title>
</cp:coreProperties>
</file>