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1D77-F774-4371-AB95-7B2AF2BE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F2A3-9205-4B06-BCD8-15CC1026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F675-F8EB-46D5-B5C9-19796A5D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6E8D-B095-4859-83A6-A2CF3048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2668-18F1-4074-829A-E6F64E83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768A-B5A6-4A72-8EA3-F870E662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4CB0-C2A4-45B4-8204-41BF38E5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C3E4-72B1-464A-8982-47A8F749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C32D-3C3D-4296-B409-25D482CF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5336-FA98-447F-AC38-B086B321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4F84-EEFE-4F6D-B5ED-F3B08A81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CCD7-B7EA-4B2D-A2FB-38ADA1D5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8130-A871-4E50-8DE8-D89B1B30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FB40-0528-4E39-BBF8-9EC9A6E1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8961-8B81-42AC-BB45-99EBBC32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90A0-938C-4F12-9192-790BB704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DFEC-653A-438D-BA82-2C72264E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25B6-DDDA-488D-8C27-9DD9AA2D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667B-0EBE-439A-AA4B-D71A5402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4475-3CBA-4BA6-98EF-C0151E8A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701-EC03-4F57-8397-56E72B2F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9698-490C-4515-81A1-F8148AFE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AD46-F5D4-40DC-87D9-EEFE6367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9DE3-8860-4F5B-BF28-6BC16696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>
                    <a:gd name="textAreaLeft" fmla="*/ -360 w 476280"/>
                    <a:gd name="textAreaRight" fmla="*/ 476280 w 476280"/>
                    <a:gd name="textAreaTop" fmla="*/ 0 h 1223280"/>
                    <a:gd name="textAreaBottom" fmla="*/ 1223640 h 12232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>
                    <a:gd name="textAreaLeft" fmla="*/ 360 w 110160"/>
                    <a:gd name="textAreaRight" fmla="*/ 110880 w 110160"/>
                    <a:gd name="textAreaTop" fmla="*/ 0 h 502200"/>
                    <a:gd name="textAreaBottom" fmla="*/ 502560 h 5022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>
                    <a:gd name="textAreaLeft" fmla="*/ -360 w 199800"/>
                    <a:gd name="textAreaRight" fmla="*/ 199800 w 19980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3EE7-C49F-4B57-BA1B-9C2B080A2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720" y="59760"/>
              <a:ext cx="3620520" cy="6132600"/>
              <a:chOff x="5409720" y="59760"/>
              <a:chExt cx="3620520" cy="61326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4520"/>
                <a:ext cx="2113920" cy="2356560"/>
              </a:xfrm>
              <a:custGeom>
                <a:avLst/>
                <a:gdLst>
                  <a:gd name="textAreaLeft" fmla="*/ 0 w 2113920"/>
                  <a:gd name="textAreaRight" fmla="*/ 2114280 w 211392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6240"/>
                <a:ext cx="905400" cy="842760"/>
              </a:xfrm>
              <a:custGeom>
                <a:avLst/>
                <a:gdLst>
                  <a:gd name="textAreaLeft" fmla="*/ 0 w 905400"/>
                  <a:gd name="textAreaRight" fmla="*/ 905760 w 90540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8400"/>
                <a:ext cx="438840" cy="394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120" y="67068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840" y="264528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520" y="124308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080" cy="3267720"/>
              </a:xfrm>
              <a:custGeom>
                <a:avLst/>
                <a:gdLst>
                  <a:gd name="textAreaLeft" fmla="*/ 0 w 523080"/>
                  <a:gd name="textAreaRight" fmla="*/ 523440 w 52308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0560" y="296280"/>
              <a:ext cx="893160" cy="824760"/>
              <a:chOff x="5650560" y="296280"/>
              <a:chExt cx="893160" cy="824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040" y="47052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600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9960"/>
              <a:ext cx="1059120" cy="829800"/>
              <a:chOff x="968760" y="525996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516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452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FB6E-99B0-4273-8FBA-97E6A774EC39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971640" y="909720"/>
            <a:ext cx="720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東信國小</a:t>
            </a:r>
            <a:r>
              <a:rPr b="1" lang="en-US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102</a:t>
            </a: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學年度</a:t>
            </a:r>
            <a:br>
              <a:rPr sz="4000"/>
            </a:br>
            <a:br>
              <a:rPr sz="4000"/>
            </a:b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一年級課程計畫簡報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Picture 9" descr="j0336075"/>
          <p:cNvPicPr/>
          <p:nvPr/>
        </p:nvPicPr>
        <p:blipFill>
          <a:blip r:embed="rId1"/>
          <a:stretch/>
        </p:blipFill>
        <p:spPr>
          <a:xfrm>
            <a:off x="2913120" y="3201840"/>
            <a:ext cx="33876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428840" y="28584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一年級下學期彈性學習節數一覽表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324000" y="836640"/>
          <a:ext cx="8246880" cy="5365800"/>
        </p:xfrm>
        <a:graphic>
          <a:graphicData uri="http://schemas.openxmlformats.org/drawingml/2006/table">
            <a:tbl>
              <a:tblPr/>
              <a:tblGrid>
                <a:gridCol w="1649160"/>
                <a:gridCol w="1649520"/>
                <a:gridCol w="1649520"/>
                <a:gridCol w="2252520"/>
                <a:gridCol w="1046160"/>
              </a:tblGrid>
              <a:tr h="38412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項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   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目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內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   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節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  <a:tr h="530280">
                <a:tc rowSpan="3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學校及學年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教務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50000"/>
                      </a:srgbClr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教學成果展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6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學生事務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50000"/>
                      </a:srgbClr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校慶活動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、國防教育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、防災教育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輔導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50000"/>
                      </a:srgbClr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性別平等教育、性侵害及家暴防治教育、家庭教育、融合教育的特殊教育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8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節及運用晨間時間】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88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班級輔導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母親節活動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、班級田徑賽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、節慶活動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2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、校外教學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96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自主學習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引導學生獨立學習、自我學習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2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96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臨時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臨時交辦或配合活動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96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學校本位課程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快樂東信〈靜態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-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閱讀，動態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-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跳繩〉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0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補救教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數學補救教學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0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 gridSpan="3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上學期彈性學習總節數：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彈性學習節數每週節數：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3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80808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4138560" y="2492280"/>
            <a:ext cx="1873440" cy="151128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一上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1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當王子遇上公主</a:t>
            </a:r>
            <a:r>
              <a:rPr b="0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尊重生命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Oval 3"/>
          <p:cNvSpPr/>
          <p:nvPr/>
        </p:nvSpPr>
        <p:spPr>
          <a:xfrm>
            <a:off x="2987640" y="2214720"/>
            <a:ext cx="1084320" cy="92520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性別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Oval 4"/>
          <p:cNvSpPr/>
          <p:nvPr/>
        </p:nvSpPr>
        <p:spPr>
          <a:xfrm>
            <a:off x="2987640" y="3357720"/>
            <a:ext cx="1084320" cy="8618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生命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754200" y="2347920"/>
            <a:ext cx="208908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Verdana"/>
                <a:ea typeface="標楷體"/>
              </a:rPr>
              <a:t>灰王子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754200" y="3429000"/>
            <a:ext cx="208908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Verdana"/>
                <a:ea typeface="標楷體"/>
              </a:rPr>
              <a:t>貛的禮物</a:t>
            </a:r>
            <a:r>
              <a:rPr b="0" lang="zh-TW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6299280" y="2492280"/>
            <a:ext cx="2344680" cy="151128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一上 繩奇寶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1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安全高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七手八腳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（二跳一迴旋）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4138560" y="4653000"/>
            <a:ext cx="1873440" cy="158436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一下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1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生氣風暴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肯定自我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4" name="Oval 9"/>
          <p:cNvSpPr/>
          <p:nvPr/>
        </p:nvSpPr>
        <p:spPr>
          <a:xfrm>
            <a:off x="2987640" y="4500720"/>
            <a:ext cx="1084320" cy="8715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情緒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987640" y="5572080"/>
            <a:ext cx="1084320" cy="87948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自我認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754200" y="4508640"/>
            <a:ext cx="208908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Verdana"/>
                <a:ea typeface="標楷體"/>
              </a:rPr>
              <a:t>菲菲生氣了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Text Box 12"/>
          <p:cNvSpPr/>
          <p:nvPr/>
        </p:nvSpPr>
        <p:spPr>
          <a:xfrm>
            <a:off x="754200" y="5587920"/>
            <a:ext cx="2089080" cy="792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Verdana"/>
                <a:ea typeface="標楷體"/>
              </a:rPr>
              <a:t>自己的顏色</a:t>
            </a:r>
            <a:r>
              <a:rPr b="0" lang="zh-TW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Text Box 13"/>
          <p:cNvSpPr/>
          <p:nvPr/>
        </p:nvSpPr>
        <p:spPr>
          <a:xfrm>
            <a:off x="6299280" y="4653000"/>
            <a:ext cx="2344680" cy="158436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一下 繩奇寶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1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跳躍高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跑帶跳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一跳一迴旋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Rectangle 14"/>
          <p:cNvSpPr/>
          <p:nvPr/>
        </p:nvSpPr>
        <p:spPr>
          <a:xfrm>
            <a:off x="357120" y="622440"/>
            <a:ext cx="8001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新細明體"/>
              </a:rPr>
              <a:t>101</a:t>
            </a:r>
            <a:r>
              <a:rPr b="1" lang="zh-TW" sz="3000" spc="-1" strike="noStrike">
                <a:solidFill>
                  <a:srgbClr val="ff0066"/>
                </a:solidFill>
                <a:latin typeface="Verdana"/>
                <a:ea typeface="標楷體"/>
              </a:rPr>
              <a:t>學年度一年級學校本位特色課程規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Text Box 15"/>
          <p:cNvSpPr/>
          <p:nvPr/>
        </p:nvSpPr>
        <p:spPr>
          <a:xfrm>
            <a:off x="4138560" y="1341360"/>
            <a:ext cx="1873440" cy="79236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66"/>
                </a:solidFill>
                <a:latin typeface="Times New Roman"/>
                <a:ea typeface="標楷體"/>
              </a:rPr>
              <a:t>語文領域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ff"/>
                </a:solidFill>
                <a:latin typeface="Times New Roman"/>
                <a:ea typeface="標楷體"/>
              </a:rPr>
              <a:t>東信閱讀通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Text Box 16"/>
          <p:cNvSpPr/>
          <p:nvPr/>
        </p:nvSpPr>
        <p:spPr>
          <a:xfrm>
            <a:off x="6299280" y="1341360"/>
            <a:ext cx="2017800" cy="79848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66"/>
                </a:solidFill>
                <a:latin typeface="Times New Roman"/>
                <a:ea typeface="標楷體"/>
              </a:rPr>
              <a:t>健體領域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660066"/>
                </a:solidFill>
                <a:latin typeface="Times New Roman"/>
                <a:ea typeface="標楷體"/>
              </a:rPr>
              <a:t>跳躍繩奇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81"/>
          <p:cNvSpPr/>
          <p:nvPr/>
        </p:nvSpPr>
        <p:spPr>
          <a:xfrm>
            <a:off x="642960" y="14184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一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性別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714240" y="627120"/>
          <a:ext cx="8143920" cy="5759280"/>
        </p:xfrm>
        <a:graphic>
          <a:graphicData uri="http://schemas.openxmlformats.org/drawingml/2006/table">
            <a:tbl>
              <a:tblPr/>
              <a:tblGrid>
                <a:gridCol w="698760"/>
                <a:gridCol w="730080"/>
                <a:gridCol w="714600"/>
                <a:gridCol w="1417320"/>
                <a:gridCol w="2054520"/>
                <a:gridCol w="1104840"/>
                <a:gridCol w="142380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閱讀主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融入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選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書名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配合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名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活動說明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融入領域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或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評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方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20680"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當王子遇上公主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性別 教 育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灰王子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語詞黑白配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在故事中找出相似與相反詞來形容生活中的事物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聆聽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實作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比比高矮胖瘦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在遊戲活動中察覺長短、大小、重量的概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數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討論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全家總動員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利用學習單，紀錄並討論家事分工情況，並了解兩性平等分工的重要性和概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性別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學習單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討論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我是好幫手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讓孩子學習分擔家事，體會做家事的辛苦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綜合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實作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39"/>
          <p:cNvSpPr/>
          <p:nvPr/>
        </p:nvSpPr>
        <p:spPr>
          <a:xfrm>
            <a:off x="437040" y="21312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二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生命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642960" y="785880"/>
          <a:ext cx="8064360" cy="5999040"/>
        </p:xfrm>
        <a:graphic>
          <a:graphicData uri="http://schemas.openxmlformats.org/drawingml/2006/table">
            <a:tbl>
              <a:tblPr/>
              <a:tblGrid>
                <a:gridCol w="647640"/>
                <a:gridCol w="668520"/>
                <a:gridCol w="642960"/>
                <a:gridCol w="1641240"/>
                <a:gridCol w="2114640"/>
                <a:gridCol w="928800"/>
                <a:gridCol w="14205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閱讀主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融入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選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書名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配合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名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活動說明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融入領域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或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評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方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571040"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尊重生命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生 命 教 育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獾的禮物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繪本共讀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繪本共讀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討論自己對於「死亡」的感覺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命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家庭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討論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你給我「記住」！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討論如果好朋友要轉學，該如何讓他記住自己？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製作祝福卡片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3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玩具分享時間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命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聆聽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討論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製作祝福卡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把愛傳出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進行「小天使小主人」活動，在班上散播關愛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綜合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能關心同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給獾的一封信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角色扮演森林動物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；當獾離開大家後，有什麼話想對牠說呢？試著寫幾句話給「獾」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命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角色扮演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39"/>
          <p:cNvSpPr/>
          <p:nvPr/>
        </p:nvSpPr>
        <p:spPr>
          <a:xfrm>
            <a:off x="666360" y="21312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三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情緒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500040" y="714240"/>
          <a:ext cx="8143920" cy="5715000"/>
        </p:xfrm>
        <a:graphic>
          <a:graphicData uri="http://schemas.openxmlformats.org/drawingml/2006/table">
            <a:tbl>
              <a:tblPr/>
              <a:tblGrid>
                <a:gridCol w="698400"/>
                <a:gridCol w="587520"/>
                <a:gridCol w="642960"/>
                <a:gridCol w="1357200"/>
                <a:gridCol w="2643120"/>
                <a:gridCol w="928800"/>
                <a:gridCol w="128592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閱讀主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融入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選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書名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配合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名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活動說明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融入領域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或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評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方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20320"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生氣風暴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情緒教育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菲菲生氣了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我是小書蟲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繪本共讀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自己「生氣」的感覺及狀況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情緒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聆聽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實作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表情比一比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利用小鏡子觀察自己喜、怒、哀、樂的表情跟著音樂隨意擺動，擺出不同的表情，並觀察他人的表情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生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能仔細觀察並作出不同表情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情緒變變變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將「生氣」等不同情緒，嘗試以畫圖或塗色彩的方式呈現。作品完成後，再一起討論、分享畫作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情緒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能畫出不同情緒的表情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討論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生氣剋星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組討論不同情境避免生氣的方法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綜合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討論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39"/>
          <p:cNvSpPr/>
          <p:nvPr/>
        </p:nvSpPr>
        <p:spPr>
          <a:xfrm>
            <a:off x="809280" y="-108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四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自我認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84360" y="500040"/>
          <a:ext cx="7920000" cy="5648400"/>
        </p:xfrm>
        <a:graphic>
          <a:graphicData uri="http://schemas.openxmlformats.org/drawingml/2006/table">
            <a:tbl>
              <a:tblPr/>
              <a:tblGrid>
                <a:gridCol w="669600"/>
                <a:gridCol w="574920"/>
                <a:gridCol w="571320"/>
                <a:gridCol w="1285920"/>
                <a:gridCol w="2540160"/>
                <a:gridCol w="909720"/>
                <a:gridCol w="1368360"/>
              </a:tblGrid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閱讀主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融入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選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書名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配合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名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活動說明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融入領域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或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評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方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55280">
                <a:tc rowSpan="5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肯定自我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自我認同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自己的顏色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話我畫我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繪製自畫像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說一說自己的特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繪製自畫像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發表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好書報報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標楷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繪本共讀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標楷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透過分享與討論，讓學生更深一層的認識並了解自己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優點大轟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上台說出自己的優點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製作優點卡並寫出同學的優點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綜合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涯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製作優點卡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大手牽小手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自己與家人的互動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了解自己在團體中所扮演的角色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能繪製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自己的顏色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運用故事情境，瞭解自己的長處並肯定自我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能說出自己的長處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571680" y="57132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壹、課程設計與實施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一年級全體老師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貳、設計理念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藉由跳繩活動，促進學生之身心能力發展，培養學生互助合群、活潑樂觀的運動精神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參、學習目標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能了解跳繩正確之使用方法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能安全的進行跳繩活動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能學會跳繩「二跳一迴旋」及「一跳一迴旋」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肆、教學策略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經由教師說明，正確習得跳繩技巧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進行分組練習活動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能完成「二跳一迴旋」及「一跳一迴旋」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伍、學習活動設計架構圖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1357200" y="0"/>
            <a:ext cx="6500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學年特色發展規劃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標楷體"/>
              </a:rPr>
              <a:t>-</a:t>
            </a:r>
            <a:r>
              <a:rPr b="1" lang="zh-TW" sz="3200" spc="-1" strike="noStrike">
                <a:solidFill>
                  <a:srgbClr val="ff0066"/>
                </a:solidFill>
                <a:latin typeface="Arial"/>
                <a:ea typeface="標楷體"/>
              </a:rPr>
              <a:t>「繩奇寶貝」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1500120" y="4000680"/>
            <a:ext cx="185760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活動名稱：安全高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  <a:ea typeface="新細明體"/>
              </a:rPr>
              <a:t>說    明：介紹跳繩活動的注意事項。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能力指標：</a:t>
            </a:r>
            <a:r>
              <a:rPr b="0" lang="en-US" sz="1200" spc="-1" strike="noStrike">
                <a:solidFill>
                  <a:srgbClr val="006699"/>
                </a:solidFill>
                <a:latin typeface="Calibri"/>
              </a:rPr>
              <a:t>4-1-5</a:t>
            </a: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6699"/>
                </a:solidFill>
                <a:latin typeface="Calibri"/>
              </a:rPr>
              <a:t>5-1-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3714840" y="4786200"/>
            <a:ext cx="1606320" cy="851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99"/>
                </a:solidFill>
                <a:latin typeface="Calibri"/>
              </a:rPr>
              <a:t>繩奇寶貝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1500120" y="5357880"/>
            <a:ext cx="1857600" cy="93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活動名稱：七手八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  <a:ea typeface="新細明體"/>
              </a:rPr>
              <a:t>說    明：完成二跳一迴旋的動作。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能力指標：</a:t>
            </a:r>
            <a:r>
              <a:rPr b="0" lang="en-US" sz="1200" spc="-1" strike="noStrike">
                <a:solidFill>
                  <a:srgbClr val="006699"/>
                </a:solidFill>
                <a:latin typeface="Calibri"/>
              </a:rPr>
              <a:t>3-1-1</a:t>
            </a: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6699"/>
                </a:solidFill>
                <a:latin typeface="Calibri"/>
              </a:rPr>
              <a:t>4-1-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5715000" y="3857760"/>
            <a:ext cx="185724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活動名稱：跳躍高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  <a:ea typeface="新細明體"/>
              </a:rPr>
              <a:t>說    明：完成一跳一迴旋的動作。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能力指標：</a:t>
            </a:r>
            <a:r>
              <a:rPr b="0" lang="en-US" sz="1200" spc="-1" strike="noStrike">
                <a:solidFill>
                  <a:srgbClr val="006699"/>
                </a:solidFill>
                <a:latin typeface="Calibri"/>
              </a:rPr>
              <a:t>3-1-3</a:t>
            </a: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6699"/>
                </a:solidFill>
                <a:latin typeface="Calibri"/>
              </a:rPr>
              <a:t>4-1-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5715000" y="5357880"/>
            <a:ext cx="1857240" cy="93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活動名稱：跑帶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  <a:ea typeface="新細明體"/>
              </a:rPr>
              <a:t>說    明：練習邊跑邊跳的跳繩技巧。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能力指標：</a:t>
            </a:r>
            <a:r>
              <a:rPr b="0" lang="en-US" sz="1200" spc="-1" strike="noStrike">
                <a:solidFill>
                  <a:srgbClr val="006699"/>
                </a:solidFill>
                <a:latin typeface="Calibri"/>
              </a:rPr>
              <a:t>3-1-4</a:t>
            </a: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6699"/>
                </a:solidFill>
                <a:latin typeface="Calibri"/>
              </a:rPr>
              <a:t>5-1-5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377" name="直線單箭頭接點 14"/>
          <p:cNvCxnSpPr>
            <a:stCxn id="375" idx="1"/>
            <a:endCxn id="373" idx="7"/>
          </p:cNvCxnSpPr>
          <p:nvPr/>
        </p:nvCxnSpPr>
        <p:spPr>
          <a:xfrm flipH="1">
            <a:off x="5086080" y="4374000"/>
            <a:ext cx="629280" cy="5374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378" name="直線單箭頭接點 15"/>
          <p:cNvCxnSpPr>
            <a:endCxn id="373" idx="3"/>
          </p:cNvCxnSpPr>
          <p:nvPr/>
        </p:nvCxnSpPr>
        <p:spPr>
          <a:xfrm flipV="1">
            <a:off x="3357720" y="5513040"/>
            <a:ext cx="592560" cy="48816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379" name="直線單箭頭接點 17"/>
          <p:cNvCxnSpPr/>
          <p:nvPr/>
        </p:nvCxnSpPr>
        <p:spPr>
          <a:xfrm>
            <a:off x="3357720" y="4465800"/>
            <a:ext cx="643320" cy="5356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380" name="直線單箭頭接點 20"/>
          <p:cNvCxnSpPr>
            <a:endCxn id="373" idx="5"/>
          </p:cNvCxnSpPr>
          <p:nvPr/>
        </p:nvCxnSpPr>
        <p:spPr>
          <a:xfrm flipH="1" flipV="1">
            <a:off x="5086080" y="5512680"/>
            <a:ext cx="629280" cy="41652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arrow" w="med"/>
          </a:ln>
        </p:spPr>
      </p:cxnSp>
      <p:pic>
        <p:nvPicPr>
          <p:cNvPr id="381" name="圖片 12" descr="過年.jpg"/>
          <p:cNvPicPr/>
          <p:nvPr/>
        </p:nvPicPr>
        <p:blipFill>
          <a:blip r:embed="rId1"/>
          <a:stretch/>
        </p:blipFill>
        <p:spPr>
          <a:xfrm>
            <a:off x="6572160" y="1714680"/>
            <a:ext cx="202428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4"/>
          <p:cNvSpPr/>
          <p:nvPr/>
        </p:nvSpPr>
        <p:spPr>
          <a:xfrm>
            <a:off x="2700360" y="69228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1476360" y="404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學年特色發展規劃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標楷體"/>
              </a:rPr>
              <a:t>-</a:t>
            </a:r>
            <a:r>
              <a:rPr b="1" lang="zh-TW" sz="3200" spc="-1" strike="noStrike">
                <a:solidFill>
                  <a:srgbClr val="ff0066"/>
                </a:solidFill>
                <a:latin typeface="Arial"/>
                <a:ea typeface="標楷體"/>
              </a:rPr>
              <a:t>「讀經教育」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611280" y="1442880"/>
            <a:ext cx="7921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4120" bIns="114120" anchor="ctr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壹、課程設計與實施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一年級全體老師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貳、設計理念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透過共同讀經活動，配合教師適度引導，讓孩子學習聖賢經典中做人處世的道理，在生活中身體力行，導正日常生活常規與觀念，並且希望藉讀經活動提升學生的專注力及語文能力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參、學習目標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專心誦讀經文內容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正確背出經文內容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3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在日常生活中實踐習得之道理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4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培養學生識字、認讀的能力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肆、教學策略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運用領讀→齊讀→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輪讀→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接讀循序漸進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利用日常發生之實際例子進行解說、分享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3.</a:t>
            </a:r>
            <a:r>
              <a:rPr b="0" lang="zh-TW" sz="1800" spc="-1" strike="noStrike">
                <a:solidFill>
                  <a:srgbClr val="ff0066"/>
                </a:solidFill>
                <a:latin typeface="標楷體"/>
                <a:ea typeface="標楷體"/>
              </a:rPr>
              <a:t>配合學生護照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，背誦完畢後於集會時公開頒發獎狀予以鼓勵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伍、讀經教材規劃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一年級上學期：弟子規            一年級下學期：三字經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5" name="Picture 8" descr="穿衣服的蠻頭"/>
          <p:cNvPicPr/>
          <p:nvPr/>
        </p:nvPicPr>
        <p:blipFill>
          <a:blip r:embed="rId1"/>
          <a:stretch/>
        </p:blipFill>
        <p:spPr>
          <a:xfrm>
            <a:off x="6500880" y="2781360"/>
            <a:ext cx="161136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File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3"/>
          <p:cNvSpPr/>
          <p:nvPr/>
        </p:nvSpPr>
        <p:spPr>
          <a:xfrm>
            <a:off x="1214280" y="200016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謝謝您耐心的聆聽</a:t>
            </a:r>
            <a:r>
              <a:rPr b="1" lang="en-US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~</a:t>
            </a:r>
            <a:r>
              <a:rPr b="1" lang="zh-TW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報告完畢！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456000" y="927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ff"/>
                </a:solidFill>
                <a:latin typeface="Verdana"/>
                <a:ea typeface="標楷體"/>
              </a:rPr>
              <a:t>報告大綱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340000" y="2133720"/>
            <a:ext cx="435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一、學校本位課程規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二、彈性時間分配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三、東信閱讀通介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四、學年特色發展說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Picture 5" descr="himwari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4286160"/>
            <a:ext cx="9144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39"/>
          <p:cNvSpPr/>
          <p:nvPr/>
        </p:nvSpPr>
        <p:spPr>
          <a:xfrm>
            <a:off x="611280" y="145584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Times New Roman"/>
                <a:ea typeface="標楷體"/>
              </a:rPr>
              <a:t>語文領域縱向發展：閱讀寫作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Line 49"/>
          <p:cNvSpPr/>
          <p:nvPr/>
        </p:nvSpPr>
        <p:spPr>
          <a:xfrm>
            <a:off x="2976480" y="31510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Line 50"/>
          <p:cNvSpPr/>
          <p:nvPr/>
        </p:nvSpPr>
        <p:spPr>
          <a:xfrm>
            <a:off x="2976480" y="38498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AutoShape 55"/>
          <p:cNvSpPr/>
          <p:nvPr/>
        </p:nvSpPr>
        <p:spPr>
          <a:xfrm>
            <a:off x="611280" y="3191040"/>
            <a:ext cx="2016000" cy="67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數學領域縱向發展：數的樂園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176" name="AutoShape 56"/>
          <p:cNvCxnSpPr>
            <a:stCxn id="173" idx="0"/>
            <a:endCxn id="174" idx="0"/>
          </p:cNvCxnSpPr>
          <p:nvPr/>
        </p:nvCxnSpPr>
        <p:spPr>
          <a:xfrm>
            <a:off x="2976120" y="3150720"/>
            <a:ext cx="1080" cy="69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7" name="Line 57"/>
          <p:cNvSpPr/>
          <p:nvPr/>
        </p:nvSpPr>
        <p:spPr>
          <a:xfrm>
            <a:off x="2627280" y="35082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Line 60"/>
          <p:cNvSpPr/>
          <p:nvPr/>
        </p:nvSpPr>
        <p:spPr>
          <a:xfrm>
            <a:off x="2976480" y="50846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Line 61"/>
          <p:cNvSpPr/>
          <p:nvPr/>
        </p:nvSpPr>
        <p:spPr>
          <a:xfrm>
            <a:off x="2976480" y="602136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AutoShape 66"/>
          <p:cNvSpPr/>
          <p:nvPr/>
        </p:nvSpPr>
        <p:spPr>
          <a:xfrm>
            <a:off x="611280" y="512748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Verdana"/>
                <a:ea typeface="標楷體"/>
              </a:rPr>
              <a:t>自然領域縱向發展：校園植物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181" name="AutoShape 67"/>
          <p:cNvCxnSpPr>
            <a:stCxn id="178" idx="0"/>
            <a:endCxn id="179" idx="0"/>
          </p:cNvCxnSpPr>
          <p:nvPr/>
        </p:nvCxnSpPr>
        <p:spPr>
          <a:xfrm>
            <a:off x="2976120" y="5084640"/>
            <a:ext cx="108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2" name="Line 68"/>
          <p:cNvSpPr/>
          <p:nvPr/>
        </p:nvSpPr>
        <p:spPr>
          <a:xfrm>
            <a:off x="2627280" y="551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630360" y="26028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一年級學校本位課程領域縱向發展架構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84" name="群組 41"/>
          <p:cNvGrpSpPr/>
          <p:nvPr/>
        </p:nvGrpSpPr>
        <p:grpSpPr>
          <a:xfrm>
            <a:off x="2627280" y="1116000"/>
            <a:ext cx="5862600" cy="1312920"/>
            <a:chOff x="2627280" y="1116000"/>
            <a:chExt cx="5862600" cy="1312920"/>
          </a:xfrm>
        </p:grpSpPr>
        <p:sp>
          <p:nvSpPr>
            <p:cNvPr id="185" name="AutoShape 30"/>
            <p:cNvSpPr/>
            <p:nvPr/>
          </p:nvSpPr>
          <p:spPr>
            <a:xfrm>
              <a:off x="4643280" y="1116000"/>
              <a:ext cx="2500200" cy="59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經由看圖而說出故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6" name="AutoShape 31"/>
            <p:cNvSpPr/>
            <p:nvPr/>
          </p:nvSpPr>
          <p:spPr>
            <a:xfrm>
              <a:off x="3296880" y="1116000"/>
              <a:ext cx="1131840" cy="59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一上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畫中有話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一上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畫中有話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7" name="Line 32"/>
            <p:cNvSpPr/>
            <p:nvPr/>
          </p:nvSpPr>
          <p:spPr>
            <a:xfrm>
              <a:off x="2976480" y="141588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8" name="Line 33"/>
            <p:cNvSpPr/>
            <p:nvPr/>
          </p:nvSpPr>
          <p:spPr>
            <a:xfrm>
              <a:off x="2976480" y="211464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9" name="Line 34"/>
            <p:cNvSpPr/>
            <p:nvPr/>
          </p:nvSpPr>
          <p:spPr>
            <a:xfrm>
              <a:off x="4429080" y="14284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0" name="AutoShape 35"/>
            <p:cNvSpPr/>
            <p:nvPr/>
          </p:nvSpPr>
          <p:spPr>
            <a:xfrm>
              <a:off x="3296880" y="1814400"/>
              <a:ext cx="1131840" cy="600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一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童詩童話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1" name="Line 36"/>
            <p:cNvSpPr/>
            <p:nvPr/>
          </p:nvSpPr>
          <p:spPr>
            <a:xfrm>
              <a:off x="4429080" y="21430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2" name="AutoShape 37"/>
            <p:cNvSpPr/>
            <p:nvPr/>
          </p:nvSpPr>
          <p:spPr>
            <a:xfrm>
              <a:off x="4643280" y="1814400"/>
              <a:ext cx="2500200" cy="600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主動欣賞與閱讀童詩，並畫出詩中的情境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cxnSp>
          <p:nvCxnSpPr>
            <p:cNvPr id="193" name="AutoShape 43"/>
            <p:cNvCxnSpPr>
              <a:stCxn id="187" idx="0"/>
              <a:endCxn id="188" idx="0"/>
            </p:cNvCxnSpPr>
            <p:nvPr/>
          </p:nvCxnSpPr>
          <p:spPr>
            <a:xfrm>
              <a:off x="2976120" y="1415880"/>
              <a:ext cx="1080" cy="69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4" name="Line 46"/>
            <p:cNvSpPr/>
            <p:nvPr/>
          </p:nvSpPr>
          <p:spPr>
            <a:xfrm>
              <a:off x="2627280" y="1773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5" name="Line 34"/>
            <p:cNvSpPr/>
            <p:nvPr/>
          </p:nvSpPr>
          <p:spPr>
            <a:xfrm>
              <a:off x="7143840" y="14284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6" name="Line 34"/>
            <p:cNvSpPr/>
            <p:nvPr/>
          </p:nvSpPr>
          <p:spPr>
            <a:xfrm>
              <a:off x="7143840" y="207180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7" name="AutoShape 31"/>
            <p:cNvSpPr/>
            <p:nvPr/>
          </p:nvSpPr>
          <p:spPr>
            <a:xfrm>
              <a:off x="7358040" y="1142640"/>
              <a:ext cx="1131840" cy="57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C-1-1-1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8" name="AutoShape 31"/>
            <p:cNvSpPr/>
            <p:nvPr/>
          </p:nvSpPr>
          <p:spPr>
            <a:xfrm>
              <a:off x="7358040" y="1857240"/>
              <a:ext cx="1131840" cy="57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A-1-4-3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99" name="群組 46"/>
          <p:cNvGrpSpPr/>
          <p:nvPr/>
        </p:nvGrpSpPr>
        <p:grpSpPr>
          <a:xfrm>
            <a:off x="3297240" y="2565360"/>
            <a:ext cx="5192640" cy="1863720"/>
            <a:chOff x="3297240" y="2565360"/>
            <a:chExt cx="5192640" cy="1863720"/>
          </a:xfrm>
        </p:grpSpPr>
        <p:sp>
          <p:nvSpPr>
            <p:cNvPr id="200" name="AutoShape 47"/>
            <p:cNvSpPr/>
            <p:nvPr/>
          </p:nvSpPr>
          <p:spPr>
            <a:xfrm>
              <a:off x="4643280" y="2565360"/>
              <a:ext cx="2500200" cy="884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透過遊戲活動察覺學校的建築物和樹木的數量概念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1" name="AutoShape 48"/>
            <p:cNvSpPr/>
            <p:nvPr/>
          </p:nvSpPr>
          <p:spPr>
            <a:xfrm>
              <a:off x="3297240" y="2850840"/>
              <a:ext cx="1131840" cy="59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一上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數在哪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裡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2" name="Line 51"/>
            <p:cNvSpPr/>
            <p:nvPr/>
          </p:nvSpPr>
          <p:spPr>
            <a:xfrm>
              <a:off x="4429080" y="31431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3" name="AutoShape 52"/>
            <p:cNvSpPr/>
            <p:nvPr/>
          </p:nvSpPr>
          <p:spPr>
            <a:xfrm>
              <a:off x="3297240" y="3549600"/>
              <a:ext cx="1131840" cy="600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一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好玩的數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4" name="Line 53"/>
            <p:cNvSpPr/>
            <p:nvPr/>
          </p:nvSpPr>
          <p:spPr>
            <a:xfrm>
              <a:off x="4429080" y="38577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5" name="AutoShape 54"/>
            <p:cNvSpPr/>
            <p:nvPr/>
          </p:nvSpPr>
          <p:spPr>
            <a:xfrm>
              <a:off x="4643280" y="3549600"/>
              <a:ext cx="2500200" cy="87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能運用進位的計算方法，計數學校的建築物和樹木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6" name="Line 53"/>
            <p:cNvSpPr/>
            <p:nvPr/>
          </p:nvSpPr>
          <p:spPr>
            <a:xfrm>
              <a:off x="7143840" y="307152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7" name="Line 53"/>
            <p:cNvSpPr/>
            <p:nvPr/>
          </p:nvSpPr>
          <p:spPr>
            <a:xfrm>
              <a:off x="7143840" y="39290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8" name="AutoShape 48"/>
            <p:cNvSpPr/>
            <p:nvPr/>
          </p:nvSpPr>
          <p:spPr>
            <a:xfrm>
              <a:off x="7358040" y="2857320"/>
              <a:ext cx="1131840" cy="59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N-1-0-1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9" name="AutoShape 48"/>
            <p:cNvSpPr/>
            <p:nvPr/>
          </p:nvSpPr>
          <p:spPr>
            <a:xfrm>
              <a:off x="7358040" y="3643200"/>
              <a:ext cx="1131840" cy="59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N-1-0-2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10" name="群組 51"/>
          <p:cNvGrpSpPr/>
          <p:nvPr/>
        </p:nvGrpSpPr>
        <p:grpSpPr>
          <a:xfrm>
            <a:off x="3297240" y="4500720"/>
            <a:ext cx="5703840" cy="2000160"/>
            <a:chOff x="3297240" y="4500720"/>
            <a:chExt cx="5703840" cy="2000160"/>
          </a:xfrm>
        </p:grpSpPr>
        <p:sp>
          <p:nvSpPr>
            <p:cNvPr id="211" name="AutoShape 58"/>
            <p:cNvSpPr/>
            <p:nvPr/>
          </p:nvSpPr>
          <p:spPr>
            <a:xfrm>
              <a:off x="4643280" y="4643280"/>
              <a:ext cx="3143160" cy="107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1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能認識校園中各種植物的名稱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2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能正確指出校園植物的構造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3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能區分校園中各種植物生長的季節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2" name="AutoShape 59"/>
            <p:cNvSpPr/>
            <p:nvPr/>
          </p:nvSpPr>
          <p:spPr>
            <a:xfrm>
              <a:off x="3297240" y="4775040"/>
              <a:ext cx="1131840" cy="59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一上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花花草草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3" name="Line 62"/>
            <p:cNvSpPr/>
            <p:nvPr/>
          </p:nvSpPr>
          <p:spPr>
            <a:xfrm>
              <a:off x="4429080" y="50720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4" name="AutoShape 63"/>
            <p:cNvSpPr/>
            <p:nvPr/>
          </p:nvSpPr>
          <p:spPr>
            <a:xfrm>
              <a:off x="3297240" y="5781960"/>
              <a:ext cx="1131840" cy="600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一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拈花惹草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5" name="Line 64"/>
            <p:cNvSpPr/>
            <p:nvPr/>
          </p:nvSpPr>
          <p:spPr>
            <a:xfrm>
              <a:off x="4429080" y="60724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6" name="AutoShape 65"/>
            <p:cNvSpPr/>
            <p:nvPr/>
          </p:nvSpPr>
          <p:spPr>
            <a:xfrm>
              <a:off x="4643280" y="5786640"/>
              <a:ext cx="3143160" cy="71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1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選擇出適合壓花的花草植物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2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利用校園中既有植物進行遊戲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7" name="AutoShape 59"/>
            <p:cNvSpPr/>
            <p:nvPr/>
          </p:nvSpPr>
          <p:spPr>
            <a:xfrm>
              <a:off x="8012160" y="4500720"/>
              <a:ext cx="917640" cy="1071360"/>
            </a:xfrm>
            <a:custGeom>
              <a:avLst/>
              <a:gdLst>
                <a:gd name="textAreaLeft" fmla="*/ 44640 w 917640"/>
                <a:gd name="textAreaRight" fmla="*/ 873000 w 917640"/>
                <a:gd name="textAreaTop" fmla="*/ 44640 h 1071360"/>
                <a:gd name="textAreaBottom" fmla="*/ 1026720 h 1071360"/>
              </a:gdLst>
              <a:ahLst/>
              <a:rect l="textAreaLeft" t="textAreaTop" r="textAreaRight" b="textAreaBottom"/>
              <a:pathLst>
                <a:path w="21600" h="25217">
                  <a:moveTo>
                    <a:pt x="3600" y="0"/>
                  </a:moveTo>
                  <a:arcTo wR="3600" hR="3600" stAng="16200000" swAng="-5400000"/>
                  <a:lnTo>
                    <a:pt x="0" y="21617"/>
                  </a:lnTo>
                  <a:arcTo wR="3600" hR="3600" stAng="10800000" swAng="-5400000"/>
                  <a:lnTo>
                    <a:pt x="18000" y="252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7-1-9   7-1-1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9-1-1   8-1-3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8" name="AutoShape 59"/>
            <p:cNvSpPr/>
            <p:nvPr/>
          </p:nvSpPr>
          <p:spPr>
            <a:xfrm>
              <a:off x="8012160" y="5786640"/>
              <a:ext cx="988920" cy="59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9-1-10  9-1-11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9" name="Line 62"/>
            <p:cNvSpPr/>
            <p:nvPr/>
          </p:nvSpPr>
          <p:spPr>
            <a:xfrm>
              <a:off x="7786800" y="50720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0" name="Line 62"/>
            <p:cNvSpPr/>
            <p:nvPr/>
          </p:nvSpPr>
          <p:spPr>
            <a:xfrm>
              <a:off x="7786800" y="60724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4572000" y="785880"/>
            <a:ext cx="264312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認識自己，了解優缺點，學習與同學相處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3297240" y="835200"/>
            <a:ext cx="106056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一上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快樂的我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611280" y="117468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社會領域縱向發展：東信風情畫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2627280" y="14922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572000" y="4071960"/>
            <a:ext cx="328608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１</a:t>
            </a:r>
            <a:r>
              <a:rPr b="0" lang="en-US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.</a:t>
            </a: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體育課時能選擇適當服裝、鞋子並攜帶毛巾及水。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２</a:t>
            </a:r>
            <a:r>
              <a:rPr b="0" lang="en-US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.</a:t>
            </a: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能做到運動前暖身及運動後整理服裝儀容。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３</a:t>
            </a:r>
            <a:r>
              <a:rPr b="0" lang="en-US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.</a:t>
            </a: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能熟練洗手步驟並應用於日常生活中。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3297240" y="4280040"/>
            <a:ext cx="106056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一上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健康寶寶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Line 26"/>
          <p:cNvSpPr/>
          <p:nvPr/>
        </p:nvSpPr>
        <p:spPr>
          <a:xfrm>
            <a:off x="2976480" y="45896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Line 27"/>
          <p:cNvSpPr/>
          <p:nvPr/>
        </p:nvSpPr>
        <p:spPr>
          <a:xfrm>
            <a:off x="2976480" y="602136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Line 28"/>
          <p:cNvSpPr/>
          <p:nvPr/>
        </p:nvSpPr>
        <p:spPr>
          <a:xfrm>
            <a:off x="4357800" y="45720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297240" y="5718240"/>
            <a:ext cx="1060560" cy="92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一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天才小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”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玩</a:t>
            </a: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”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童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30"/>
          <p:cNvSpPr/>
          <p:nvPr/>
        </p:nvSpPr>
        <p:spPr>
          <a:xfrm>
            <a:off x="4357800" y="607212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AutoShape 31"/>
          <p:cNvSpPr/>
          <p:nvPr/>
        </p:nvSpPr>
        <p:spPr>
          <a:xfrm>
            <a:off x="4572000" y="5310360"/>
            <a:ext cx="3286080" cy="13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１．能確實知道校園中“固定式遊戲器材”所在地。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２．能用身體動作安全使用校園“固定式遊戲器材”。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３．能遵守規則按序操作校園“固定式遊戲器材”。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AutoShape 32"/>
          <p:cNvSpPr/>
          <p:nvPr/>
        </p:nvSpPr>
        <p:spPr>
          <a:xfrm>
            <a:off x="611280" y="498312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Arial"/>
                <a:ea typeface="標楷體"/>
              </a:rPr>
              <a:t>健體領域縱向發展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Arial"/>
                <a:ea typeface="標楷體"/>
              </a:rPr>
              <a:t>運動好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小子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234" name="AutoShape 33"/>
          <p:cNvCxnSpPr>
            <a:stCxn id="227" idx="0"/>
            <a:endCxn id="228" idx="0"/>
          </p:cNvCxnSpPr>
          <p:nvPr/>
        </p:nvCxnSpPr>
        <p:spPr>
          <a:xfrm>
            <a:off x="2976120" y="4589280"/>
            <a:ext cx="1080" cy="1432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5" name="Line 34"/>
          <p:cNvSpPr/>
          <p:nvPr/>
        </p:nvSpPr>
        <p:spPr>
          <a:xfrm>
            <a:off x="2627280" y="530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630360" y="18900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一年級學校本位課程領域縱向發展架構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2976480" y="11350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2976480" y="18334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4357800" y="11430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3297240" y="1533600"/>
            <a:ext cx="106056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一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我的家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4357800" y="185724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4572000" y="1571760"/>
            <a:ext cx="264312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認識家人，體會家人的辛苦，進而關心與幫助家人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243" name="AutoShape 11"/>
          <p:cNvCxnSpPr>
            <a:stCxn id="237" idx="0"/>
            <a:endCxn id="238" idx="0"/>
          </p:cNvCxnSpPr>
          <p:nvPr/>
        </p:nvCxnSpPr>
        <p:spPr>
          <a:xfrm>
            <a:off x="2976120" y="1135080"/>
            <a:ext cx="108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4" name="Line 6"/>
          <p:cNvSpPr/>
          <p:nvPr/>
        </p:nvSpPr>
        <p:spPr>
          <a:xfrm>
            <a:off x="7215120" y="107172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7215120" y="185724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Line 6"/>
          <p:cNvSpPr/>
          <p:nvPr/>
        </p:nvSpPr>
        <p:spPr>
          <a:xfrm>
            <a:off x="7858080" y="45720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7858080" y="607212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7429680" y="785880"/>
            <a:ext cx="157140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5-1-1  5-1-4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5-1-2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7429680" y="1571760"/>
            <a:ext cx="157140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2-1-2  5-1-4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5-1-3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50" name="群組 52"/>
          <p:cNvGrpSpPr/>
          <p:nvPr/>
        </p:nvGrpSpPr>
        <p:grpSpPr>
          <a:xfrm>
            <a:off x="611280" y="2355840"/>
            <a:ext cx="8389800" cy="1314360"/>
            <a:chOff x="611280" y="2355840"/>
            <a:chExt cx="8389800" cy="1314360"/>
          </a:xfrm>
        </p:grpSpPr>
        <p:sp>
          <p:nvSpPr>
            <p:cNvPr id="251" name="AutoShape 21"/>
            <p:cNvSpPr/>
            <p:nvPr/>
          </p:nvSpPr>
          <p:spPr>
            <a:xfrm>
              <a:off x="611280" y="2695320"/>
              <a:ext cx="2016000" cy="677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藝術與人文領域縱向發展：故鄉風月情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2" name="Line 23"/>
            <p:cNvSpPr/>
            <p:nvPr/>
          </p:nvSpPr>
          <p:spPr>
            <a:xfrm>
              <a:off x="2627280" y="3012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53" name="群組 49"/>
            <p:cNvGrpSpPr/>
            <p:nvPr/>
          </p:nvGrpSpPr>
          <p:grpSpPr>
            <a:xfrm>
              <a:off x="2976120" y="2355840"/>
              <a:ext cx="6024960" cy="1314360"/>
              <a:chOff x="2976120" y="2355840"/>
              <a:chExt cx="6024960" cy="1314360"/>
            </a:xfrm>
          </p:grpSpPr>
          <p:sp>
            <p:nvSpPr>
              <p:cNvPr id="254" name="AutoShape 13"/>
              <p:cNvSpPr/>
              <p:nvPr/>
            </p:nvSpPr>
            <p:spPr>
              <a:xfrm>
                <a:off x="4572000" y="2355840"/>
                <a:ext cx="3214800" cy="598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利用樹枝和拓印樹木等自然媒材來完成黏貼完成美麗的圖畫！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5" name="AutoShape 14"/>
              <p:cNvSpPr/>
              <p:nvPr/>
            </p:nvSpPr>
            <p:spPr>
              <a:xfrm>
                <a:off x="3296880" y="2355840"/>
                <a:ext cx="1060200" cy="598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一上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繽紛落葉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6" name="Line 15"/>
              <p:cNvSpPr/>
              <p:nvPr/>
            </p:nvSpPr>
            <p:spPr>
              <a:xfrm>
                <a:off x="2976480" y="2655720"/>
                <a:ext cx="32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7" name="Line 16"/>
              <p:cNvSpPr/>
              <p:nvPr/>
            </p:nvSpPr>
            <p:spPr>
              <a:xfrm>
                <a:off x="2976480" y="3354480"/>
                <a:ext cx="32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8" name="Line 17"/>
              <p:cNvSpPr/>
              <p:nvPr/>
            </p:nvSpPr>
            <p:spPr>
              <a:xfrm>
                <a:off x="4357440" y="264312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9" name="AutoShape 18"/>
              <p:cNvSpPr/>
              <p:nvPr/>
            </p:nvSpPr>
            <p:spPr>
              <a:xfrm>
                <a:off x="3296880" y="3054240"/>
                <a:ext cx="1060200" cy="600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一下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花草遊戲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0" name="Line 19"/>
              <p:cNvSpPr/>
              <p:nvPr/>
            </p:nvSpPr>
            <p:spPr>
              <a:xfrm>
                <a:off x="4357440" y="335772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1" name="AutoShape 20"/>
              <p:cNvSpPr/>
              <p:nvPr/>
            </p:nvSpPr>
            <p:spPr>
              <a:xfrm>
                <a:off x="4572000" y="3054240"/>
                <a:ext cx="3214800" cy="5889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尋找並發現校園中的花草有哪些並發展創作出不同的有趣遊戲！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cxnSp>
            <p:nvCxnSpPr>
              <p:cNvPr id="262" name="AutoShape 22"/>
              <p:cNvCxnSpPr>
                <a:stCxn id="256" idx="0"/>
                <a:endCxn id="257" idx="0"/>
              </p:cNvCxnSpPr>
              <p:nvPr/>
            </p:nvCxnSpPr>
            <p:spPr>
              <a:xfrm>
                <a:off x="2976120" y="2655720"/>
                <a:ext cx="1080" cy="699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63" name="Line 6"/>
              <p:cNvSpPr/>
              <p:nvPr/>
            </p:nvSpPr>
            <p:spPr>
              <a:xfrm>
                <a:off x="7786800" y="264312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4" name="Line 6"/>
              <p:cNvSpPr/>
              <p:nvPr/>
            </p:nvSpPr>
            <p:spPr>
              <a:xfrm>
                <a:off x="7786800" y="335772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5" name="AutoShape 14"/>
              <p:cNvSpPr/>
              <p:nvPr/>
            </p:nvSpPr>
            <p:spPr>
              <a:xfrm>
                <a:off x="8001000" y="2357280"/>
                <a:ext cx="1000080" cy="598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1-1-3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3-1-11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6" name="AutoShape 14"/>
              <p:cNvSpPr/>
              <p:nvPr/>
            </p:nvSpPr>
            <p:spPr>
              <a:xfrm>
                <a:off x="8001000" y="3071880"/>
                <a:ext cx="1000080" cy="598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2-1-6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3-1-9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  <p:sp>
        <p:nvSpPr>
          <p:cNvPr id="267" name="AutoShape 25"/>
          <p:cNvSpPr/>
          <p:nvPr/>
        </p:nvSpPr>
        <p:spPr>
          <a:xfrm>
            <a:off x="8083440" y="4286160"/>
            <a:ext cx="917640" cy="598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1-1-4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1-1-5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AutoShape 25"/>
          <p:cNvSpPr/>
          <p:nvPr/>
        </p:nvSpPr>
        <p:spPr>
          <a:xfrm>
            <a:off x="8083440" y="5715000"/>
            <a:ext cx="91764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1-1-4  3-1-2  5-1-1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5"/>
          <p:cNvSpPr/>
          <p:nvPr/>
        </p:nvSpPr>
        <p:spPr>
          <a:xfrm>
            <a:off x="630360" y="47304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一年級學校本位課程領域縱向發展架構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0" name="Picture 42" descr="Siki0411"/>
          <p:cNvPicPr/>
          <p:nvPr/>
        </p:nvPicPr>
        <p:blipFill>
          <a:blip r:embed="rId1"/>
          <a:stretch/>
        </p:blipFill>
        <p:spPr>
          <a:xfrm>
            <a:off x="0" y="4498920"/>
            <a:ext cx="2843280" cy="2236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6" descr="Siki0411"/>
          <p:cNvPicPr/>
          <p:nvPr/>
        </p:nvPicPr>
        <p:blipFill>
          <a:blip r:embed="rId2"/>
          <a:stretch/>
        </p:blipFill>
        <p:spPr>
          <a:xfrm>
            <a:off x="2987640" y="4498920"/>
            <a:ext cx="2843280" cy="2236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7" descr="Siki0411"/>
          <p:cNvPicPr/>
          <p:nvPr/>
        </p:nvPicPr>
        <p:blipFill>
          <a:blip r:embed="rId3"/>
          <a:stretch/>
        </p:blipFill>
        <p:spPr>
          <a:xfrm>
            <a:off x="6084720" y="4498920"/>
            <a:ext cx="2843280" cy="2236680"/>
          </a:xfrm>
          <a:prstGeom prst="rect">
            <a:avLst/>
          </a:prstGeom>
          <a:ln w="0">
            <a:noFill/>
          </a:ln>
        </p:spPr>
      </p:pic>
      <p:grpSp>
        <p:nvGrpSpPr>
          <p:cNvPr id="273" name="群組 23"/>
          <p:cNvGrpSpPr/>
          <p:nvPr/>
        </p:nvGrpSpPr>
        <p:grpSpPr>
          <a:xfrm>
            <a:off x="428760" y="2143080"/>
            <a:ext cx="8389800" cy="1328760"/>
            <a:chOff x="428760" y="2143080"/>
            <a:chExt cx="8389800" cy="1328760"/>
          </a:xfrm>
        </p:grpSpPr>
        <p:sp>
          <p:nvSpPr>
            <p:cNvPr id="274" name="Line 4"/>
            <p:cNvSpPr/>
            <p:nvPr/>
          </p:nvSpPr>
          <p:spPr>
            <a:xfrm>
              <a:off x="2793960" y="244296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5" name="Line 5"/>
            <p:cNvSpPr/>
            <p:nvPr/>
          </p:nvSpPr>
          <p:spPr>
            <a:xfrm>
              <a:off x="2793960" y="314172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6" name="AutoShape 10"/>
            <p:cNvSpPr/>
            <p:nvPr/>
          </p:nvSpPr>
          <p:spPr>
            <a:xfrm>
              <a:off x="428760" y="2482560"/>
              <a:ext cx="2016000" cy="677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綜合領域縱向發展：環保小天使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cxnSp>
          <p:nvCxnSpPr>
            <p:cNvPr id="277" name="AutoShape 11"/>
            <p:cNvCxnSpPr>
              <a:stCxn id="274" idx="0"/>
              <a:endCxn id="275" idx="0"/>
            </p:cNvCxnSpPr>
            <p:nvPr/>
          </p:nvCxnSpPr>
          <p:spPr>
            <a:xfrm>
              <a:off x="2793600" y="2442960"/>
              <a:ext cx="1080" cy="69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8" name="Line 12"/>
            <p:cNvSpPr/>
            <p:nvPr/>
          </p:nvSpPr>
          <p:spPr>
            <a:xfrm>
              <a:off x="2444760" y="28004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79" name="群組 22"/>
            <p:cNvGrpSpPr/>
            <p:nvPr/>
          </p:nvGrpSpPr>
          <p:grpSpPr>
            <a:xfrm>
              <a:off x="3114720" y="2143080"/>
              <a:ext cx="5703840" cy="1328760"/>
              <a:chOff x="3114720" y="2143080"/>
              <a:chExt cx="5703840" cy="1328760"/>
            </a:xfrm>
          </p:grpSpPr>
          <p:sp>
            <p:nvSpPr>
              <p:cNvPr id="280" name="AutoShape 2"/>
              <p:cNvSpPr/>
              <p:nvPr/>
            </p:nvSpPr>
            <p:spPr>
              <a:xfrm>
                <a:off x="4603680" y="2157120"/>
                <a:ext cx="2357280" cy="598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認識學校環境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1" name="AutoShape 3"/>
              <p:cNvSpPr/>
              <p:nvPr/>
            </p:nvSpPr>
            <p:spPr>
              <a:xfrm>
                <a:off x="3114720" y="2143080"/>
                <a:ext cx="1274760" cy="598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一上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逛逛校園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2" name="Line 6"/>
              <p:cNvSpPr/>
              <p:nvPr/>
            </p:nvSpPr>
            <p:spPr>
              <a:xfrm>
                <a:off x="4389480" y="24429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3" name="AutoShape 7"/>
              <p:cNvSpPr/>
              <p:nvPr/>
            </p:nvSpPr>
            <p:spPr>
              <a:xfrm>
                <a:off x="3114720" y="2841480"/>
                <a:ext cx="1274760" cy="600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一下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愛潔小超人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4" name="Line 8"/>
              <p:cNvSpPr/>
              <p:nvPr/>
            </p:nvSpPr>
            <p:spPr>
              <a:xfrm>
                <a:off x="4389480" y="31575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5" name="AutoShape 9"/>
              <p:cNvSpPr/>
              <p:nvPr/>
            </p:nvSpPr>
            <p:spPr>
              <a:xfrm>
                <a:off x="4603680" y="2871720"/>
                <a:ext cx="2357280" cy="600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愛護校園整潔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6" name="Line 6"/>
              <p:cNvSpPr/>
              <p:nvPr/>
            </p:nvSpPr>
            <p:spPr>
              <a:xfrm>
                <a:off x="6961320" y="24429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7" name="Line 6"/>
              <p:cNvSpPr/>
              <p:nvPr/>
            </p:nvSpPr>
            <p:spPr>
              <a:xfrm>
                <a:off x="6961320" y="31575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8" name="AutoShape 3"/>
              <p:cNvSpPr/>
              <p:nvPr/>
            </p:nvSpPr>
            <p:spPr>
              <a:xfrm>
                <a:off x="7175520" y="2157120"/>
                <a:ext cx="1274760" cy="598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2-1-4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4-1-1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9" name="AutoShape 3"/>
              <p:cNvSpPr/>
              <p:nvPr/>
            </p:nvSpPr>
            <p:spPr>
              <a:xfrm>
                <a:off x="7175520" y="2871720"/>
                <a:ext cx="1643040" cy="598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2-1-1   4-1-3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4-1-2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5" descr="illust15"/>
          <p:cNvPicPr/>
          <p:nvPr/>
        </p:nvPicPr>
        <p:blipFill>
          <a:blip r:embed="rId1"/>
          <a:stretch/>
        </p:blipFill>
        <p:spPr>
          <a:xfrm>
            <a:off x="0" y="4941720"/>
            <a:ext cx="1782720" cy="1916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4" descr="illust15"/>
          <p:cNvPicPr/>
          <p:nvPr/>
        </p:nvPicPr>
        <p:blipFill>
          <a:blip r:embed="rId2"/>
          <a:stretch/>
        </p:blipFill>
        <p:spPr>
          <a:xfrm>
            <a:off x="7286760" y="4357800"/>
            <a:ext cx="1565280" cy="1722240"/>
          </a:xfrm>
          <a:prstGeom prst="rect">
            <a:avLst/>
          </a:prstGeom>
          <a:ln w="0">
            <a:noFill/>
          </a:ln>
        </p:spPr>
      </p:pic>
      <p:sp>
        <p:nvSpPr>
          <p:cNvPr id="292" name="標題 1"/>
          <p:cNvSpPr/>
          <p:nvPr/>
        </p:nvSpPr>
        <p:spPr>
          <a:xfrm>
            <a:off x="431640" y="341280"/>
            <a:ext cx="828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  <a:ea typeface="標楷體"/>
              </a:rPr>
              <a:t>東信樂園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Verdana"/>
                <a:ea typeface="標楷體"/>
              </a:rPr>
              <a:t>學校本位橫向主題統整架構圖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1282680" y="1700280"/>
            <a:ext cx="6572160" cy="4732200"/>
          </a:xfrm>
          <a:prstGeom prst="hexagon">
            <a:avLst>
              <a:gd name="adj" fmla="val 34720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4092480" y="1728720"/>
            <a:ext cx="91116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Calibri"/>
                <a:ea typeface="標楷體"/>
              </a:rPr>
              <a:t>快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Oval 4"/>
          <p:cNvSpPr/>
          <p:nvPr/>
        </p:nvSpPr>
        <p:spPr>
          <a:xfrm>
            <a:off x="2809800" y="2706840"/>
            <a:ext cx="3365640" cy="28875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Line 5"/>
          <p:cNvSpPr/>
          <p:nvPr/>
        </p:nvSpPr>
        <p:spPr>
          <a:xfrm>
            <a:off x="2886120" y="1697040"/>
            <a:ext cx="3341520" cy="47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Line 6"/>
          <p:cNvSpPr/>
          <p:nvPr/>
        </p:nvSpPr>
        <p:spPr>
          <a:xfrm flipV="1">
            <a:off x="2860560" y="1696680"/>
            <a:ext cx="3279960" cy="47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Line 7"/>
          <p:cNvSpPr/>
          <p:nvPr/>
        </p:nvSpPr>
        <p:spPr>
          <a:xfrm>
            <a:off x="1258920" y="4076640"/>
            <a:ext cx="657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Oval 8"/>
          <p:cNvSpPr/>
          <p:nvPr/>
        </p:nvSpPr>
        <p:spPr>
          <a:xfrm>
            <a:off x="3664080" y="3398760"/>
            <a:ext cx="1761840" cy="144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4035600" y="3618000"/>
            <a:ext cx="1481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Calibri"/>
                <a:ea typeface="標楷體"/>
              </a:rPr>
              <a:t>東信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Calibri"/>
                <a:ea typeface="標楷體"/>
              </a:rPr>
              <a:t>樂園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4143240" y="2676600"/>
            <a:ext cx="7765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Calibri"/>
                <a:ea typeface="標楷體"/>
              </a:rPr>
              <a:t>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5265720" y="3110040"/>
            <a:ext cx="73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70c0"/>
                </a:solidFill>
                <a:latin typeface="Calibri"/>
                <a:ea typeface="標楷體"/>
              </a:rPr>
              <a:t>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5403960" y="4119480"/>
            <a:ext cx="8730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三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4064040" y="4842000"/>
            <a:ext cx="10350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四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Text Box 14"/>
          <p:cNvSpPr/>
          <p:nvPr/>
        </p:nvSpPr>
        <p:spPr>
          <a:xfrm>
            <a:off x="3021120" y="4119480"/>
            <a:ext cx="8143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五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3105000" y="3162240"/>
            <a:ext cx="814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Text Box 17"/>
          <p:cNvSpPr/>
          <p:nvPr/>
        </p:nvSpPr>
        <p:spPr>
          <a:xfrm>
            <a:off x="5907240" y="2532240"/>
            <a:ext cx="1234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0a0"/>
                </a:solidFill>
                <a:latin typeface="Calibri"/>
                <a:ea typeface="標楷體"/>
              </a:rPr>
              <a:t>話</a:t>
            </a:r>
            <a:r>
              <a:rPr b="1" lang="zh-TW" sz="2800" spc="-1" strike="noStrike">
                <a:solidFill>
                  <a:srgbClr val="7030a0"/>
                </a:solidFill>
                <a:latin typeface="Arial Black"/>
                <a:ea typeface="標楷體"/>
              </a:rPr>
              <a:t>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0a0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6165720" y="4378320"/>
            <a:ext cx="13273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探索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3970440" y="5504040"/>
            <a:ext cx="13460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動感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Text Box 20"/>
          <p:cNvSpPr/>
          <p:nvPr/>
        </p:nvSpPr>
        <p:spPr>
          <a:xfrm>
            <a:off x="2165400" y="2521080"/>
            <a:ext cx="11332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深情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Text Box 21"/>
          <p:cNvSpPr/>
          <p:nvPr/>
        </p:nvSpPr>
        <p:spPr>
          <a:xfrm>
            <a:off x="2028960" y="4408560"/>
            <a:ext cx="13208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彩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2" name="Picture 24" descr="illust15"/>
          <p:cNvPicPr/>
          <p:nvPr/>
        </p:nvPicPr>
        <p:blipFill>
          <a:blip r:embed="rId3">
            <a:lum bright="34000"/>
          </a:blip>
          <a:stretch/>
        </p:blipFill>
        <p:spPr>
          <a:xfrm>
            <a:off x="642960" y="214200"/>
            <a:ext cx="963720" cy="16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AutoShape 6"/>
          <p:cNvSpPr/>
          <p:nvPr/>
        </p:nvSpPr>
        <p:spPr>
          <a:xfrm>
            <a:off x="2428920" y="5143680"/>
            <a:ext cx="1571760" cy="563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Verdana"/>
              </a:rPr>
              <a:t>花花草草</a:t>
            </a:r>
            <a:r>
              <a:rPr b="0" lang="zh-TW" sz="16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5214960" y="5143680"/>
            <a:ext cx="1643040" cy="55692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Verdana"/>
              </a:rPr>
              <a:t>健康寶寶</a:t>
            </a:r>
            <a:r>
              <a:rPr b="0" lang="zh-TW" sz="16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AutoShape 8"/>
          <p:cNvSpPr/>
          <p:nvPr/>
        </p:nvSpPr>
        <p:spPr>
          <a:xfrm>
            <a:off x="428760" y="1000080"/>
            <a:ext cx="2286000" cy="1374840"/>
          </a:xfrm>
          <a:prstGeom prst="wedgeRectCallout">
            <a:avLst>
              <a:gd name="adj1" fmla="val 37634"/>
              <a:gd name="adj2" fmla="val 70500"/>
            </a:avLst>
          </a:prstGeom>
          <a:gradFill rotWithShape="0">
            <a:gsLst>
              <a:gs pos="0">
                <a:srgbClr val="ff66ff"/>
              </a:gs>
              <a:gs pos="50000">
                <a:srgbClr val="ffffff"/>
              </a:gs>
              <a:gs pos="100000">
                <a:srgbClr val="ff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數字像什麼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數字遊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﹕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數學、生活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AutoShape 11"/>
          <p:cNvSpPr/>
          <p:nvPr/>
        </p:nvSpPr>
        <p:spPr>
          <a:xfrm>
            <a:off x="285840" y="5429160"/>
            <a:ext cx="1654200" cy="1000080"/>
          </a:xfrm>
          <a:prstGeom prst="wedgeRectCallout">
            <a:avLst>
              <a:gd name="adj1" fmla="val 79527"/>
              <a:gd name="adj2" fmla="val -40263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◎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超級比一比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：數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6572160" y="3357720"/>
            <a:ext cx="2246400" cy="1512720"/>
          </a:xfrm>
          <a:prstGeom prst="wedgeRectCallout">
            <a:avLst>
              <a:gd name="adj1" fmla="val -44768"/>
              <a:gd name="adj2" fmla="val 66129"/>
            </a:avLst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相見歡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猜猜我是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朋友在哪裡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：語文、綜合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Rectangle 15"/>
          <p:cNvSpPr/>
          <p:nvPr/>
        </p:nvSpPr>
        <p:spPr>
          <a:xfrm>
            <a:off x="468360" y="260280"/>
            <a:ext cx="81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一年級上學期學校本位課程主題統整架構圖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3500280" y="3143160"/>
            <a:ext cx="2428920" cy="201456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新細明體"/>
              </a:rPr>
              <a:t>快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新細明體"/>
              </a:rPr>
              <a:t>東信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2357280" y="2714760"/>
            <a:ext cx="1600200" cy="5713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新細明體"/>
              </a:rPr>
              <a:t>畫中有話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AutoShape 8"/>
          <p:cNvSpPr/>
          <p:nvPr/>
        </p:nvSpPr>
        <p:spPr>
          <a:xfrm>
            <a:off x="2928960" y="857160"/>
            <a:ext cx="2286000" cy="1517760"/>
          </a:xfrm>
          <a:prstGeom prst="wedgeRectCallout">
            <a:avLst>
              <a:gd name="adj1" fmla="val -13476"/>
              <a:gd name="adj2" fmla="val 70500"/>
            </a:avLst>
          </a:prstGeom>
          <a:gradFill rotWithShape="0">
            <a:gsLst>
              <a:gs pos="0">
                <a:srgbClr val="ff66ff"/>
              </a:gs>
              <a:gs pos="50000">
                <a:srgbClr val="ffffff"/>
              </a:gs>
              <a:gs pos="100000">
                <a:srgbClr val="ff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好聽的故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看圖說一說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快樂讀書會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：語文、閱讀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AutoShape 16"/>
          <p:cNvSpPr/>
          <p:nvPr/>
        </p:nvSpPr>
        <p:spPr>
          <a:xfrm>
            <a:off x="5219640" y="2708280"/>
            <a:ext cx="1600200" cy="57132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新細明體"/>
              </a:rPr>
              <a:t>海洋童話季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23" name="AutoShape 17"/>
          <p:cNvGrpSpPr/>
          <p:nvPr/>
        </p:nvGrpSpPr>
        <p:grpSpPr>
          <a:xfrm>
            <a:off x="6334200" y="841320"/>
            <a:ext cx="2328840" cy="1889280"/>
            <a:chOff x="6334200" y="841320"/>
            <a:chExt cx="2328840" cy="1889280"/>
          </a:xfrm>
        </p:grpSpPr>
        <p:pic>
          <p:nvPicPr>
            <p:cNvPr id="324" name="AutoShape 17" descr=""/>
            <p:cNvPicPr/>
            <p:nvPr/>
          </p:nvPicPr>
          <p:blipFill>
            <a:blip r:embed="rId1"/>
            <a:stretch/>
          </p:blipFill>
          <p:spPr>
            <a:xfrm>
              <a:off x="6334200" y="841320"/>
              <a:ext cx="2328840" cy="18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6357960" y="857160"/>
              <a:ext cx="22860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活動內容： 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新細明體"/>
                </a:rPr>
                <a:t>1.</a:t>
              </a: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海洋與我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新細明體"/>
                </a:rPr>
                <a:t>2.</a:t>
              </a: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海洋童詩</a:t>
              </a:r>
              <a:r>
                <a:rPr b="0" lang="zh-TW" sz="1800" spc="-1" strike="noStrike">
                  <a:solidFill>
                    <a:srgbClr val="0000ff"/>
                  </a:solidFill>
                  <a:latin typeface="Verdana"/>
                </a:rPr>
                <a:t>、</a:t>
              </a: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童謠欣賞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新細明體"/>
                </a:rPr>
                <a:t>3.</a:t>
              </a: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海洋影片欣賞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融入領域：語文、鄉土、環境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326" name="AutoShape 11"/>
          <p:cNvSpPr/>
          <p:nvPr/>
        </p:nvSpPr>
        <p:spPr>
          <a:xfrm>
            <a:off x="571680" y="3143160"/>
            <a:ext cx="1653840" cy="1584360"/>
          </a:xfrm>
          <a:prstGeom prst="wedgeRectCallout">
            <a:avLst>
              <a:gd name="adj1" fmla="val 88768"/>
              <a:gd name="adj2" fmla="val 6983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快樂校園行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和植物作朋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：生活、綜合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AutoShape 12"/>
          <p:cNvSpPr/>
          <p:nvPr/>
        </p:nvSpPr>
        <p:spPr>
          <a:xfrm>
            <a:off x="7000920" y="5084640"/>
            <a:ext cx="2000160" cy="1584360"/>
          </a:xfrm>
          <a:prstGeom prst="wedgeRectCallout">
            <a:avLst>
              <a:gd name="adj1" fmla="val -70078"/>
              <a:gd name="adj2" fmla="val 2106"/>
            </a:avLst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動動身體玩遊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跳繩安全守則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二跳一迴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：健體、數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5"/>
          <p:cNvSpPr/>
          <p:nvPr/>
        </p:nvSpPr>
        <p:spPr>
          <a:xfrm>
            <a:off x="2214720" y="3000240"/>
            <a:ext cx="1566720" cy="4492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Verdana"/>
              </a:rPr>
              <a:t>童詩童話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2214720" y="4357800"/>
            <a:ext cx="1571400" cy="507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拈花惹草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AutoShape 7"/>
          <p:cNvSpPr/>
          <p:nvPr/>
        </p:nvSpPr>
        <p:spPr>
          <a:xfrm>
            <a:off x="5643720" y="4500720"/>
            <a:ext cx="1714320" cy="42228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新細明體"/>
              </a:rPr>
              <a:t>天才小</a:t>
            </a:r>
            <a:r>
              <a:rPr b="1" lang="en-US" sz="1600" spc="-1" strike="noStrike">
                <a:solidFill>
                  <a:srgbClr val="0000ff"/>
                </a:solidFill>
                <a:latin typeface="新細明體"/>
              </a:rPr>
              <a:t>”</a:t>
            </a:r>
            <a:r>
              <a:rPr b="1" lang="zh-TW" sz="1600" spc="-1" strike="noStrike">
                <a:solidFill>
                  <a:srgbClr val="0000ff"/>
                </a:solidFill>
                <a:latin typeface="新細明體"/>
              </a:rPr>
              <a:t>玩</a:t>
            </a:r>
            <a:r>
              <a:rPr b="1" lang="en-US" sz="1600" spc="-1" strike="noStrike">
                <a:solidFill>
                  <a:srgbClr val="0000ff"/>
                </a:solidFill>
                <a:latin typeface="新細明體"/>
              </a:rPr>
              <a:t>”</a:t>
            </a:r>
            <a:r>
              <a:rPr b="1" lang="zh-TW" sz="1600" spc="-1" strike="noStrike">
                <a:solidFill>
                  <a:srgbClr val="0000ff"/>
                </a:solidFill>
                <a:latin typeface="新細明體"/>
              </a:rPr>
              <a:t>童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AutoShape 8"/>
          <p:cNvSpPr/>
          <p:nvPr/>
        </p:nvSpPr>
        <p:spPr>
          <a:xfrm>
            <a:off x="571680" y="1571760"/>
            <a:ext cx="1714320" cy="1065240"/>
          </a:xfrm>
          <a:prstGeom prst="wedgeRectCallout">
            <a:avLst>
              <a:gd name="adj1" fmla="val 46981"/>
              <a:gd name="adj2" fmla="val 75648"/>
            </a:avLst>
          </a:prstGeom>
          <a:gradFill rotWithShape="0">
            <a:gsLst>
              <a:gs pos="0">
                <a:srgbClr val="ff66ff"/>
              </a:gs>
              <a:gs pos="50000">
                <a:srgbClr val="ffffff"/>
              </a:gs>
              <a:gs pos="100000">
                <a:srgbClr val="ff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◎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好玩的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﹕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數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214200" y="3500280"/>
            <a:ext cx="1857600" cy="1571760"/>
          </a:xfrm>
          <a:prstGeom prst="wedgeRectCallout">
            <a:avLst>
              <a:gd name="adj1" fmla="val 74064"/>
              <a:gd name="adj2" fmla="val -685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畫說植物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植物的家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3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植物搜查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融入領域：生活、資訊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AutoShape 13"/>
          <p:cNvSpPr/>
          <p:nvPr/>
        </p:nvSpPr>
        <p:spPr>
          <a:xfrm>
            <a:off x="5572080" y="5214960"/>
            <a:ext cx="1663920" cy="1447920"/>
          </a:xfrm>
          <a:prstGeom prst="wedgeRectCallout">
            <a:avLst>
              <a:gd name="adj1" fmla="val -27472"/>
              <a:gd name="adj2" fmla="val -67199"/>
            </a:avLst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暖身遊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一跳一迴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3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跑帶跳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融入領域：健體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" name="AutoShape 14"/>
          <p:cNvSpPr/>
          <p:nvPr/>
        </p:nvSpPr>
        <p:spPr>
          <a:xfrm>
            <a:off x="2571840" y="1143000"/>
            <a:ext cx="2286000" cy="1440000"/>
          </a:xfrm>
          <a:prstGeom prst="wedgeRectCallout">
            <a:avLst>
              <a:gd name="adj1" fmla="val -30259"/>
              <a:gd name="adj2" fmla="val 76115"/>
            </a:avLst>
          </a:prstGeom>
          <a:gradFill rotWithShape="0">
            <a:gsLst>
              <a:gs pos="0">
                <a:srgbClr val="ff66ff"/>
              </a:gs>
              <a:gs pos="50000">
                <a:srgbClr val="ffffff"/>
              </a:gs>
              <a:gs pos="100000">
                <a:srgbClr val="ff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看圖說故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我是小書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3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童詩創作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融入領域：語文、閱讀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466560" y="3286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一年級下學期學校本位課程主題統整架構圖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AutoShape 16"/>
          <p:cNvSpPr/>
          <p:nvPr/>
        </p:nvSpPr>
        <p:spPr>
          <a:xfrm>
            <a:off x="5643720" y="3000240"/>
            <a:ext cx="1600200" cy="42876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新細明體"/>
              </a:rPr>
              <a:t>海洋遊樂園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37" name="AutoShape 17"/>
          <p:cNvGrpSpPr/>
          <p:nvPr/>
        </p:nvGrpSpPr>
        <p:grpSpPr>
          <a:xfrm>
            <a:off x="6407280" y="1054080"/>
            <a:ext cx="2328840" cy="1897200"/>
            <a:chOff x="6407280" y="1054080"/>
            <a:chExt cx="2328840" cy="1897200"/>
          </a:xfrm>
        </p:grpSpPr>
        <p:pic>
          <p:nvPicPr>
            <p:cNvPr id="338" name="AutoShape 17" descr=""/>
            <p:cNvPicPr/>
            <p:nvPr/>
          </p:nvPicPr>
          <p:blipFill>
            <a:blip r:embed="rId1"/>
            <a:stretch/>
          </p:blipFill>
          <p:spPr>
            <a:xfrm>
              <a:off x="6407280" y="1054080"/>
              <a:ext cx="2328840" cy="18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6429240" y="1071720"/>
              <a:ext cx="228600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活動內容：</a:t>
              </a:r>
              <a:r>
                <a:rPr b="0" lang="en-US" sz="1600" spc="-1" strike="noStrike">
                  <a:solidFill>
                    <a:srgbClr val="0000ff"/>
                  </a:solidFill>
                  <a:latin typeface="新細明體"/>
                </a:rPr>
                <a:t> 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新細明體"/>
                </a:rPr>
                <a:t>1.</a:t>
              </a: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海洋故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新細明體"/>
                </a:rPr>
                <a:t>2.</a:t>
              </a: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誰把大海變髒了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新細明體"/>
                </a:rPr>
                <a:t>3.</a:t>
              </a: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與海洋有約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融入領域</a:t>
              </a:r>
              <a:r>
                <a:rPr b="0" lang="en-US" sz="1600" spc="-1" strike="noStrike">
                  <a:solidFill>
                    <a:srgbClr val="0000ff"/>
                  </a:solidFill>
                  <a:latin typeface="新細明體"/>
                </a:rPr>
                <a:t>﹕</a:t>
              </a: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環境、鄉土、語文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340" name="AutoShape 14"/>
          <p:cNvSpPr/>
          <p:nvPr/>
        </p:nvSpPr>
        <p:spPr>
          <a:xfrm>
            <a:off x="3500280" y="3143160"/>
            <a:ext cx="2428920" cy="201456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新細明體"/>
              </a:rPr>
              <a:t>快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新細明體"/>
              </a:rPr>
              <a:t>東信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" name="AutoShape 10"/>
          <p:cNvSpPr/>
          <p:nvPr/>
        </p:nvSpPr>
        <p:spPr>
          <a:xfrm>
            <a:off x="1643040" y="5214960"/>
            <a:ext cx="2928960" cy="1428840"/>
          </a:xfrm>
          <a:prstGeom prst="wedgeRectCallout">
            <a:avLst>
              <a:gd name="adj1" fmla="val -15037"/>
              <a:gd name="adj2" fmla="val -68652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春天嘉年華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和植物玩遊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3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愛的卡片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融入領域：語文、生活、綜合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AutoShape 13"/>
          <p:cNvSpPr/>
          <p:nvPr/>
        </p:nvSpPr>
        <p:spPr>
          <a:xfrm>
            <a:off x="7429680" y="3429000"/>
            <a:ext cx="1520640" cy="2000160"/>
          </a:xfrm>
          <a:prstGeom prst="wedgeRectCallout">
            <a:avLst>
              <a:gd name="adj1" fmla="val -74439"/>
              <a:gd name="adj2" fmla="val -2606"/>
            </a:avLst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請你跟我這樣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闖關活動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3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大家來猜拳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融入領域：生活、綜合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4"/>
          <p:cNvSpPr/>
          <p:nvPr/>
        </p:nvSpPr>
        <p:spPr>
          <a:xfrm>
            <a:off x="1428840" y="21420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一年級上學期彈性學習節數一覽表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57120" y="785880"/>
          <a:ext cx="8175600" cy="5537160"/>
        </p:xfrm>
        <a:graphic>
          <a:graphicData uri="http://schemas.openxmlformats.org/drawingml/2006/table">
            <a:tbl>
              <a:tblPr/>
              <a:tblGrid>
                <a:gridCol w="1635120"/>
                <a:gridCol w="1635120"/>
                <a:gridCol w="1635120"/>
                <a:gridCol w="2333880"/>
                <a:gridCol w="936360"/>
              </a:tblGrid>
              <a:tr h="38412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項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   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目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內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   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節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  <a:tr h="603360">
                <a:tc rowSpan="3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學校及學年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教務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50000"/>
                      </a:srgbClr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迎新活動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、教師節慶祝活動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6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學生事務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50000"/>
                      </a:srgbClr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歲末聯歡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、法治教育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 、口腔教育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、國防教育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、防災教育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輔導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50000"/>
                      </a:srgbClr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性別平等教育、性侵害及家暴防治教育、家庭教育、融合教育的特殊教育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8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節及運用晨間時間】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88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班級輔導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新生輔導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、節慶活動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2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  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96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自主學習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引導學生獨立學習、自主學習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96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臨時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臨時交辦或配合活動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532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學校本位課程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快樂東信〈靜態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-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閱讀，動態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-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跳繩〉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8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補救教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數學補救教學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20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 gridSpan="3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上學期彈性學習總節數：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彈性學習節數每週節數：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3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80808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7:06:58Z</dcterms:created>
  <dc:creator>USER</dc:creator>
  <dc:description/>
  <dc:language>en-US</dc:language>
  <cp:lastModifiedBy>教師</cp:lastModifiedBy>
  <dcterms:modified xsi:type="dcterms:W3CDTF">2013-08-06T03:48:11Z</dcterms:modified>
  <cp:revision>123</cp:revision>
  <dc:subject/>
  <dc:title>投影片 1</dc:title>
</cp:coreProperties>
</file>