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19D5-3D5B-4F99-9669-45AB026B7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5C83-0F2B-48B4-BA7B-88B41705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35A8-20B2-428E-BF80-527F8EBB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B3F0-7F7D-4ADB-80A3-8AD57C445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A117-FCAB-4AC5-9458-D5B6870C6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485D-955D-4F2C-AD02-BC7C7E3E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218A-187D-409B-B344-2579D754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4A8D-5932-49A8-B355-34169E1B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2A7C-D849-4E9A-A21D-2F73A320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283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6BEE-BD5C-4EAC-8AFE-CF4B1766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D10C-8DDD-439B-87B6-5F4D42CE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E8CF-5AEE-4708-99E7-28FFF31E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04CE-E0BD-4877-A888-74C82AC7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7FBE-1014-4844-BC47-888F7F3F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849E-C9A5-4338-824B-F7D4A1F5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C7FE-E561-4578-AB5B-CE433FE0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6BFE-3DDD-4C5E-88FB-E87517F59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7F27-8E7C-4EC7-96C2-3112F6B5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52BD-DB9B-4B10-80F4-CD42C996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A8DE-3505-4430-B473-49EFEB17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283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7384-DF03-414B-A400-B0638374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B465-EC44-406F-A52D-4A25AD2B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025B-C86A-401F-8BA4-A0555657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2F58-221D-47F1-B07C-9EA4DDC6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8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924C-D2D1-479C-8E90-174A791DF5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Oval 29"/>
          <p:cNvSpPr/>
          <p:nvPr/>
        </p:nvSpPr>
        <p:spPr>
          <a:xfrm rot="481800">
            <a:off x="8172360" y="437760"/>
            <a:ext cx="432000" cy="432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30"/>
          <p:cNvSpPr/>
          <p:nvPr/>
        </p:nvSpPr>
        <p:spPr>
          <a:xfrm rot="16529400">
            <a:off x="8174160" y="469440"/>
            <a:ext cx="360360" cy="86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919" y="1478"/>
                  <a:pt x="8238" y="5080"/>
                  <a:pt x="8238" y="10800"/>
                </a:cubicBezTo>
                <a:cubicBezTo>
                  <a:pt x="8238" y="16520"/>
                  <a:pt x="14919" y="2012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31"/>
          <p:cNvSpPr/>
          <p:nvPr/>
        </p:nvSpPr>
        <p:spPr>
          <a:xfrm rot="20326200">
            <a:off x="8377200" y="956880"/>
            <a:ext cx="14148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32"/>
          <p:cNvSpPr/>
          <p:nvPr/>
        </p:nvSpPr>
        <p:spPr>
          <a:xfrm rot="10969800">
            <a:off x="8233560" y="936720"/>
            <a:ext cx="141480" cy="57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rc 33"/>
          <p:cNvSpPr/>
          <p:nvPr/>
        </p:nvSpPr>
        <p:spPr>
          <a:xfrm rot="481800">
            <a:off x="8054640" y="7560"/>
            <a:ext cx="717480" cy="915840"/>
          </a:xfrm>
          <a:custGeom>
            <a:avLst/>
            <a:gdLst>
              <a:gd name="textAreaLeft" fmla="*/ 0 w 717480"/>
              <a:gd name="textAreaRight" fmla="*/ 717480 w 717480"/>
              <a:gd name="textAreaTop" fmla="*/ 0 h 915840"/>
              <a:gd name="textAreaBottom" fmla="*/ 916200 h 915840"/>
            </a:gdLst>
            <a:ahLst/>
            <a:rect l="textAreaLeft" t="textAreaTop" r="textAreaRight" b="textAreaBottom"/>
            <a:pathLst>
              <a:path fill="none" w="43200" h="23755">
                <a:moveTo>
                  <a:pt x="11" y="22296"/>
                </a:moveTo>
                <a:cubicBezTo>
                  <a:pt x="3" y="22064"/>
                  <a:pt x="0" y="2183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319"/>
                  <a:pt x="-22372" y="23038"/>
                  <a:pt x="-22444" y="23755"/>
                </a:cubicBezTo>
              </a:path>
              <a:path stroke="0" w="43200" h="23755">
                <a:moveTo>
                  <a:pt x="11" y="22296"/>
                </a:moveTo>
                <a:cubicBezTo>
                  <a:pt x="3" y="22064"/>
                  <a:pt x="0" y="2183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319"/>
                  <a:pt x="-22372" y="23038"/>
                  <a:pt x="-22444" y="23755"/>
                </a:cubicBezTo>
                <a:lnTo>
                  <a:pt x="216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rc 34"/>
          <p:cNvSpPr/>
          <p:nvPr/>
        </p:nvSpPr>
        <p:spPr>
          <a:xfrm rot="12217200">
            <a:off x="7805520" y="772920"/>
            <a:ext cx="738000" cy="841320"/>
          </a:xfrm>
          <a:custGeom>
            <a:avLst/>
            <a:gdLst>
              <a:gd name="textAreaLeft" fmla="*/ 0 w 738000"/>
              <a:gd name="textAreaRight" fmla="*/ 738360 w 73800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fill="none" w="43200" h="26717">
                <a:moveTo>
                  <a:pt x="614" y="26717"/>
                </a:moveTo>
                <a:cubicBezTo>
                  <a:pt x="206" y="25042"/>
                  <a:pt x="0" y="2332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020"/>
                  <a:pt x="-22349" y="22441"/>
                  <a:pt x="-22373" y="22861"/>
                </a:cubicBezTo>
              </a:path>
              <a:path stroke="0" w="43200" h="26717">
                <a:moveTo>
                  <a:pt x="614" y="26717"/>
                </a:moveTo>
                <a:cubicBezTo>
                  <a:pt x="206" y="25042"/>
                  <a:pt x="0" y="2332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020"/>
                  <a:pt x="-22349" y="22441"/>
                  <a:pt x="-22373" y="22861"/>
                </a:cubicBezTo>
                <a:lnTo>
                  <a:pt x="21600" y="21600"/>
                </a:lnTo>
                <a:close/>
              </a:path>
            </a:pathLst>
          </a:custGeom>
          <a:noFill/>
          <a:ln w="3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rc 35"/>
          <p:cNvSpPr/>
          <p:nvPr/>
        </p:nvSpPr>
        <p:spPr>
          <a:xfrm rot="19797600">
            <a:off x="7891560" y="0"/>
            <a:ext cx="730080" cy="1060560"/>
          </a:xfrm>
          <a:custGeom>
            <a:avLst/>
            <a:gdLst>
              <a:gd name="textAreaLeft" fmla="*/ 0 w 730080"/>
              <a:gd name="textAreaRight" fmla="*/ 730440 w 730080"/>
              <a:gd name="textAreaTop" fmla="*/ 0 h 1060560"/>
              <a:gd name="textAreaBottom" fmla="*/ 1060920 h 1060560"/>
            </a:gdLst>
            <a:ahLst/>
            <a:rect l="textAreaLeft" t="textAreaTop" r="textAreaRight" b="textAreaBottom"/>
            <a:pathLst>
              <a:path fill="none" w="42302" h="33344">
                <a:moveTo>
                  <a:pt x="0" y="15436"/>
                </a:moveTo>
                <a:cubicBezTo>
                  <a:pt x="2726" y="6278"/>
                  <a:pt x="11146" y="-1"/>
                  <a:pt x="20702" y="0"/>
                </a:cubicBezTo>
                <a:cubicBezTo>
                  <a:pt x="32631" y="0"/>
                  <a:pt x="42302" y="9670"/>
                  <a:pt x="42302" y="21600"/>
                </a:cubicBezTo>
                <a:cubicBezTo>
                  <a:pt x="42302" y="25767"/>
                  <a:pt x="41096" y="29846"/>
                  <a:pt x="38830" y="33344"/>
                </a:cubicBezTo>
              </a:path>
              <a:path stroke="0" w="42302" h="33344">
                <a:moveTo>
                  <a:pt x="0" y="15436"/>
                </a:moveTo>
                <a:cubicBezTo>
                  <a:pt x="2726" y="6278"/>
                  <a:pt x="11146" y="-1"/>
                  <a:pt x="20702" y="0"/>
                </a:cubicBezTo>
                <a:cubicBezTo>
                  <a:pt x="32631" y="0"/>
                  <a:pt x="42302" y="9670"/>
                  <a:pt x="42302" y="21600"/>
                </a:cubicBezTo>
                <a:cubicBezTo>
                  <a:pt x="42302" y="25767"/>
                  <a:pt x="41096" y="29846"/>
                  <a:pt x="38830" y="33344"/>
                </a:cubicBezTo>
                <a:lnTo>
                  <a:pt x="20702" y="21600"/>
                </a:lnTo>
                <a:close/>
              </a:path>
            </a:pathLst>
          </a:custGeom>
          <a:noFill/>
          <a:ln w="3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Oval 46"/>
          <p:cNvSpPr/>
          <p:nvPr/>
        </p:nvSpPr>
        <p:spPr>
          <a:xfrm rot="892800">
            <a:off x="2984400" y="782640"/>
            <a:ext cx="5472360" cy="3600360"/>
          </a:xfrm>
          <a:prstGeom prst="ellipse">
            <a:avLst/>
          </a:prstGeom>
          <a:solidFill>
            <a:srgbClr val="008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AutoShape 47"/>
          <p:cNvSpPr/>
          <p:nvPr/>
        </p:nvSpPr>
        <p:spPr>
          <a:xfrm rot="898200">
            <a:off x="2303640" y="333360"/>
            <a:ext cx="6840360" cy="4491000"/>
          </a:xfrm>
          <a:custGeom>
            <a:avLst/>
            <a:gdLst>
              <a:gd name="textAreaLeft" fmla="*/ 1001520 w 6840360"/>
              <a:gd name="textAreaRight" fmla="*/ 5838840 w 6840360"/>
              <a:gd name="textAreaTop" fmla="*/ 657360 h 4491000"/>
              <a:gd name="textAreaBottom" fmla="*/ 3833640 h 4491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208" y="10800"/>
                </a:moveTo>
                <a:cubicBezTo>
                  <a:pt x="2208" y="15545"/>
                  <a:pt x="6055" y="19392"/>
                  <a:pt x="10800" y="19392"/>
                </a:cubicBezTo>
                <a:cubicBezTo>
                  <a:pt x="15545" y="19392"/>
                  <a:pt x="19392" y="15545"/>
                  <a:pt x="19392" y="10800"/>
                </a:cubicBezTo>
                <a:cubicBezTo>
                  <a:pt x="19392" y="6055"/>
                  <a:pt x="15545" y="2208"/>
                  <a:pt x="10800" y="2208"/>
                </a:cubicBezTo>
                <a:cubicBezTo>
                  <a:pt x="6055" y="2208"/>
                  <a:pt x="2208" y="6055"/>
                  <a:pt x="2208" y="10800"/>
                </a:cubicBezTo>
                <a:close/>
              </a:path>
            </a:pathLst>
          </a:custGeom>
          <a:solidFill>
            <a:srgbClr val="ff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48"/>
          <p:cNvGrpSpPr/>
          <p:nvPr/>
        </p:nvGrpSpPr>
        <p:grpSpPr>
          <a:xfrm>
            <a:off x="4143240" y="1332720"/>
            <a:ext cx="353160" cy="276840"/>
            <a:chOff x="4143240" y="1332720"/>
            <a:chExt cx="353160" cy="276840"/>
          </a:xfrm>
        </p:grpSpPr>
        <p:sp>
          <p:nvSpPr>
            <p:cNvPr id="15" name="AutoShape 49"/>
            <p:cNvSpPr/>
            <p:nvPr/>
          </p:nvSpPr>
          <p:spPr>
            <a:xfrm rot="2689800">
              <a:off x="4333680" y="1373040"/>
              <a:ext cx="93240" cy="235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AutoShape 50"/>
            <p:cNvSpPr/>
            <p:nvPr/>
          </p:nvSpPr>
          <p:spPr>
            <a:xfrm rot="8202000">
              <a:off x="4210920" y="1374120"/>
              <a:ext cx="93240" cy="235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AutoShape 51"/>
            <p:cNvSpPr/>
            <p:nvPr/>
          </p:nvSpPr>
          <p:spPr>
            <a:xfrm rot="9676200">
              <a:off x="4274280" y="1341000"/>
              <a:ext cx="92520" cy="235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" name="Group 52"/>
          <p:cNvGrpSpPr/>
          <p:nvPr/>
        </p:nvGrpSpPr>
        <p:grpSpPr>
          <a:xfrm>
            <a:off x="4432320" y="1548720"/>
            <a:ext cx="352800" cy="276840"/>
            <a:chOff x="4432320" y="1548720"/>
            <a:chExt cx="352800" cy="276840"/>
          </a:xfrm>
        </p:grpSpPr>
        <p:sp>
          <p:nvSpPr>
            <p:cNvPr id="19" name="AutoShape 53"/>
            <p:cNvSpPr/>
            <p:nvPr/>
          </p:nvSpPr>
          <p:spPr>
            <a:xfrm rot="2689800">
              <a:off x="4622400" y="1589040"/>
              <a:ext cx="93240" cy="235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AutoShape 54"/>
            <p:cNvSpPr/>
            <p:nvPr/>
          </p:nvSpPr>
          <p:spPr>
            <a:xfrm rot="8202000">
              <a:off x="4500000" y="1590120"/>
              <a:ext cx="93240" cy="235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AutoShape 55"/>
            <p:cNvSpPr/>
            <p:nvPr/>
          </p:nvSpPr>
          <p:spPr>
            <a:xfrm rot="9676200">
              <a:off x="4563720" y="1557000"/>
              <a:ext cx="92160" cy="235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" name="Group 56"/>
          <p:cNvGrpSpPr/>
          <p:nvPr/>
        </p:nvGrpSpPr>
        <p:grpSpPr>
          <a:xfrm>
            <a:off x="4863960" y="1404360"/>
            <a:ext cx="353160" cy="276840"/>
            <a:chOff x="4863960" y="1404360"/>
            <a:chExt cx="353160" cy="276840"/>
          </a:xfrm>
        </p:grpSpPr>
        <p:sp>
          <p:nvSpPr>
            <p:cNvPr id="23" name="AutoShape 57"/>
            <p:cNvSpPr/>
            <p:nvPr/>
          </p:nvSpPr>
          <p:spPr>
            <a:xfrm rot="2689800">
              <a:off x="5054400" y="1444680"/>
              <a:ext cx="93240" cy="235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AutoShape 58"/>
            <p:cNvSpPr/>
            <p:nvPr/>
          </p:nvSpPr>
          <p:spPr>
            <a:xfrm rot="8202000">
              <a:off x="4931640" y="1445760"/>
              <a:ext cx="93240" cy="235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AutoShape 59"/>
            <p:cNvSpPr/>
            <p:nvPr/>
          </p:nvSpPr>
          <p:spPr>
            <a:xfrm rot="9676200">
              <a:off x="4995000" y="1412640"/>
              <a:ext cx="92520" cy="235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" name="Group 60"/>
          <p:cNvGrpSpPr/>
          <p:nvPr/>
        </p:nvGrpSpPr>
        <p:grpSpPr>
          <a:xfrm>
            <a:off x="7383240" y="3512520"/>
            <a:ext cx="353160" cy="276840"/>
            <a:chOff x="7383240" y="3512520"/>
            <a:chExt cx="353160" cy="276840"/>
          </a:xfrm>
        </p:grpSpPr>
        <p:sp>
          <p:nvSpPr>
            <p:cNvPr id="27" name="AutoShape 61"/>
            <p:cNvSpPr/>
            <p:nvPr/>
          </p:nvSpPr>
          <p:spPr>
            <a:xfrm rot="2689800">
              <a:off x="7573680" y="3552840"/>
              <a:ext cx="93240" cy="235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AutoShape 62"/>
            <p:cNvSpPr/>
            <p:nvPr/>
          </p:nvSpPr>
          <p:spPr>
            <a:xfrm rot="8202000">
              <a:off x="7450920" y="3553920"/>
              <a:ext cx="93240" cy="235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AutoShape 63"/>
            <p:cNvSpPr/>
            <p:nvPr/>
          </p:nvSpPr>
          <p:spPr>
            <a:xfrm rot="9676200">
              <a:off x="7514280" y="3520800"/>
              <a:ext cx="92520" cy="235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" name="Group 64"/>
          <p:cNvGrpSpPr/>
          <p:nvPr/>
        </p:nvGrpSpPr>
        <p:grpSpPr>
          <a:xfrm>
            <a:off x="7240320" y="3636360"/>
            <a:ext cx="353160" cy="276840"/>
            <a:chOff x="7240320" y="3636360"/>
            <a:chExt cx="353160" cy="276840"/>
          </a:xfrm>
        </p:grpSpPr>
        <p:sp>
          <p:nvSpPr>
            <p:cNvPr id="31" name="AutoShape 65"/>
            <p:cNvSpPr/>
            <p:nvPr/>
          </p:nvSpPr>
          <p:spPr>
            <a:xfrm rot="2689800">
              <a:off x="7430760" y="3676680"/>
              <a:ext cx="93240" cy="235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AutoShape 66"/>
            <p:cNvSpPr/>
            <p:nvPr/>
          </p:nvSpPr>
          <p:spPr>
            <a:xfrm rot="8202000">
              <a:off x="7308000" y="3677760"/>
              <a:ext cx="93240" cy="235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AutoShape 67"/>
            <p:cNvSpPr/>
            <p:nvPr/>
          </p:nvSpPr>
          <p:spPr>
            <a:xfrm rot="9676200">
              <a:off x="7371360" y="3644640"/>
              <a:ext cx="92520" cy="235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8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Oval 75"/>
          <p:cNvSpPr/>
          <p:nvPr/>
        </p:nvSpPr>
        <p:spPr>
          <a:xfrm rot="892800">
            <a:off x="2984400" y="782640"/>
            <a:ext cx="5472360" cy="3600360"/>
          </a:xfrm>
          <a:prstGeom prst="ellipse">
            <a:avLst/>
          </a:prstGeom>
          <a:solidFill>
            <a:srgbClr val="008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53"/>
          <p:cNvGrpSpPr/>
          <p:nvPr/>
        </p:nvGrpSpPr>
        <p:grpSpPr>
          <a:xfrm>
            <a:off x="2627280" y="5877000"/>
            <a:ext cx="516600" cy="656280"/>
            <a:chOff x="2627280" y="5877000"/>
            <a:chExt cx="516600" cy="656280"/>
          </a:xfrm>
        </p:grpSpPr>
        <p:sp>
          <p:nvSpPr>
            <p:cNvPr id="72" name="Oval 31"/>
            <p:cNvSpPr/>
            <p:nvPr/>
          </p:nvSpPr>
          <p:spPr>
            <a:xfrm>
              <a:off x="2627280" y="5877000"/>
              <a:ext cx="275040" cy="258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32"/>
            <p:cNvSpPr/>
            <p:nvPr/>
          </p:nvSpPr>
          <p:spPr>
            <a:xfrm rot="4314000">
              <a:off x="2768760" y="6084720"/>
              <a:ext cx="130320" cy="32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100" y="1184"/>
                    <a:pt x="6600" y="5080"/>
                    <a:pt x="6600" y="10800"/>
                  </a:cubicBezTo>
                  <a:cubicBezTo>
                    <a:pt x="6600" y="16520"/>
                    <a:pt x="14100" y="2041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46"/>
            <p:cNvSpPr/>
            <p:nvPr/>
          </p:nvSpPr>
          <p:spPr>
            <a:xfrm rot="15306000">
              <a:off x="2974680" y="6239880"/>
              <a:ext cx="128520" cy="182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100" y="1184"/>
                    <a:pt x="6600" y="5080"/>
                    <a:pt x="6600" y="10800"/>
                  </a:cubicBezTo>
                  <a:cubicBezTo>
                    <a:pt x="6600" y="16520"/>
                    <a:pt x="14100" y="2041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utoShape 48"/>
            <p:cNvSpPr/>
            <p:nvPr/>
          </p:nvSpPr>
          <p:spPr>
            <a:xfrm rot="11612400">
              <a:off x="2765160" y="6310080"/>
              <a:ext cx="90720" cy="215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215" y="1584"/>
                    <a:pt x="8830" y="5080"/>
                    <a:pt x="8830" y="10800"/>
                  </a:cubicBezTo>
                  <a:cubicBezTo>
                    <a:pt x="8830" y="16520"/>
                    <a:pt x="15215" y="2001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52"/>
          <p:cNvGrpSpPr/>
          <p:nvPr/>
        </p:nvGrpSpPr>
        <p:grpSpPr>
          <a:xfrm>
            <a:off x="3059280" y="5727240"/>
            <a:ext cx="366840" cy="366840"/>
            <a:chOff x="3059280" y="5727240"/>
            <a:chExt cx="366840" cy="366840"/>
          </a:xfrm>
        </p:grpSpPr>
        <p:sp>
          <p:nvSpPr>
            <p:cNvPr id="77" name="AutoShape 50"/>
            <p:cNvSpPr/>
            <p:nvPr/>
          </p:nvSpPr>
          <p:spPr>
            <a:xfrm rot="11612400">
              <a:off x="3150360" y="5734080"/>
              <a:ext cx="89640" cy="267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215" y="1584"/>
                    <a:pt x="8830" y="5080"/>
                    <a:pt x="8830" y="10800"/>
                  </a:cubicBezTo>
                  <a:cubicBezTo>
                    <a:pt x="8830" y="16520"/>
                    <a:pt x="15215" y="2001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51"/>
            <p:cNvSpPr/>
            <p:nvPr/>
          </p:nvSpPr>
          <p:spPr>
            <a:xfrm rot="4132200">
              <a:off x="3240000" y="5824440"/>
              <a:ext cx="89280" cy="268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215" y="1584"/>
                    <a:pt x="8830" y="5080"/>
                    <a:pt x="8830" y="10800"/>
                  </a:cubicBezTo>
                  <a:cubicBezTo>
                    <a:pt x="8830" y="16520"/>
                    <a:pt x="15215" y="2001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49"/>
            <p:cNvSpPr/>
            <p:nvPr/>
          </p:nvSpPr>
          <p:spPr>
            <a:xfrm>
              <a:off x="3059280" y="5914080"/>
              <a:ext cx="181440" cy="1800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Oval 21"/>
          <p:cNvSpPr/>
          <p:nvPr/>
        </p:nvSpPr>
        <p:spPr>
          <a:xfrm rot="481800">
            <a:off x="1522440" y="772920"/>
            <a:ext cx="43164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2"/>
          <p:cNvSpPr/>
          <p:nvPr/>
        </p:nvSpPr>
        <p:spPr>
          <a:xfrm rot="16529400">
            <a:off x="1523880" y="804600"/>
            <a:ext cx="360360" cy="86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919" y="1478"/>
                  <a:pt x="8238" y="5080"/>
                  <a:pt x="8238" y="10800"/>
                </a:cubicBezTo>
                <a:cubicBezTo>
                  <a:pt x="8238" y="16520"/>
                  <a:pt x="14919" y="2012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3"/>
          <p:cNvSpPr/>
          <p:nvPr/>
        </p:nvSpPr>
        <p:spPr>
          <a:xfrm rot="20326200">
            <a:off x="1727280" y="1292040"/>
            <a:ext cx="141120" cy="57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24"/>
          <p:cNvSpPr/>
          <p:nvPr/>
        </p:nvSpPr>
        <p:spPr>
          <a:xfrm rot="10969800">
            <a:off x="1584000" y="1271160"/>
            <a:ext cx="14112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rc 35"/>
          <p:cNvSpPr/>
          <p:nvPr/>
        </p:nvSpPr>
        <p:spPr>
          <a:xfrm rot="410400">
            <a:off x="1406520" y="344160"/>
            <a:ext cx="774720" cy="860400"/>
          </a:xfrm>
          <a:custGeom>
            <a:avLst/>
            <a:gdLst>
              <a:gd name="textAreaLeft" fmla="*/ 0 w 774720"/>
              <a:gd name="textAreaRight" fmla="*/ 775080 w 774720"/>
              <a:gd name="textAreaTop" fmla="*/ 0 h 860400"/>
              <a:gd name="textAreaBottom" fmla="*/ 860760 h 860400"/>
            </a:gdLst>
            <a:ahLst/>
            <a:rect l="textAreaLeft" t="textAreaTop" r="textAreaRight" b="textAreaBottom"/>
            <a:pathLst>
              <a:path fill="none" w="43146" h="22297">
                <a:moveTo>
                  <a:pt x="11" y="22296"/>
                </a:moveTo>
                <a:cubicBezTo>
                  <a:pt x="3" y="22064"/>
                  <a:pt x="0" y="2183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2937" y="-1"/>
                  <a:pt x="42345" y="8765"/>
                  <a:pt x="43146" y="20073"/>
                </a:cubicBezTo>
              </a:path>
              <a:path stroke="0" w="43146" h="22297">
                <a:moveTo>
                  <a:pt x="11" y="22296"/>
                </a:moveTo>
                <a:cubicBezTo>
                  <a:pt x="3" y="22064"/>
                  <a:pt x="0" y="2183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2937" y="-1"/>
                  <a:pt x="42345" y="8765"/>
                  <a:pt x="43146" y="20073"/>
                </a:cubicBezTo>
                <a:lnTo>
                  <a:pt x="216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rc 54"/>
          <p:cNvSpPr/>
          <p:nvPr/>
        </p:nvSpPr>
        <p:spPr>
          <a:xfrm rot="12301800">
            <a:off x="1191600" y="928440"/>
            <a:ext cx="796680" cy="1039680"/>
          </a:xfrm>
          <a:custGeom>
            <a:avLst/>
            <a:gdLst>
              <a:gd name="textAreaLeft" fmla="*/ 0 w 796680"/>
              <a:gd name="textAreaRight" fmla="*/ 797040 w 796680"/>
              <a:gd name="textAreaTop" fmla="*/ 0 h 1039680"/>
              <a:gd name="textAreaBottom" fmla="*/ 1040040 h 1039680"/>
            </a:gdLst>
            <a:ahLst/>
            <a:rect l="textAreaLeft" t="textAreaTop" r="textAreaRight" b="textAreaBottom"/>
            <a:pathLst>
              <a:path fill="none" w="43200" h="33004">
                <a:moveTo>
                  <a:pt x="3255" y="-32532"/>
                </a:moveTo>
                <a:cubicBezTo>
                  <a:pt x="1127" y="29580"/>
                  <a:pt x="0" y="2563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020"/>
                  <a:pt x="-22349" y="22441"/>
                  <a:pt x="-22373" y="22861"/>
                </a:cubicBezTo>
              </a:path>
              <a:path stroke="0" w="43200" h="33004">
                <a:moveTo>
                  <a:pt x="3255" y="-32532"/>
                </a:moveTo>
                <a:cubicBezTo>
                  <a:pt x="1127" y="29580"/>
                  <a:pt x="0" y="2563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020"/>
                  <a:pt x="-22349" y="22441"/>
                  <a:pt x="-22373" y="22861"/>
                </a:cubicBezTo>
                <a:lnTo>
                  <a:pt x="21600" y="21600"/>
                </a:lnTo>
                <a:close/>
              </a:path>
            </a:pathLst>
          </a:custGeom>
          <a:noFill/>
          <a:ln w="3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rc 56"/>
          <p:cNvSpPr/>
          <p:nvPr/>
        </p:nvSpPr>
        <p:spPr>
          <a:xfrm rot="19797600">
            <a:off x="1255680" y="334440"/>
            <a:ext cx="730440" cy="1060560"/>
          </a:xfrm>
          <a:custGeom>
            <a:avLst/>
            <a:gdLst>
              <a:gd name="textAreaLeft" fmla="*/ 0 w 730440"/>
              <a:gd name="textAreaRight" fmla="*/ 730800 w 730440"/>
              <a:gd name="textAreaTop" fmla="*/ 0 h 1060560"/>
              <a:gd name="textAreaBottom" fmla="*/ 1060920 h 1060560"/>
            </a:gdLst>
            <a:ahLst/>
            <a:rect l="textAreaLeft" t="textAreaTop" r="textAreaRight" b="textAreaBottom"/>
            <a:pathLst>
              <a:path fill="none" w="42302" h="33344">
                <a:moveTo>
                  <a:pt x="0" y="15436"/>
                </a:moveTo>
                <a:cubicBezTo>
                  <a:pt x="2726" y="6278"/>
                  <a:pt x="11146" y="-1"/>
                  <a:pt x="20702" y="0"/>
                </a:cubicBezTo>
                <a:cubicBezTo>
                  <a:pt x="32631" y="0"/>
                  <a:pt x="42302" y="9670"/>
                  <a:pt x="42302" y="21600"/>
                </a:cubicBezTo>
                <a:cubicBezTo>
                  <a:pt x="42302" y="25767"/>
                  <a:pt x="41096" y="29846"/>
                  <a:pt x="38830" y="33344"/>
                </a:cubicBezTo>
              </a:path>
              <a:path stroke="0" w="42302" h="33344">
                <a:moveTo>
                  <a:pt x="0" y="15436"/>
                </a:moveTo>
                <a:cubicBezTo>
                  <a:pt x="2726" y="6278"/>
                  <a:pt x="11146" y="-1"/>
                  <a:pt x="20702" y="0"/>
                </a:cubicBezTo>
                <a:cubicBezTo>
                  <a:pt x="32631" y="0"/>
                  <a:pt x="42302" y="9670"/>
                  <a:pt x="42302" y="21600"/>
                </a:cubicBezTo>
                <a:cubicBezTo>
                  <a:pt x="42302" y="25767"/>
                  <a:pt x="41096" y="29846"/>
                  <a:pt x="38830" y="33344"/>
                </a:cubicBezTo>
                <a:lnTo>
                  <a:pt x="20702" y="21600"/>
                </a:lnTo>
                <a:close/>
              </a:path>
            </a:pathLst>
          </a:custGeom>
          <a:noFill/>
          <a:ln w="3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102"/>
          <p:cNvGrpSpPr/>
          <p:nvPr/>
        </p:nvGrpSpPr>
        <p:grpSpPr>
          <a:xfrm>
            <a:off x="7352280" y="5302800"/>
            <a:ext cx="1501200" cy="747360"/>
            <a:chOff x="7352280" y="5302800"/>
            <a:chExt cx="1501200" cy="747360"/>
          </a:xfrm>
        </p:grpSpPr>
        <p:sp>
          <p:nvSpPr>
            <p:cNvPr id="88" name="AutoShape 27"/>
            <p:cNvSpPr/>
            <p:nvPr/>
          </p:nvSpPr>
          <p:spPr>
            <a:xfrm rot="15863400">
              <a:off x="7940520" y="5531760"/>
              <a:ext cx="360360" cy="617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619" y="1011"/>
                    <a:pt x="5637" y="5080"/>
                    <a:pt x="5637" y="10800"/>
                  </a:cubicBezTo>
                  <a:cubicBezTo>
                    <a:pt x="5637" y="16520"/>
                    <a:pt x="13619" y="2058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100"/>
            <p:cNvGrpSpPr/>
            <p:nvPr/>
          </p:nvGrpSpPr>
          <p:grpSpPr>
            <a:xfrm>
              <a:off x="7352280" y="5302800"/>
              <a:ext cx="1501200" cy="719640"/>
              <a:chOff x="7352280" y="5302800"/>
              <a:chExt cx="1501200" cy="719640"/>
            </a:xfrm>
          </p:grpSpPr>
          <p:sp>
            <p:nvSpPr>
              <p:cNvPr id="90" name="Line 69"/>
              <p:cNvSpPr/>
              <p:nvPr/>
            </p:nvSpPr>
            <p:spPr>
              <a:xfrm flipV="1">
                <a:off x="7556760" y="5535720"/>
                <a:ext cx="1090080" cy="25164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" name="Group 99"/>
              <p:cNvGrpSpPr/>
              <p:nvPr/>
            </p:nvGrpSpPr>
            <p:grpSpPr>
              <a:xfrm>
                <a:off x="7352280" y="5302800"/>
                <a:ext cx="1501200" cy="719640"/>
                <a:chOff x="7352280" y="5302800"/>
                <a:chExt cx="1501200" cy="719640"/>
              </a:xfrm>
            </p:grpSpPr>
            <p:sp>
              <p:nvSpPr>
                <p:cNvPr id="92" name="Oval 72"/>
                <p:cNvSpPr/>
                <p:nvPr/>
              </p:nvSpPr>
              <p:spPr>
                <a:xfrm rot="21263400">
                  <a:off x="7372440" y="5571720"/>
                  <a:ext cx="369720" cy="433440"/>
                </a:xfrm>
                <a:prstGeom prst="ellipse">
                  <a:avLst/>
                </a:prstGeom>
                <a:solidFill>
                  <a:srgbClr val="99cc00"/>
                </a:solidFill>
                <a:ln w="0">
                  <a:noFill/>
                </a:ln>
                <a:effectLst>
                  <a:outerShdw dist="17819" dir="2700000" blurRad="0" rotWithShape="0">
                    <a:srgbClr val="5c7a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Oval 73"/>
                <p:cNvSpPr/>
                <p:nvPr/>
              </p:nvSpPr>
              <p:spPr>
                <a:xfrm rot="21263400">
                  <a:off x="7495920" y="5679720"/>
                  <a:ext cx="123840" cy="216000"/>
                </a:xfrm>
                <a:prstGeom prst="ellipse">
                  <a:avLst/>
                </a:prstGeom>
                <a:solidFill>
                  <a:srgbClr val="339966"/>
                </a:solidFill>
                <a:ln w="0">
                  <a:noFill/>
                </a:ln>
                <a:effectLst>
                  <a:outerShdw dist="17819" dir="2700000" blurRad="0" rotWithShape="0">
                    <a:srgbClr val="1f5c3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Oval 70"/>
                <p:cNvSpPr/>
                <p:nvPr/>
              </p:nvSpPr>
              <p:spPr>
                <a:xfrm rot="21263400">
                  <a:off x="8462880" y="5319360"/>
                  <a:ext cx="370080" cy="433440"/>
                </a:xfrm>
                <a:prstGeom prst="ellipse">
                  <a:avLst/>
                </a:prstGeom>
                <a:solidFill>
                  <a:srgbClr val="99cc00"/>
                </a:solidFill>
                <a:ln w="0">
                  <a:noFill/>
                </a:ln>
                <a:effectLst>
                  <a:outerShdw dist="17819" dir="2700000" blurRad="0" rotWithShape="0">
                    <a:srgbClr val="5c7a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Oval 71"/>
                <p:cNvSpPr/>
                <p:nvPr/>
              </p:nvSpPr>
              <p:spPr>
                <a:xfrm rot="21263400">
                  <a:off x="8586360" y="5427360"/>
                  <a:ext cx="123840" cy="216000"/>
                </a:xfrm>
                <a:prstGeom prst="ellipse">
                  <a:avLst/>
                </a:prstGeom>
                <a:solidFill>
                  <a:srgbClr val="339966"/>
                </a:solidFill>
                <a:ln w="0">
                  <a:noFill/>
                </a:ln>
                <a:effectLst>
                  <a:outerShdw dist="17819" dir="2700000" blurRad="0" rotWithShape="0">
                    <a:srgbClr val="1f5c3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6" name="AutoShape 77"/>
          <p:cNvSpPr/>
          <p:nvPr/>
        </p:nvSpPr>
        <p:spPr>
          <a:xfrm rot="898200">
            <a:off x="2303640" y="333360"/>
            <a:ext cx="6840360" cy="4491000"/>
          </a:xfrm>
          <a:custGeom>
            <a:avLst/>
            <a:gdLst>
              <a:gd name="textAreaLeft" fmla="*/ 1001520 w 6840360"/>
              <a:gd name="textAreaRight" fmla="*/ 5838840 w 6840360"/>
              <a:gd name="textAreaTop" fmla="*/ 657360 h 4491000"/>
              <a:gd name="textAreaBottom" fmla="*/ 3833640 h 4491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208" y="10800"/>
                </a:moveTo>
                <a:cubicBezTo>
                  <a:pt x="2208" y="15545"/>
                  <a:pt x="6055" y="19392"/>
                  <a:pt x="10800" y="19392"/>
                </a:cubicBezTo>
                <a:cubicBezTo>
                  <a:pt x="15545" y="19392"/>
                  <a:pt x="19392" y="15545"/>
                  <a:pt x="19392" y="10800"/>
                </a:cubicBezTo>
                <a:cubicBezTo>
                  <a:pt x="19392" y="6055"/>
                  <a:pt x="15545" y="2208"/>
                  <a:pt x="10800" y="2208"/>
                </a:cubicBezTo>
                <a:cubicBezTo>
                  <a:pt x="6055" y="2208"/>
                  <a:pt x="2208" y="6055"/>
                  <a:pt x="2208" y="10800"/>
                </a:cubicBezTo>
                <a:close/>
              </a:path>
            </a:pathLst>
          </a:cu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82"/>
          <p:cNvGrpSpPr/>
          <p:nvPr/>
        </p:nvGrpSpPr>
        <p:grpSpPr>
          <a:xfrm>
            <a:off x="4143240" y="1332720"/>
            <a:ext cx="353160" cy="276840"/>
            <a:chOff x="4143240" y="1332720"/>
            <a:chExt cx="353160" cy="276840"/>
          </a:xfrm>
        </p:grpSpPr>
        <p:sp>
          <p:nvSpPr>
            <p:cNvPr id="98" name="AutoShape 79"/>
            <p:cNvSpPr/>
            <p:nvPr/>
          </p:nvSpPr>
          <p:spPr>
            <a:xfrm rot="2689800">
              <a:off x="4333680" y="1373040"/>
              <a:ext cx="93240" cy="235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80"/>
            <p:cNvSpPr/>
            <p:nvPr/>
          </p:nvSpPr>
          <p:spPr>
            <a:xfrm rot="8202000">
              <a:off x="4210920" y="1374120"/>
              <a:ext cx="93240" cy="235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81"/>
            <p:cNvSpPr/>
            <p:nvPr/>
          </p:nvSpPr>
          <p:spPr>
            <a:xfrm rot="9676200">
              <a:off x="4274280" y="1341000"/>
              <a:ext cx="92520" cy="235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83"/>
          <p:cNvGrpSpPr/>
          <p:nvPr/>
        </p:nvGrpSpPr>
        <p:grpSpPr>
          <a:xfrm>
            <a:off x="4432320" y="1548720"/>
            <a:ext cx="352800" cy="276840"/>
            <a:chOff x="4432320" y="1548720"/>
            <a:chExt cx="352800" cy="276840"/>
          </a:xfrm>
        </p:grpSpPr>
        <p:sp>
          <p:nvSpPr>
            <p:cNvPr id="102" name="AutoShape 84"/>
            <p:cNvSpPr/>
            <p:nvPr/>
          </p:nvSpPr>
          <p:spPr>
            <a:xfrm rot="2689800">
              <a:off x="4622400" y="1589040"/>
              <a:ext cx="93240" cy="235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85"/>
            <p:cNvSpPr/>
            <p:nvPr/>
          </p:nvSpPr>
          <p:spPr>
            <a:xfrm rot="8202000">
              <a:off x="4500000" y="1590120"/>
              <a:ext cx="93240" cy="235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86"/>
            <p:cNvSpPr/>
            <p:nvPr/>
          </p:nvSpPr>
          <p:spPr>
            <a:xfrm rot="9676200">
              <a:off x="4563720" y="1557000"/>
              <a:ext cx="92160" cy="235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87"/>
          <p:cNvGrpSpPr/>
          <p:nvPr/>
        </p:nvGrpSpPr>
        <p:grpSpPr>
          <a:xfrm>
            <a:off x="4863960" y="1404360"/>
            <a:ext cx="353160" cy="276840"/>
            <a:chOff x="4863960" y="1404360"/>
            <a:chExt cx="353160" cy="276840"/>
          </a:xfrm>
        </p:grpSpPr>
        <p:sp>
          <p:nvSpPr>
            <p:cNvPr id="106" name="AutoShape 88"/>
            <p:cNvSpPr/>
            <p:nvPr/>
          </p:nvSpPr>
          <p:spPr>
            <a:xfrm rot="2689800">
              <a:off x="5054400" y="1444680"/>
              <a:ext cx="93240" cy="235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89"/>
            <p:cNvSpPr/>
            <p:nvPr/>
          </p:nvSpPr>
          <p:spPr>
            <a:xfrm rot="8202000">
              <a:off x="4931640" y="1445760"/>
              <a:ext cx="93240" cy="235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90"/>
            <p:cNvSpPr/>
            <p:nvPr/>
          </p:nvSpPr>
          <p:spPr>
            <a:xfrm rot="9676200">
              <a:off x="4995000" y="1412640"/>
              <a:ext cx="92520" cy="235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91"/>
          <p:cNvGrpSpPr/>
          <p:nvPr/>
        </p:nvGrpSpPr>
        <p:grpSpPr>
          <a:xfrm>
            <a:off x="7383240" y="3512520"/>
            <a:ext cx="353160" cy="276840"/>
            <a:chOff x="7383240" y="3512520"/>
            <a:chExt cx="353160" cy="276840"/>
          </a:xfrm>
        </p:grpSpPr>
        <p:sp>
          <p:nvSpPr>
            <p:cNvPr id="110" name="AutoShape 92"/>
            <p:cNvSpPr/>
            <p:nvPr/>
          </p:nvSpPr>
          <p:spPr>
            <a:xfrm rot="2689800">
              <a:off x="7573680" y="3552840"/>
              <a:ext cx="93240" cy="235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93"/>
            <p:cNvSpPr/>
            <p:nvPr/>
          </p:nvSpPr>
          <p:spPr>
            <a:xfrm rot="8202000">
              <a:off x="7450920" y="3553920"/>
              <a:ext cx="93240" cy="235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94"/>
            <p:cNvSpPr/>
            <p:nvPr/>
          </p:nvSpPr>
          <p:spPr>
            <a:xfrm rot="9676200">
              <a:off x="7514280" y="3520800"/>
              <a:ext cx="92520" cy="235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95"/>
          <p:cNvGrpSpPr/>
          <p:nvPr/>
        </p:nvGrpSpPr>
        <p:grpSpPr>
          <a:xfrm>
            <a:off x="7240320" y="3636360"/>
            <a:ext cx="353160" cy="276840"/>
            <a:chOff x="7240320" y="3636360"/>
            <a:chExt cx="353160" cy="276840"/>
          </a:xfrm>
        </p:grpSpPr>
        <p:sp>
          <p:nvSpPr>
            <p:cNvPr id="114" name="AutoShape 96"/>
            <p:cNvSpPr/>
            <p:nvPr/>
          </p:nvSpPr>
          <p:spPr>
            <a:xfrm rot="2689800">
              <a:off x="7430760" y="3676680"/>
              <a:ext cx="93240" cy="235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97"/>
            <p:cNvSpPr/>
            <p:nvPr/>
          </p:nvSpPr>
          <p:spPr>
            <a:xfrm rot="8202000">
              <a:off x="7308000" y="3677760"/>
              <a:ext cx="93240" cy="235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98"/>
            <p:cNvSpPr/>
            <p:nvPr/>
          </p:nvSpPr>
          <p:spPr>
            <a:xfrm rot="9676200">
              <a:off x="7371360" y="3644640"/>
              <a:ext cx="92520" cy="235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101"/>
          <p:cNvGrpSpPr/>
          <p:nvPr/>
        </p:nvGrpSpPr>
        <p:grpSpPr>
          <a:xfrm>
            <a:off x="7896600" y="5429880"/>
            <a:ext cx="587160" cy="882720"/>
            <a:chOff x="7896600" y="5429880"/>
            <a:chExt cx="587160" cy="882720"/>
          </a:xfrm>
        </p:grpSpPr>
        <p:sp>
          <p:nvSpPr>
            <p:cNvPr id="118" name="Oval 26"/>
            <p:cNvSpPr/>
            <p:nvPr/>
          </p:nvSpPr>
          <p:spPr>
            <a:xfrm rot="21263400">
              <a:off x="7916760" y="5446440"/>
              <a:ext cx="370080" cy="431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65"/>
            <p:cNvSpPr/>
            <p:nvPr/>
          </p:nvSpPr>
          <p:spPr>
            <a:xfrm rot="17009400">
              <a:off x="8142840" y="5882400"/>
              <a:ext cx="26208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321" y="1263"/>
                    <a:pt x="7041" y="5080"/>
                    <a:pt x="7041" y="10800"/>
                  </a:cubicBezTo>
                  <a:cubicBezTo>
                    <a:pt x="7041" y="16520"/>
                    <a:pt x="14321" y="20337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66"/>
            <p:cNvSpPr/>
            <p:nvPr/>
          </p:nvSpPr>
          <p:spPr>
            <a:xfrm rot="21263400">
              <a:off x="8094240" y="6090840"/>
              <a:ext cx="123840" cy="21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107"/>
          <p:cNvGrpSpPr/>
          <p:nvPr/>
        </p:nvGrpSpPr>
        <p:grpSpPr>
          <a:xfrm>
            <a:off x="411840" y="4413240"/>
            <a:ext cx="912240" cy="1125720"/>
            <a:chOff x="411840" y="4413240"/>
            <a:chExt cx="912240" cy="1125720"/>
          </a:xfrm>
        </p:grpSpPr>
        <p:grpSp>
          <p:nvGrpSpPr>
            <p:cNvPr id="122" name="Group 19"/>
            <p:cNvGrpSpPr/>
            <p:nvPr/>
          </p:nvGrpSpPr>
          <p:grpSpPr>
            <a:xfrm>
              <a:off x="411840" y="4413240"/>
              <a:ext cx="912240" cy="919080"/>
              <a:chOff x="411840" y="4413240"/>
              <a:chExt cx="912240" cy="919080"/>
            </a:xfrm>
          </p:grpSpPr>
          <p:sp>
            <p:nvSpPr>
              <p:cNvPr id="123" name="Oval 9"/>
              <p:cNvSpPr/>
              <p:nvPr/>
            </p:nvSpPr>
            <p:spPr>
              <a:xfrm>
                <a:off x="517680" y="4413240"/>
                <a:ext cx="400320" cy="389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AutoShape 15"/>
              <p:cNvSpPr/>
              <p:nvPr/>
            </p:nvSpPr>
            <p:spPr>
              <a:xfrm rot="14742000">
                <a:off x="681840" y="4376520"/>
                <a:ext cx="324000" cy="802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919" y="1478"/>
                      <a:pt x="8238" y="5080"/>
                      <a:pt x="8238" y="10800"/>
                    </a:cubicBezTo>
                    <a:cubicBezTo>
                      <a:pt x="8238" y="16520"/>
                      <a:pt x="14919" y="2012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AutoShape 17"/>
              <p:cNvSpPr/>
              <p:nvPr/>
            </p:nvSpPr>
            <p:spPr>
              <a:xfrm rot="16568400">
                <a:off x="985680" y="4670280"/>
                <a:ext cx="131040" cy="534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8"/>
              <p:cNvSpPr/>
              <p:nvPr/>
            </p:nvSpPr>
            <p:spPr>
              <a:xfrm rot="10546200">
                <a:off x="851760" y="4807080"/>
                <a:ext cx="130680" cy="520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Arc 104"/>
            <p:cNvSpPr/>
            <p:nvPr/>
          </p:nvSpPr>
          <p:spPr>
            <a:xfrm rot="9844800">
              <a:off x="539640" y="5076000"/>
              <a:ext cx="239400" cy="4384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fill="none" w="19252" h="21600">
                  <a:moveTo>
                    <a:pt x="-1" y="0"/>
                  </a:moveTo>
                  <a:cubicBezTo>
                    <a:pt x="8127" y="0"/>
                    <a:pt x="15567" y="4562"/>
                    <a:pt x="19252" y="11806"/>
                  </a:cubicBezTo>
                </a:path>
                <a:path stroke="0" w="19252" h="21600">
                  <a:moveTo>
                    <a:pt x="-1" y="0"/>
                  </a:moveTo>
                  <a:cubicBezTo>
                    <a:pt x="8127" y="0"/>
                    <a:pt x="15567" y="4562"/>
                    <a:pt x="19252" y="11806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rc 106"/>
            <p:cNvSpPr/>
            <p:nvPr/>
          </p:nvSpPr>
          <p:spPr>
            <a:xfrm rot="9844800">
              <a:off x="734040" y="5168880"/>
              <a:ext cx="236160" cy="2746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fill="none" w="19252" h="20142">
                  <a:moveTo>
                    <a:pt x="7801" y="0"/>
                  </a:moveTo>
                  <a:cubicBezTo>
                    <a:pt x="12762" y="1921"/>
                    <a:pt x="16840" y="5606"/>
                    <a:pt x="19252" y="10348"/>
                  </a:cubicBezTo>
                </a:path>
                <a:path stroke="0" w="19252" h="20142">
                  <a:moveTo>
                    <a:pt x="7801" y="0"/>
                  </a:moveTo>
                  <a:cubicBezTo>
                    <a:pt x="12762" y="1921"/>
                    <a:pt x="16840" y="5606"/>
                    <a:pt x="19252" y="10348"/>
                  </a:cubicBezTo>
                  <a:lnTo>
                    <a:pt x="0" y="2014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71ED-6E29-4502-B929-4AFFF7B861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life.edu.tw/" TargetMode="External"/><Relationship Id="rId2" Type="http://schemas.openxmlformats.org/officeDocument/2006/relationships/hyperlink" Target="http://life.edu.tw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8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30320" y="1652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66"/>
                </a:solidFill>
                <a:latin typeface="標楷體"/>
                <a:ea typeface="標楷體"/>
              </a:rPr>
              <a:t>東信國小</a:t>
            </a:r>
            <a:r>
              <a:rPr b="1" lang="en-US" sz="4800" spc="-1" strike="noStrike">
                <a:solidFill>
                  <a:srgbClr val="ff0066"/>
                </a:solidFill>
                <a:latin typeface="標楷體"/>
                <a:ea typeface="標楷體"/>
              </a:rPr>
              <a:t>101</a:t>
            </a:r>
            <a:r>
              <a:rPr b="1" lang="zh-TW" sz="4800" spc="-1" strike="noStrike">
                <a:solidFill>
                  <a:srgbClr val="ff0066"/>
                </a:solidFill>
                <a:latin typeface="標楷體"/>
                <a:ea typeface="標楷體"/>
              </a:rPr>
              <a:t>學年度四年級</a:t>
            </a:r>
            <a:endParaRPr b="0" lang="en-US" sz="4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6320" y="297036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66"/>
                </a:solidFill>
                <a:latin typeface="標楷體"/>
                <a:ea typeface="標楷體"/>
              </a:rPr>
              <a:t>課程計畫簡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1a"/>
          <p:cNvPicPr/>
          <p:nvPr/>
        </p:nvPicPr>
        <p:blipFill>
          <a:blip r:embed="rId1"/>
          <a:stretch/>
        </p:blipFill>
        <p:spPr>
          <a:xfrm>
            <a:off x="3238560" y="4241880"/>
            <a:ext cx="1971720" cy="2152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1b"/>
          <p:cNvPicPr/>
          <p:nvPr/>
        </p:nvPicPr>
        <p:blipFill>
          <a:blip r:embed="rId2"/>
          <a:stretch/>
        </p:blipFill>
        <p:spPr>
          <a:xfrm>
            <a:off x="5146560" y="4070520"/>
            <a:ext cx="224784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8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標楷體"/>
                <a:ea typeface="標楷體"/>
              </a:rPr>
              <a:t>『東信閱讀通』設計課程計畫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2120" y="1029960"/>
            <a:ext cx="868680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壹、課程設計與實施：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四年級全體老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貳、設計理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本學年學校本位閱讀課程之設計，是以融入九年一貫課程七大相關領域，並與多元智慧、重大議題及十大基本能力相結合，同時適當融入海洋教育，以期勉本學年之學生，再接受完此閱讀課程之後，不但能增進語文閱讀方面之能力，更能藉由主題統整學習之方式，了解其他相關領域之知識與能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8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457200" y="1600200"/>
            <a:ext cx="8228880" cy="4524840"/>
            <a:chOff x="457200" y="1600200"/>
            <a:chExt cx="8228880" cy="4524840"/>
          </a:xfrm>
        </p:grpSpPr>
        <p:cxnSp>
          <p:nvCxnSpPr>
            <p:cNvPr id="260" name="_s46085"/>
            <p:cNvCxnSpPr>
              <a:stCxn id="261" idx="0"/>
              <a:endCxn id="262" idx="2"/>
            </p:cNvCxnSpPr>
            <p:nvPr/>
          </p:nvCxnSpPr>
          <p:spPr>
            <a:xfrm flipV="1">
              <a:off x="7772040" y="4427640"/>
              <a:ext cx="2880" cy="566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3" name="_s46086"/>
            <p:cNvCxnSpPr>
              <a:stCxn id="264" idx="0"/>
              <a:endCxn id="265" idx="2"/>
            </p:cNvCxnSpPr>
            <p:nvPr/>
          </p:nvCxnSpPr>
          <p:spPr>
            <a:xfrm flipV="1">
              <a:off x="5638680" y="4427640"/>
              <a:ext cx="2880" cy="566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6" name="_s46087"/>
            <p:cNvCxnSpPr>
              <a:stCxn id="267" idx="0"/>
              <a:endCxn id="268" idx="2"/>
            </p:cNvCxnSpPr>
            <p:nvPr/>
          </p:nvCxnSpPr>
          <p:spPr>
            <a:xfrm flipV="1">
              <a:off x="3507120" y="4427640"/>
              <a:ext cx="2520" cy="566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9" name="_s46088"/>
            <p:cNvCxnSpPr>
              <a:stCxn id="270" idx="0"/>
              <a:endCxn id="271" idx="2"/>
            </p:cNvCxnSpPr>
            <p:nvPr/>
          </p:nvCxnSpPr>
          <p:spPr>
            <a:xfrm flipV="1">
              <a:off x="1371240" y="4427640"/>
              <a:ext cx="2880" cy="566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2" name="_s46089"/>
            <p:cNvCxnSpPr>
              <a:stCxn id="262" idx="0"/>
              <a:endCxn id="273" idx="2"/>
            </p:cNvCxnSpPr>
            <p:nvPr/>
          </p:nvCxnSpPr>
          <p:spPr>
            <a:xfrm flipV="1" rot="16200000">
              <a:off x="5888520" y="1413360"/>
              <a:ext cx="566280" cy="3200760"/>
            </a:xfrm>
            <a:prstGeom prst="bentConnector3">
              <a:avLst>
                <a:gd name="adj1" fmla="val 225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4" name="_s46090"/>
            <p:cNvCxnSpPr>
              <a:stCxn id="265" idx="0"/>
              <a:endCxn id="273" idx="2"/>
            </p:cNvCxnSpPr>
            <p:nvPr/>
          </p:nvCxnSpPr>
          <p:spPr>
            <a:xfrm flipV="1" rot="16200000">
              <a:off x="4821840" y="2480040"/>
              <a:ext cx="566280" cy="1067040"/>
            </a:xfrm>
            <a:prstGeom prst="bentConnector3">
              <a:avLst>
                <a:gd name="adj1" fmla="val 225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5" name="_s46091"/>
            <p:cNvCxnSpPr>
              <a:stCxn id="268" idx="0"/>
              <a:endCxn id="273" idx="2"/>
            </p:cNvCxnSpPr>
            <p:nvPr/>
          </p:nvCxnSpPr>
          <p:spPr>
            <a:xfrm flipH="1" flipV="1" rot="5400000">
              <a:off x="3756600" y="2481120"/>
              <a:ext cx="566280" cy="1065240"/>
            </a:xfrm>
            <a:prstGeom prst="bentConnector3">
              <a:avLst>
                <a:gd name="adj1" fmla="val 225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6" name="_s46092"/>
            <p:cNvCxnSpPr>
              <a:stCxn id="271" idx="0"/>
              <a:endCxn id="273" idx="2"/>
            </p:cNvCxnSpPr>
            <p:nvPr/>
          </p:nvCxnSpPr>
          <p:spPr>
            <a:xfrm flipH="1" flipV="1" rot="5400000">
              <a:off x="2688480" y="1413360"/>
              <a:ext cx="566280" cy="3201120"/>
            </a:xfrm>
            <a:prstGeom prst="bentConnector3">
              <a:avLst>
                <a:gd name="adj1" fmla="val 225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3" name="_s46093"/>
            <p:cNvSpPr/>
            <p:nvPr/>
          </p:nvSpPr>
          <p:spPr>
            <a:xfrm>
              <a:off x="3657600" y="1600200"/>
              <a:ext cx="1828440" cy="1131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</a:rPr>
                <a:t>東信閱讀通</a:t>
              </a:r>
              <a:r>
                <a:rPr b="0" lang="zh-TW" sz="15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_s46094"/>
            <p:cNvSpPr/>
            <p:nvPr/>
          </p:nvSpPr>
          <p:spPr>
            <a:xfrm>
              <a:off x="457200" y="3296880"/>
              <a:ext cx="1828440" cy="11311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</a:rPr>
                <a:t>爸爸</a:t>
              </a:r>
              <a:r>
                <a:rPr b="0" lang="en-US" sz="2800" spc="-1" strike="noStrike">
                  <a:solidFill>
                    <a:srgbClr val="000000"/>
                  </a:solidFill>
                  <a:latin typeface="標楷體"/>
                </a:rPr>
                <a:t>fu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Times New Roman"/>
                </a:rPr>
                <a:t>暑假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_s46095"/>
            <p:cNvSpPr/>
            <p:nvPr/>
          </p:nvSpPr>
          <p:spPr>
            <a:xfrm>
              <a:off x="2590560" y="3296880"/>
              <a:ext cx="1828440" cy="11311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Times New Roman"/>
                </a:rPr>
                <a:t>草莓心事</a:t>
              </a:r>
              <a:r>
                <a:rPr b="0" lang="zh-TW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46096"/>
            <p:cNvSpPr/>
            <p:nvPr/>
          </p:nvSpPr>
          <p:spPr>
            <a:xfrm>
              <a:off x="4724280" y="3296880"/>
              <a:ext cx="1828440" cy="113112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標楷體"/>
                  <a:ea typeface="Times New Roman"/>
                </a:rPr>
                <a:t>好一個吵架天</a:t>
              </a:r>
              <a:r>
                <a:rPr b="0" lang="zh-TW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_s46097"/>
            <p:cNvSpPr/>
            <p:nvPr/>
          </p:nvSpPr>
          <p:spPr>
            <a:xfrm>
              <a:off x="6857640" y="3296880"/>
              <a:ext cx="1828440" cy="11311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Times New Roman"/>
                </a:rPr>
                <a:t>愛心樹</a:t>
              </a:r>
              <a:r>
                <a:rPr b="0" lang="zh-TW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_s46098"/>
            <p:cNvSpPr/>
            <p:nvPr/>
          </p:nvSpPr>
          <p:spPr>
            <a:xfrm>
              <a:off x="457200" y="4993920"/>
              <a:ext cx="1828440" cy="1131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標楷體"/>
                </a:rPr>
                <a:t>生 命 教 育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46099"/>
            <p:cNvSpPr/>
            <p:nvPr/>
          </p:nvSpPr>
          <p:spPr>
            <a:xfrm>
              <a:off x="2590560" y="4993920"/>
              <a:ext cx="1828440" cy="1131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標楷體"/>
                  <a:ea typeface="Times New Roman"/>
                </a:rPr>
                <a:t>性 別 教 育</a:t>
              </a:r>
              <a:r>
                <a:rPr b="0" lang="zh-TW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46100"/>
            <p:cNvSpPr/>
            <p:nvPr/>
          </p:nvSpPr>
          <p:spPr>
            <a:xfrm>
              <a:off x="4724280" y="4993920"/>
              <a:ext cx="1828440" cy="1131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</a:rPr>
                <a:t>情 緒 教 育</a:t>
              </a:r>
              <a:r>
                <a:rPr b="0" lang="zh-TW" sz="15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46101"/>
            <p:cNvSpPr/>
            <p:nvPr/>
          </p:nvSpPr>
          <p:spPr>
            <a:xfrm>
              <a:off x="6857640" y="4993920"/>
              <a:ext cx="1828440" cy="1131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標楷體"/>
                  <a:ea typeface="Times New Roman"/>
                </a:rPr>
                <a:t>自我認同教育</a:t>
              </a:r>
              <a:r>
                <a:rPr b="0" lang="zh-TW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8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『東信閱讀通』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學習活動說明與規劃</a:t>
            </a:r>
            <a:r>
              <a:rPr b="0" lang="en-US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-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生命教育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272880" y="900000"/>
          <a:ext cx="8425080" cy="5596200"/>
        </p:xfrm>
        <a:graphic>
          <a:graphicData uri="http://schemas.openxmlformats.org/drawingml/2006/table">
            <a:tbl>
              <a:tblPr/>
              <a:tblGrid>
                <a:gridCol w="482760"/>
                <a:gridCol w="485640"/>
                <a:gridCol w="808200"/>
                <a:gridCol w="1258920"/>
                <a:gridCol w="2771640"/>
                <a:gridCol w="1459080"/>
                <a:gridCol w="1158840"/>
              </a:tblGrid>
              <a:tr h="1425600"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閱讀主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議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選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書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配合活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名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說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領域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議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評量方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170600"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生命之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生 命 教 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爸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f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暑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好書報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1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閱讀「爸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fun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暑假」並      撰寫閱讀心得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2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藉由學習單及報告，學會安排假期生活，以增進家人之間情感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3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製作小卡並心情分享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（生命教育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（性別平等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marL="101520" indent="-101520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1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寫作評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indent="-101520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2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學習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indent="-101520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3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作品發表與口頭報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8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『東信閱讀通』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學習活動說明與規劃</a:t>
            </a:r>
            <a:r>
              <a:rPr b="0" lang="en-US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-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生命教育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65040" y="824040"/>
          <a:ext cx="7962840" cy="5348160"/>
        </p:xfrm>
        <a:graphic>
          <a:graphicData uri="http://schemas.openxmlformats.org/drawingml/2006/table">
            <a:tbl>
              <a:tblPr/>
              <a:tblGrid>
                <a:gridCol w="346320"/>
                <a:gridCol w="347400"/>
                <a:gridCol w="577800"/>
                <a:gridCol w="1595520"/>
                <a:gridCol w="1549440"/>
                <a:gridCol w="1671840"/>
                <a:gridCol w="1874520"/>
              </a:tblGrid>
              <a:tr h="1175400"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閱讀主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融入議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選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書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配合活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名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活動說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融入領域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議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量方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105280">
                <a:tc rowSpan="2"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生命之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生 命 教 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爸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f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暑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付出你的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為家人做一件事，體驗家人的辛勞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綜合活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（人權法治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（家庭教育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marL="101520" indent="-101520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能真正幫忙家人並說明其過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我們都是一家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製作相框，放進全家人的照片並與大家分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藝術與人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（家庭教育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marL="101520" indent="-101520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作品發表與欣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8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『東信閱讀通』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學習活動說明與規劃</a:t>
            </a:r>
            <a:r>
              <a:rPr b="0" lang="en-US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-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生命教育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658800" y="1042920"/>
          <a:ext cx="7554960" cy="4695840"/>
        </p:xfrm>
        <a:graphic>
          <a:graphicData uri="http://schemas.openxmlformats.org/drawingml/2006/table">
            <a:tbl>
              <a:tblPr/>
              <a:tblGrid>
                <a:gridCol w="439920"/>
                <a:gridCol w="441000"/>
                <a:gridCol w="733680"/>
                <a:gridCol w="1339920"/>
                <a:gridCol w="2325600"/>
                <a:gridCol w="1366920"/>
                <a:gridCol w="907920"/>
              </a:tblGrid>
              <a:tr h="1197000"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閱讀主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議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選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書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配合活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名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說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領域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議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評量方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498840"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生命之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生 命 教 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爸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fu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暑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177840" indent="-1778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為你點一盞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上網為親友點燈祈福（</a:t>
                      </a: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標楷體"/>
                          <a:ea typeface="標楷體"/>
                          <a:hlinkClick r:id="rId1"/>
                        </a:rPr>
                        <a:t>http://</a:t>
                      </a: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標楷體"/>
                          <a:ea typeface="標楷體"/>
                          <a:hlinkClick r:id="rId2"/>
                        </a:rPr>
                        <a:t>Life.edu.tw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在網站上留言，祝福親友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資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綜合活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語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（生命教育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（資訊安全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（家庭教育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101520" indent="-101520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能實際操作電腦上網並留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8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24360" y="-360"/>
            <a:ext cx="8509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『東信閱讀通』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學習活動說明與規劃</a:t>
            </a:r>
            <a:r>
              <a:rPr b="0" lang="en-US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-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性別教育</a:t>
            </a:r>
            <a:br>
              <a:rPr sz="2800"/>
            </a:b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41280" y="641520"/>
          <a:ext cx="8310600" cy="5924520"/>
        </p:xfrm>
        <a:graphic>
          <a:graphicData uri="http://schemas.openxmlformats.org/drawingml/2006/table">
            <a:tbl>
              <a:tblPr/>
              <a:tblGrid>
                <a:gridCol w="539640"/>
                <a:gridCol w="578160"/>
                <a:gridCol w="634680"/>
                <a:gridCol w="1187640"/>
                <a:gridCol w="2446200"/>
                <a:gridCol w="1874880"/>
                <a:gridCol w="1049400"/>
              </a:tblGrid>
              <a:tr h="1175400">
                <a:tc>
                  <a:txBody>
                    <a:bodyPr lIns="11880" rIns="1188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閱讀主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880" rIns="1188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議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880" rIns="1188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選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書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880" rIns="11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配合活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名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880" rIns="11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說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880" rIns="1188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領域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議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880" rIns="1188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評量方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880" marR="118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749120">
                <a:tc>
                  <a:txBody>
                    <a:bodyPr lIns="11880" rIns="1188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他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/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她的心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880" rIns="1188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性 別 教 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880" rIns="1188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草莓心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880" rIns="11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男生女生一樣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880" rIns="11880" tIns="0" bIns="0" anchor="ctr">
                      <a:noAutofit/>
                    </a:bodyPr>
                    <a:p>
                      <a:pPr marL="343080" indent="-343080">
                        <a:lnSpc>
                          <a:spcPct val="13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   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班級討論：「當男好、當女生好、當男生女生一樣好」，讓學生體認男女生的個別差異，並學習互相尊重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880" rIns="11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（性別平等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（性侵害防治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880" rIns="11880" tIns="0" bIns="0" anchor="ctr">
                      <a:noAutofit/>
                    </a:bodyPr>
                    <a:p>
                      <a:pPr marL="101520" indent="-101520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1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發表評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indent="-101520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2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態度評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880" marR="118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8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24360" y="-360"/>
            <a:ext cx="8509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『東信閱讀通』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學習活動說明與規劃</a:t>
            </a:r>
            <a:r>
              <a:rPr b="0" lang="en-US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-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性別教育</a:t>
            </a:r>
            <a:br>
              <a:rPr sz="2800"/>
            </a:b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479520" y="749160"/>
          <a:ext cx="7642080" cy="5356440"/>
        </p:xfrm>
        <a:graphic>
          <a:graphicData uri="http://schemas.openxmlformats.org/drawingml/2006/table">
            <a:tbl>
              <a:tblPr/>
              <a:tblGrid>
                <a:gridCol w="463320"/>
                <a:gridCol w="395280"/>
                <a:gridCol w="433440"/>
                <a:gridCol w="1492200"/>
                <a:gridCol w="1801800"/>
                <a:gridCol w="1783080"/>
                <a:gridCol w="1272960"/>
              </a:tblGrid>
              <a:tr h="1175400">
                <a:tc>
                  <a:txBody>
                    <a:bodyPr lIns="11880" rIns="1188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閱讀主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880" rIns="1188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融入議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880" rIns="1188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選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書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880" rIns="11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配合活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名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880" rIns="11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活動說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880" rIns="1188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融入領域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議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880" marR="11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880" rIns="1188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量方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880" marR="118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04320">
                <a:tc rowSpan="2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他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/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她的心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性 別 教 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草莓心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興趣大不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討論數項休閒活動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統計各項活動男女人數各有多少人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從統計圖中，發現休閒運動並不限於單一性別才能參與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數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（性侵害防治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（資訊安全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101520" indent="-101520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發表評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indent="-101520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長條圖繪製評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守護小天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暗中協助關心同學，進而養成主動關懷他人的習慣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綜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活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（情緒管理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101520" indent="-101520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活動參與評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8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4072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『東信閱讀通』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學習活動說明與規劃</a:t>
            </a:r>
            <a:r>
              <a:rPr b="0" lang="en-US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-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情緒教育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14280" y="679320"/>
          <a:ext cx="7842240" cy="5504040"/>
        </p:xfrm>
        <a:graphic>
          <a:graphicData uri="http://schemas.openxmlformats.org/drawingml/2006/table">
            <a:tbl>
              <a:tblPr/>
              <a:tblGrid>
                <a:gridCol w="450720"/>
                <a:gridCol w="451080"/>
                <a:gridCol w="750960"/>
                <a:gridCol w="1663560"/>
                <a:gridCol w="2098800"/>
                <a:gridCol w="1639800"/>
                <a:gridCol w="787320"/>
              </a:tblGrid>
              <a:tr h="1175400"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閱讀主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議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選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書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配合活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名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說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領域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議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評量方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328640"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情緒你我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情緒教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好一個吵架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大家為什麼生氣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由教師帶頭導讀繪本，大致說明整本書的內容，接著讓學生自行閱讀繪本，並且將內容中各個人物生氣的原因，分別寫在自己的小卡片上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教師透過問題與討論的方式，讓學生了解書中人物相處方式的不佳。接著讓學生分別發表自己生活經驗中，與書中人物生氣吵架相類似的例子，以讓學生了解，情緒控制在我們日常生活中的重要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（情緒管理）（性侵害防治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（性別平等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讀書卡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評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發表評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8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4072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『東信閱讀通』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學習活動說明與規劃</a:t>
            </a:r>
            <a:r>
              <a:rPr b="0" lang="en-US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-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情緒教育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30200" y="1243080"/>
          <a:ext cx="8067600" cy="4554360"/>
        </p:xfrm>
        <a:graphic>
          <a:graphicData uri="http://schemas.openxmlformats.org/drawingml/2006/table">
            <a:tbl>
              <a:tblPr/>
              <a:tblGrid>
                <a:gridCol w="426960"/>
                <a:gridCol w="425520"/>
                <a:gridCol w="709560"/>
                <a:gridCol w="1220760"/>
                <a:gridCol w="2335320"/>
                <a:gridCol w="1776240"/>
                <a:gridCol w="1173240"/>
              </a:tblGrid>
              <a:tr h="1225440"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閱讀主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議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選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書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配合活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名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說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領域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議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評量方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28920"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情緒你我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情緒教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好一個吵架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情緒的滋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角色扮演─讓學生分組且每人輪流扮演書中各個角色的方式，分別演出各組自己「好一個吵架天」的短劇。透過扮演每一個角色，讓學生明白被別人發脾氣的難受，進而了解控制自己情緒的重要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藝術與人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健康與體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（情緒管理）（家庭教育）（性侵害防治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（性別平等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活動參與評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表演技巧評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8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4072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『東信閱讀通』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學習活動說明與規劃</a:t>
            </a:r>
            <a:r>
              <a:rPr b="0" lang="en-US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-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情緒教育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314280" y="679320"/>
          <a:ext cx="8101080" cy="5886720"/>
        </p:xfrm>
        <a:graphic>
          <a:graphicData uri="http://schemas.openxmlformats.org/drawingml/2006/table">
            <a:tbl>
              <a:tblPr/>
              <a:tblGrid>
                <a:gridCol w="465120"/>
                <a:gridCol w="466920"/>
                <a:gridCol w="776160"/>
                <a:gridCol w="1351080"/>
                <a:gridCol w="2533680"/>
                <a:gridCol w="1407960"/>
                <a:gridCol w="1100160"/>
              </a:tblGrid>
              <a:tr h="1217880"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閱讀主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議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選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書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配合活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名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說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領域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議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評量方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668840"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情緒你我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情緒教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 anchorCtr="1" vert="eaVert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好一個吵架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束吵架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利用《好一個吵架天》書中─「每個人生氣原因」的讀書卡片，讓學生分別寫下如何讓此生氣原因消失的行為辦法，並且請學生分別發表，讓大家知道如何結束吵架天的情況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透過問題與討論的方式，請孩子說說合理的情緒發洩管道，並說明如何向別人道歉的方法。並且請學生發表如何定出團體的制度，以避免任何人成為別人情緒發洩的對象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社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人權教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健康與體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（壓力調適）（家庭教育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（性別平等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寫作評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發表評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活動參與評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8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大綱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01720" y="1571760"/>
            <a:ext cx="4572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Arial"/>
              </a:rPr>
              <a:t>壹、學校本位課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Arial"/>
              </a:rPr>
              <a:t>貳、彈性時間規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" descr="1a"/>
          <p:cNvPicPr/>
          <p:nvPr/>
        </p:nvPicPr>
        <p:blipFill>
          <a:blip r:embed="rId1"/>
          <a:stretch/>
        </p:blipFill>
        <p:spPr>
          <a:xfrm>
            <a:off x="3238560" y="4241880"/>
            <a:ext cx="1971720" cy="2152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1b"/>
          <p:cNvPicPr/>
          <p:nvPr/>
        </p:nvPicPr>
        <p:blipFill>
          <a:blip r:embed="rId2"/>
          <a:stretch/>
        </p:blipFill>
        <p:spPr>
          <a:xfrm>
            <a:off x="5048280" y="4070520"/>
            <a:ext cx="224784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8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684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『東信閱讀通』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學習活動說明與規劃</a:t>
            </a:r>
            <a:r>
              <a:rPr b="0" lang="en-US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-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自我認同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395280" y="1585800"/>
          <a:ext cx="7547040" cy="4232520"/>
        </p:xfrm>
        <a:graphic>
          <a:graphicData uri="http://schemas.openxmlformats.org/drawingml/2006/table">
            <a:tbl>
              <a:tblPr/>
              <a:tblGrid>
                <a:gridCol w="441360"/>
                <a:gridCol w="476280"/>
                <a:gridCol w="574560"/>
                <a:gridCol w="1433520"/>
                <a:gridCol w="2147760"/>
                <a:gridCol w="1433520"/>
                <a:gridCol w="1040040"/>
              </a:tblGrid>
              <a:tr h="1175400"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閱讀主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議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選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書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配合活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名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說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領域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議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評量方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057120"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我就是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自我認同教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愛心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繪本導讀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《愛心樹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1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從書名與封面設計想到什麼？想要從書上獲得什麼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2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瞭解書的內容大要與風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建立讀本書的概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1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2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藝術與人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（家庭教育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（生命教育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（環境教育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1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發表評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2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參與評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8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684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『東信閱讀通』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學習活動說明與規劃</a:t>
            </a:r>
            <a:r>
              <a:rPr b="0" lang="en-US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-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自我認同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950760" y="1469880"/>
          <a:ext cx="7223400" cy="4953240"/>
        </p:xfrm>
        <a:graphic>
          <a:graphicData uri="http://schemas.openxmlformats.org/drawingml/2006/table">
            <a:tbl>
              <a:tblPr/>
              <a:tblGrid>
                <a:gridCol w="617760"/>
                <a:gridCol w="538200"/>
                <a:gridCol w="511200"/>
                <a:gridCol w="961920"/>
                <a:gridCol w="2265480"/>
                <a:gridCol w="1120680"/>
                <a:gridCol w="1208160"/>
              </a:tblGrid>
              <a:tr h="1357560"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閱讀主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議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選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書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配合活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名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領域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議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評量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595680"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我就是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自我認同教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愛心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故事接龍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1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先讓孩子閱讀書中的第一段落章節，或老師先講故事的開頭，請孩子們根據書的封面設計、書名與自我的想像，接龍出故事的結局。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再讓學生把故事看完，並將書中的故事與他們編的故事加以比較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152280" indent="-152280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1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 indent="-152280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2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藝術與人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 indent="-152280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3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資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 indent="-152280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（家庭教育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 indent="-152280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（生命教育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 indent="-152280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（環境教育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1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發表評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2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參與評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8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-36684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『東信閱讀通』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學習活動說明與規劃</a:t>
            </a:r>
            <a:r>
              <a:rPr b="0" lang="en-US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-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自我認同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833400" y="1281240"/>
          <a:ext cx="7608600" cy="5298840"/>
        </p:xfrm>
        <a:graphic>
          <a:graphicData uri="http://schemas.openxmlformats.org/drawingml/2006/table">
            <a:tbl>
              <a:tblPr/>
              <a:tblGrid>
                <a:gridCol w="399600"/>
                <a:gridCol w="431280"/>
                <a:gridCol w="520920"/>
                <a:gridCol w="1297800"/>
                <a:gridCol w="2833920"/>
                <a:gridCol w="1087560"/>
                <a:gridCol w="1037520"/>
              </a:tblGrid>
              <a:tr h="1315440"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閱讀主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議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選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書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配合活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名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領域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議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評量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3400"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我就是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自我認同教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愛心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討論大進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樹是上天賜給人類珍貴的禮物，它帶給人類的益處還真不少呢！樹與人類的生活是如此息息相關。在書中，愛心樹扮演的是「施」的角色，男孩扮演的是「受」的角色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1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你在日常生活中，比較像愛心樹還是男孩？為什麼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2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你喜歡這樣的自己嗎？如果不喜歡，你想要怎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改變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3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如果你是書中的愛心樹或男孩，你是否有其他更好的做法呢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1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2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綜合活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（生命教育）（環境教育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1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發表評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2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參與評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8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16040" y="49320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標楷體"/>
                <a:ea typeface="標楷體"/>
              </a:rPr>
              <a:t>學校本位特色課程</a:t>
            </a:r>
            <a:r>
              <a:rPr b="1" lang="en-US" sz="4400" spc="-1" strike="noStrike">
                <a:solidFill>
                  <a:srgbClr val="0000ff"/>
                </a:solidFill>
                <a:latin typeface="標楷體"/>
                <a:ea typeface="標楷體"/>
              </a:rPr>
              <a:t>-</a:t>
            </a:r>
            <a:br>
              <a:rPr sz="4400"/>
            </a:br>
            <a:r>
              <a:rPr b="1" lang="zh-TW" sz="4400" spc="-1" strike="noStrike">
                <a:solidFill>
                  <a:srgbClr val="0000ff"/>
                </a:solidFill>
                <a:latin typeface="標楷體"/>
                <a:ea typeface="標楷體"/>
              </a:rPr>
              <a:t>『跳躍繩奇』設計課程計畫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壹、課程設計與實施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四年級全體老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貳、設計理念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東信向來以扯鈴、跳繩的民俗體育名聞全市。當然，東信的孩子更應「人手一繩，快樂無窮」才是。況且，跳繩更是不花大錢、不限場地、不限人數就能盡其在我的娛樂。它不僅能健身又能藉多變的花樣而獲得成就感，如此快哉！何樂而不為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參、學習目標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能透過跳繩運動，有效改善體適能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認知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能利用課餘時間主動參與跳繩等運動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認知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會運用繩子做單人的跳繩動作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技能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4.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能與同伴合作，和諧的完成動作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情意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5.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認真學習並注意自身與他人的安全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情意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8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8800" y="15480"/>
            <a:ext cx="72835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TW" sz="4400" spc="-1" strike="noStrike">
                <a:solidFill>
                  <a:srgbClr val="0000ff"/>
                </a:solidFill>
                <a:latin typeface="標楷體"/>
                <a:ea typeface="標楷體"/>
              </a:rPr>
              <a:t>『跳躍繩奇』</a:t>
            </a: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設計架構圖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2" name="Rectangle 14"/>
          <p:cNvSpPr/>
          <p:nvPr/>
        </p:nvSpPr>
        <p:spPr>
          <a:xfrm>
            <a:off x="228600" y="892080"/>
            <a:ext cx="370188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0000"/>
                </a:solidFill>
                <a:latin typeface="標楷體"/>
              </a:rPr>
              <a:t>遊戲名稱：搖搖擺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</a:rPr>
              <a:t>四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</a:rPr>
              <a:t>說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</a:rPr>
              <a:t>1.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</a:rPr>
              <a:t>跳躍者站在繩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</a:rPr>
              <a:t>2.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</a:rPr>
              <a:t>持繩者將繩子左右擺盪，跳躍者原地跳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</a:rPr>
              <a:t>10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</a:rPr>
              <a:t>下，並加上跨腳停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</a:rPr>
              <a:t>3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</a:rPr>
              <a:t>三人互相輪流實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</a:rPr>
              <a:t>能力指標：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</a:rPr>
              <a:t>3-1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</a:rPr>
              <a:t>3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5"/>
          <p:cNvSpPr/>
          <p:nvPr/>
        </p:nvSpPr>
        <p:spPr>
          <a:xfrm>
            <a:off x="5351400" y="865080"/>
            <a:ext cx="361476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0000"/>
                </a:solidFill>
                <a:latin typeface="標楷體"/>
              </a:rPr>
              <a:t>遊戲名稱：跳跳唱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</a:rPr>
              <a:t>四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</a:rPr>
              <a:t>說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</a:rPr>
              <a:t>1.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</a:rPr>
              <a:t>持繩者將繩子左右擺盪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</a:rPr>
              <a:t>跳躍者能隨節奏進入繩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</a:rPr>
              <a:t>跳躍者能隨節奏跳躍，並加上跨腳停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</a:rPr>
              <a:t>三人互相輪流實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</a:rPr>
              <a:t>能力指標：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</a:rPr>
              <a:t>4--1-2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</a:rPr>
              <a:t>4-1-4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</a:rPr>
              <a:t>4-2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268200" y="4000680"/>
            <a:ext cx="366228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bf"/>
                </a:solidFill>
                <a:latin typeface="Arial"/>
              </a:rPr>
              <a:t>遊戲名稱：繩氣十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四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說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持繩者將繩子左右擺盪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跳躍者能隨節奏進入繩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持繩者將繩子搖起，跳躍者能隨節奏跳躍，並於節奏完畢出繩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三人互相輪流實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能力指標：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</a:rPr>
              <a:t>6-1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</a:rPr>
              <a:t>6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5329080" y="4000680"/>
            <a:ext cx="3624480" cy="26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bf"/>
                </a:solidFill>
                <a:latin typeface="Arial"/>
              </a:rPr>
              <a:t>遊戲名稱：時光隧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四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說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持繩者將繩子搖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跳躍者能隨節奏進入繩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跳躍者能隨節奏跳躍，並於節奏完畢出繩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三人互相輪流實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能力指標：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</a:rPr>
              <a:t>4-3-5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</a:rPr>
              <a:t>5-1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16"/>
          <p:cNvSpPr/>
          <p:nvPr/>
        </p:nvSpPr>
        <p:spPr>
          <a:xfrm>
            <a:off x="3516480" y="3425760"/>
            <a:ext cx="2079360" cy="9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跳躍繩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8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19040" y="698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0000bf"/>
                </a:solidFill>
                <a:latin typeface="標楷體"/>
                <a:ea typeface="標楷體"/>
              </a:rPr>
              <a:t>報告完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0000bf"/>
                </a:solidFill>
                <a:latin typeface="標楷體"/>
                <a:ea typeface="標楷體"/>
              </a:rPr>
              <a:t>謝謝大家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4" descr="1572"/>
          <p:cNvPicPr/>
          <p:nvPr/>
        </p:nvPicPr>
        <p:blipFill>
          <a:blip r:embed="rId1"/>
          <a:stretch/>
        </p:blipFill>
        <p:spPr>
          <a:xfrm>
            <a:off x="3328920" y="4840200"/>
            <a:ext cx="2324160" cy="10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38" dur="2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40" dur="2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8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83840" y="25848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標楷體"/>
                <a:ea typeface="標楷體"/>
              </a:rPr>
              <a:t>壹、學校本位課程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79" name="Picture 8" descr="1567"/>
          <p:cNvPicPr/>
          <p:nvPr/>
        </p:nvPicPr>
        <p:blipFill>
          <a:blip r:embed="rId1"/>
          <a:stretch/>
        </p:blipFill>
        <p:spPr>
          <a:xfrm>
            <a:off x="7053120" y="5356080"/>
            <a:ext cx="1863720" cy="1270080"/>
          </a:xfrm>
          <a:prstGeom prst="rect">
            <a:avLst/>
          </a:prstGeom>
          <a:ln w="0">
            <a:noFill/>
          </a:ln>
        </p:spPr>
      </p:pic>
      <p:grpSp>
        <p:nvGrpSpPr>
          <p:cNvPr id="180" name="Group 2"/>
          <p:cNvGrpSpPr/>
          <p:nvPr/>
        </p:nvGrpSpPr>
        <p:grpSpPr>
          <a:xfrm>
            <a:off x="1133640" y="1541520"/>
            <a:ext cx="6870600" cy="5076720"/>
            <a:chOff x="1133640" y="1541520"/>
            <a:chExt cx="6870600" cy="5076720"/>
          </a:xfrm>
        </p:grpSpPr>
        <p:sp>
          <p:nvSpPr>
            <p:cNvPr id="181" name="AutoShape 3"/>
            <p:cNvSpPr/>
            <p:nvPr/>
          </p:nvSpPr>
          <p:spPr>
            <a:xfrm>
              <a:off x="1133640" y="1541520"/>
              <a:ext cx="6870600" cy="5076720"/>
            </a:xfrm>
            <a:prstGeom prst="hexagon">
              <a:avLst>
                <a:gd name="adj" fmla="val 33834"/>
                <a:gd name="vf" fmla="val 11547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4"/>
            <p:cNvSpPr/>
            <p:nvPr/>
          </p:nvSpPr>
          <p:spPr>
            <a:xfrm>
              <a:off x="2754360" y="2624400"/>
              <a:ext cx="3519000" cy="309744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5"/>
            <p:cNvSpPr/>
            <p:nvPr/>
          </p:nvSpPr>
          <p:spPr>
            <a:xfrm>
              <a:off x="2834640" y="1541520"/>
              <a:ext cx="3493080" cy="507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6"/>
            <p:cNvSpPr/>
            <p:nvPr/>
          </p:nvSpPr>
          <p:spPr>
            <a:xfrm flipV="1">
              <a:off x="2808720" y="1541520"/>
              <a:ext cx="3427920" cy="507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7"/>
            <p:cNvSpPr/>
            <p:nvPr/>
          </p:nvSpPr>
          <p:spPr>
            <a:xfrm>
              <a:off x="1133640" y="4047840"/>
              <a:ext cx="68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8"/>
            <p:cNvSpPr/>
            <p:nvPr/>
          </p:nvSpPr>
          <p:spPr>
            <a:xfrm>
              <a:off x="3647520" y="3366360"/>
              <a:ext cx="1842840" cy="154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9"/>
            <p:cNvSpPr/>
            <p:nvPr/>
          </p:nvSpPr>
          <p:spPr>
            <a:xfrm>
              <a:off x="4035960" y="3602160"/>
              <a:ext cx="1548360" cy="105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8000"/>
                  </a:solidFill>
                  <a:latin typeface="Calibri"/>
                </a:rPr>
                <a:t>東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8000"/>
                  </a:solidFill>
                  <a:latin typeface="Calibri"/>
                </a:rPr>
                <a:t>樂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4149360" y="2591640"/>
              <a:ext cx="811440" cy="7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000000"/>
                  </a:solidFill>
                  <a:latin typeface="Calibri"/>
                </a:rPr>
                <a:t>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1"/>
            <p:cNvSpPr/>
            <p:nvPr/>
          </p:nvSpPr>
          <p:spPr>
            <a:xfrm>
              <a:off x="5322600" y="3056400"/>
              <a:ext cx="772560" cy="7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000000"/>
                  </a:solidFill>
                  <a:latin typeface="Calibri"/>
                </a:rPr>
                <a:t>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2"/>
            <p:cNvSpPr/>
            <p:nvPr/>
          </p:nvSpPr>
          <p:spPr>
            <a:xfrm>
              <a:off x="5466600" y="4140000"/>
              <a:ext cx="911880" cy="7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00"/>
                  </a:solidFill>
                  <a:latin typeface="Calibri"/>
                </a:rPr>
                <a:t>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3"/>
            <p:cNvSpPr/>
            <p:nvPr/>
          </p:nvSpPr>
          <p:spPr>
            <a:xfrm>
              <a:off x="4066920" y="4914720"/>
              <a:ext cx="1080720" cy="7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ff0000"/>
                  </a:solidFill>
                  <a:latin typeface="Calibri"/>
                </a:rPr>
                <a:t>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4"/>
            <p:cNvSpPr/>
            <p:nvPr/>
          </p:nvSpPr>
          <p:spPr>
            <a:xfrm>
              <a:off x="2976480" y="4140000"/>
              <a:ext cx="850320" cy="7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000000"/>
                  </a:solidFill>
                  <a:latin typeface="Academy Engraved LET"/>
                </a:rPr>
                <a:t>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5"/>
            <p:cNvSpPr/>
            <p:nvPr/>
          </p:nvSpPr>
          <p:spPr>
            <a:xfrm>
              <a:off x="3063960" y="3113280"/>
              <a:ext cx="850320" cy="77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000000"/>
                  </a:solidFill>
                  <a:latin typeface="Academy Engraved LET"/>
                </a:rPr>
                <a:t>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6"/>
            <p:cNvSpPr/>
            <p:nvPr/>
          </p:nvSpPr>
          <p:spPr>
            <a:xfrm>
              <a:off x="4191120" y="1630800"/>
              <a:ext cx="140436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Calibri"/>
                </a:rPr>
                <a:t>快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Calibri"/>
                </a:rPr>
                <a:t>東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7"/>
            <p:cNvSpPr/>
            <p:nvPr/>
          </p:nvSpPr>
          <p:spPr>
            <a:xfrm>
              <a:off x="5993640" y="2437560"/>
              <a:ext cx="1235520" cy="11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Calibri"/>
                </a:rPr>
                <a:t>話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Calibri"/>
                </a:rPr>
                <a:t>東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8"/>
            <p:cNvSpPr/>
            <p:nvPr/>
          </p:nvSpPr>
          <p:spPr>
            <a:xfrm>
              <a:off x="6262920" y="4417560"/>
              <a:ext cx="1327680" cy="11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Calibri"/>
                </a:rPr>
                <a:t>探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Calibri"/>
                </a:rPr>
                <a:t>東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9"/>
            <p:cNvSpPr/>
            <p:nvPr/>
          </p:nvSpPr>
          <p:spPr>
            <a:xfrm>
              <a:off x="3931200" y="5778720"/>
              <a:ext cx="1346400" cy="83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0000"/>
                  </a:solidFill>
                  <a:latin typeface="Calibri"/>
                </a:rPr>
                <a:t>動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0000"/>
                  </a:solidFill>
                  <a:latin typeface="Calibri"/>
                </a:rPr>
                <a:t>東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20"/>
            <p:cNvSpPr/>
            <p:nvPr/>
          </p:nvSpPr>
          <p:spPr>
            <a:xfrm>
              <a:off x="2136600" y="2442960"/>
              <a:ext cx="1134000" cy="13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Calibri"/>
                </a:rPr>
                <a:t>深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Calibri"/>
                </a:rPr>
                <a:t>東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21"/>
            <p:cNvSpPr/>
            <p:nvPr/>
          </p:nvSpPr>
          <p:spPr>
            <a:xfrm>
              <a:off x="1937880" y="4449600"/>
              <a:ext cx="1321920" cy="11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Calibri"/>
                </a:rPr>
                <a:t>彩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Calibri"/>
                </a:rPr>
                <a:t>東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1927080" y="915840"/>
            <a:ext cx="53168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Arial"/>
              </a:rPr>
              <a:t>東信樂園橫向主題統整架構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8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群組 15"/>
          <p:cNvGrpSpPr/>
          <p:nvPr/>
        </p:nvGrpSpPr>
        <p:grpSpPr>
          <a:xfrm>
            <a:off x="326880" y="1719360"/>
            <a:ext cx="8558280" cy="4973400"/>
            <a:chOff x="326880" y="1719360"/>
            <a:chExt cx="8558280" cy="4973400"/>
          </a:xfrm>
        </p:grpSpPr>
        <p:sp>
          <p:nvSpPr>
            <p:cNvPr id="202" name="AutoShape 4"/>
            <p:cNvSpPr/>
            <p:nvPr/>
          </p:nvSpPr>
          <p:spPr>
            <a:xfrm>
              <a:off x="3353400" y="3020400"/>
              <a:ext cx="2057400" cy="1943280"/>
            </a:xfrm>
            <a:prstGeom prst="sun">
              <a:avLst>
                <a:gd name="adj" fmla="val 25000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Arial"/>
                </a:rPr>
                <a:t>動感東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5"/>
            <p:cNvSpPr/>
            <p:nvPr/>
          </p:nvSpPr>
          <p:spPr>
            <a:xfrm>
              <a:off x="3496320" y="2444040"/>
              <a:ext cx="1730520" cy="57132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標楷體"/>
                </a:rPr>
                <a:t>大家一起動一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6"/>
            <p:cNvSpPr/>
            <p:nvPr/>
          </p:nvSpPr>
          <p:spPr>
            <a:xfrm>
              <a:off x="1769040" y="4389120"/>
              <a:ext cx="1730520" cy="57132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zh-TW" sz="1600" spc="-1" strike="noStrike">
                  <a:solidFill>
                    <a:srgbClr val="000000"/>
                  </a:solidFill>
                  <a:latin typeface="Arial"/>
                </a:rPr>
                <a:t>環境細觀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7"/>
            <p:cNvSpPr/>
            <p:nvPr/>
          </p:nvSpPr>
          <p:spPr>
            <a:xfrm>
              <a:off x="5154120" y="4532040"/>
              <a:ext cx="1600200" cy="5713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Arial"/>
                </a:rPr>
                <a:t>成長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‧</a:t>
              </a:r>
              <a:r>
                <a:rPr b="0" lang="zh-TW" sz="1600" spc="-1" strike="noStrike">
                  <a:solidFill>
                    <a:srgbClr val="000000"/>
                  </a:solidFill>
                  <a:latin typeface="Arial"/>
                </a:rPr>
                <a:t>乘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Arial"/>
                </a:rPr>
                <a:t>破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8"/>
            <p:cNvSpPr/>
            <p:nvPr/>
          </p:nvSpPr>
          <p:spPr>
            <a:xfrm>
              <a:off x="7170480" y="2228400"/>
              <a:ext cx="1714680" cy="1388160"/>
            </a:xfrm>
            <a:prstGeom prst="wedgeRectCallout">
              <a:avLst>
                <a:gd name="adj1" fmla="val -149814"/>
                <a:gd name="adj2" fmla="val 16925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ff"/>
                  </a:solidFill>
                  <a:latin typeface="Arial"/>
                </a:rPr>
                <a:t>活動內容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1.</a:t>
              </a:r>
              <a:r>
                <a:rPr b="0" lang="zh-TW" sz="1400" spc="-1" strike="noStrike">
                  <a:solidFill>
                    <a:srgbClr val="0000ff"/>
                  </a:solidFill>
                  <a:latin typeface="Arial"/>
                </a:rPr>
                <a:t>與繩共舞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ff"/>
                </a:buClr>
                <a:buFont typeface="Times New Roman"/>
                <a:buChar char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.</a:t>
              </a:r>
              <a:r>
                <a:rPr b="0" lang="zh-TW" sz="1400" spc="-1" strike="noStrike">
                  <a:solidFill>
                    <a:srgbClr val="0000ff"/>
                  </a:solidFill>
                  <a:latin typeface="Arial"/>
                </a:rPr>
                <a:t>橫掃千軍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領域：健體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議題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健康促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9"/>
            <p:cNvSpPr/>
            <p:nvPr/>
          </p:nvSpPr>
          <p:spPr>
            <a:xfrm>
              <a:off x="616320" y="1867680"/>
              <a:ext cx="2627640" cy="1224000"/>
            </a:xfrm>
            <a:prstGeom prst="wedgeRectCallout">
              <a:avLst>
                <a:gd name="adj1" fmla="val 56888"/>
                <a:gd name="adj2" fmla="val 24578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ff"/>
                  </a:solidFill>
                  <a:latin typeface="Arial"/>
                </a:rPr>
                <a:t>活動內容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1.</a:t>
              </a:r>
              <a:r>
                <a:rPr b="0" lang="zh-TW" sz="1400" spc="-1" strike="noStrike">
                  <a:solidFill>
                    <a:srgbClr val="0000ff"/>
                  </a:solidFill>
                  <a:latin typeface="Arial"/>
                </a:rPr>
                <a:t>社區小志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2.</a:t>
              </a:r>
              <a:r>
                <a:rPr b="0" lang="zh-TW" sz="1400" spc="-1" strike="noStrike">
                  <a:solidFill>
                    <a:srgbClr val="0000ff"/>
                  </a:solidFill>
                  <a:latin typeface="Arial"/>
                </a:rPr>
                <a:t>校園服務隊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領域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﹕</a:t>
              </a: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綜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議題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人權法治、防災教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0"/>
            <p:cNvSpPr/>
            <p:nvPr/>
          </p:nvSpPr>
          <p:spPr>
            <a:xfrm>
              <a:off x="531360" y="5324400"/>
              <a:ext cx="1486440" cy="1244520"/>
            </a:xfrm>
            <a:prstGeom prst="wedgeRectCallout">
              <a:avLst>
                <a:gd name="adj1" fmla="val 39041"/>
                <a:gd name="adj2" fmla="val -8183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ff"/>
                  </a:solidFill>
                  <a:latin typeface="Arial"/>
                </a:rPr>
                <a:t>活動內容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ff"/>
                  </a:solidFill>
                  <a:latin typeface="Arial"/>
                </a:rPr>
                <a:t>山和海的書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領域：語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議題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海洋教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1"/>
            <p:cNvSpPr/>
            <p:nvPr/>
          </p:nvSpPr>
          <p:spPr>
            <a:xfrm>
              <a:off x="326880" y="3236400"/>
              <a:ext cx="1760760" cy="1231920"/>
            </a:xfrm>
            <a:prstGeom prst="wedgeRectCallout">
              <a:avLst>
                <a:gd name="adj1" fmla="val 36500"/>
                <a:gd name="adj2" fmla="val 64995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ff"/>
                  </a:solidFill>
                  <a:latin typeface="Arial"/>
                </a:rPr>
                <a:t>活動內容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ff"/>
                  </a:solidFill>
                  <a:latin typeface="Arial"/>
                </a:rPr>
                <a:t>善變的月姑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領域：自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議題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生命教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2"/>
            <p:cNvSpPr/>
            <p:nvPr/>
          </p:nvSpPr>
          <p:spPr>
            <a:xfrm>
              <a:off x="6954480" y="3884400"/>
              <a:ext cx="1714680" cy="957240"/>
            </a:xfrm>
            <a:prstGeom prst="wedgeRectCallout">
              <a:avLst>
                <a:gd name="adj1" fmla="val -55092"/>
                <a:gd name="adj2" fmla="val 70893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活動內容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新細明體"/>
                </a:rPr>
                <a:t>歡度聯歡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領域：綜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13"/>
            <p:cNvSpPr/>
            <p:nvPr/>
          </p:nvSpPr>
          <p:spPr>
            <a:xfrm>
              <a:off x="5730480" y="5324400"/>
              <a:ext cx="1714680" cy="1257480"/>
            </a:xfrm>
            <a:prstGeom prst="wedgeRectCallout">
              <a:avLst>
                <a:gd name="adj1" fmla="val -37481"/>
                <a:gd name="adj2" fmla="val -69495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ff"/>
                  </a:solidFill>
                  <a:latin typeface="Arial"/>
                </a:rPr>
                <a:t>活動內容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1.</a:t>
              </a:r>
              <a:r>
                <a:rPr b="0" lang="zh-TW" sz="1400" spc="-1" strike="noStrike">
                  <a:solidFill>
                    <a:srgbClr val="0000ff"/>
                  </a:solidFill>
                  <a:latin typeface="Arial"/>
                </a:rPr>
                <a:t>只要我長大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2.</a:t>
              </a:r>
              <a:r>
                <a:rPr b="0" lang="zh-TW" sz="1400" spc="-1" strike="noStrike">
                  <a:solidFill>
                    <a:srgbClr val="0000ff"/>
                  </a:solidFill>
                  <a:latin typeface="Arial"/>
                </a:rPr>
                <a:t>模仿海底動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領域：藝文、海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14"/>
            <p:cNvSpPr/>
            <p:nvPr/>
          </p:nvSpPr>
          <p:spPr>
            <a:xfrm>
              <a:off x="5297040" y="1719360"/>
              <a:ext cx="1718280" cy="1173600"/>
            </a:xfrm>
            <a:prstGeom prst="wedgeRectCallout">
              <a:avLst>
                <a:gd name="adj1" fmla="val -69018"/>
                <a:gd name="adj2" fmla="val 40236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ff"/>
                  </a:solidFill>
                  <a:latin typeface="Arial"/>
                </a:rPr>
                <a:t>活動內容：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ff"/>
                  </a:solidFill>
                  <a:latin typeface="Arial"/>
                </a:rPr>
                <a:t>理財小高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領域：數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議題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資訊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5"/>
            <p:cNvSpPr/>
            <p:nvPr/>
          </p:nvSpPr>
          <p:spPr>
            <a:xfrm>
              <a:off x="2056320" y="5397480"/>
              <a:ext cx="1860120" cy="1295280"/>
            </a:xfrm>
            <a:prstGeom prst="wedgeRectCallout">
              <a:avLst>
                <a:gd name="adj1" fmla="val -31597"/>
                <a:gd name="adj2" fmla="val -82106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ff"/>
                  </a:solidFill>
                  <a:latin typeface="Arial"/>
                </a:rPr>
                <a:t>活動內容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ff"/>
                  </a:solidFill>
                  <a:latin typeface="Arial"/>
                </a:rPr>
                <a:t>小小出版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新細明體"/>
                </a:rPr>
                <a:t>〜</a:t>
              </a:r>
              <a:r>
                <a:rPr b="0" lang="zh-TW" sz="1400" spc="-1" strike="noStrike">
                  <a:solidFill>
                    <a:srgbClr val="0000ff"/>
                  </a:solidFill>
                  <a:latin typeface="Arial"/>
                </a:rPr>
                <a:t>我的奇妙探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領域：藝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議題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家庭教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16"/>
            <p:cNvSpPr/>
            <p:nvPr/>
          </p:nvSpPr>
          <p:spPr>
            <a:xfrm>
              <a:off x="3998520" y="5468760"/>
              <a:ext cx="1610640" cy="1068480"/>
            </a:xfrm>
            <a:prstGeom prst="wedgeRectCallout">
              <a:avLst>
                <a:gd name="adj1" fmla="val -77083"/>
                <a:gd name="adj2" fmla="val -96504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ff"/>
                  </a:solidFill>
                  <a:latin typeface="Arial"/>
                </a:rPr>
                <a:t>活動內容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ff"/>
                  </a:solidFill>
                  <a:latin typeface="Arial"/>
                </a:rPr>
                <a:t>家鄉的名勝古蹟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領域：社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議題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國防教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四上「東信樂園</a:t>
            </a:r>
            <a:r>
              <a:rPr b="0" lang="en-US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〜</a:t>
            </a: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動感東信」主題統整架構圖</a:t>
            </a:r>
            <a:endParaRPr b="0" lang="en-US" sz="3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8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標楷體"/>
                <a:ea typeface="標楷體"/>
              </a:rPr>
              <a:t> </a:t>
            </a:r>
            <a:r>
              <a:rPr b="1" lang="zh-TW" sz="3200" spc="-1" strike="noStrike">
                <a:solidFill>
                  <a:srgbClr val="0000ff"/>
                </a:solidFill>
                <a:latin typeface="標楷體"/>
                <a:ea typeface="標楷體"/>
              </a:rPr>
              <a:t>四下「東信樂園</a:t>
            </a:r>
            <a:r>
              <a:rPr b="0" lang="en-US" sz="3200" spc="-1" strike="noStrike">
                <a:solidFill>
                  <a:srgbClr val="0000ff"/>
                </a:solidFill>
                <a:latin typeface="標楷體"/>
                <a:ea typeface="標楷體"/>
              </a:rPr>
              <a:t>〜</a:t>
            </a:r>
            <a:r>
              <a:rPr b="1" lang="zh-TW" sz="3200" spc="-1" strike="noStrike">
                <a:solidFill>
                  <a:srgbClr val="0000ff"/>
                </a:solidFill>
                <a:latin typeface="標楷體"/>
                <a:ea typeface="標楷體"/>
              </a:rPr>
              <a:t>動感東信」主題統整架構圖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217" name="群組 29"/>
          <p:cNvGrpSpPr/>
          <p:nvPr/>
        </p:nvGrpSpPr>
        <p:grpSpPr>
          <a:xfrm>
            <a:off x="835200" y="1617840"/>
            <a:ext cx="7403760" cy="5084640"/>
            <a:chOff x="835200" y="1617840"/>
            <a:chExt cx="7403760" cy="5084640"/>
          </a:xfrm>
        </p:grpSpPr>
        <p:sp>
          <p:nvSpPr>
            <p:cNvPr id="218" name="AutoShape 4"/>
            <p:cNvSpPr/>
            <p:nvPr/>
          </p:nvSpPr>
          <p:spPr>
            <a:xfrm>
              <a:off x="3067200" y="3273480"/>
              <a:ext cx="2447640" cy="2360520"/>
            </a:xfrm>
            <a:prstGeom prst="sun">
              <a:avLst>
                <a:gd name="adj" fmla="val 25000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Arial"/>
                </a:rPr>
                <a:t>動感東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5"/>
            <p:cNvSpPr/>
            <p:nvPr/>
          </p:nvSpPr>
          <p:spPr>
            <a:xfrm>
              <a:off x="3296520" y="2872080"/>
              <a:ext cx="1600200" cy="43956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Arial"/>
                </a:rPr>
                <a:t>唱遊海洋印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6"/>
            <p:cNvSpPr/>
            <p:nvPr/>
          </p:nvSpPr>
          <p:spPr>
            <a:xfrm>
              <a:off x="1496520" y="4601160"/>
              <a:ext cx="1600200" cy="43956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Arial"/>
                </a:rPr>
                <a:t>生活情報家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7"/>
            <p:cNvSpPr/>
            <p:nvPr/>
          </p:nvSpPr>
          <p:spPr>
            <a:xfrm>
              <a:off x="5385600" y="4601160"/>
              <a:ext cx="1675440" cy="439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Arial"/>
                </a:rPr>
                <a:t>合作學習快樂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9"/>
            <p:cNvSpPr/>
            <p:nvPr/>
          </p:nvSpPr>
          <p:spPr>
            <a:xfrm>
              <a:off x="835200" y="1617840"/>
              <a:ext cx="1657080" cy="1152360"/>
            </a:xfrm>
            <a:prstGeom prst="wedgeRectCallout">
              <a:avLst>
                <a:gd name="adj1" fmla="val 109194"/>
                <a:gd name="adj2" fmla="val 60606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ff"/>
                  </a:solidFill>
                  <a:latin typeface="Arial"/>
                </a:rPr>
                <a:t>活動內容：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ff"/>
                  </a:solidFill>
                  <a:latin typeface="Arial"/>
                </a:rPr>
                <a:t>家鄉風情印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領域：藝文、海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10"/>
            <p:cNvSpPr/>
            <p:nvPr/>
          </p:nvSpPr>
          <p:spPr>
            <a:xfrm>
              <a:off x="835200" y="5558040"/>
              <a:ext cx="1657080" cy="884160"/>
            </a:xfrm>
            <a:prstGeom prst="wedgeRectCallout">
              <a:avLst>
                <a:gd name="adj1" fmla="val 12356"/>
                <a:gd name="adj2" fmla="val -9937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ff"/>
                  </a:solidFill>
                  <a:latin typeface="Arial"/>
                </a:rPr>
                <a:t>活動內容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ff"/>
                  </a:solidFill>
                  <a:latin typeface="Arial"/>
                </a:rPr>
                <a:t>為民服務的機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領域：社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議題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資訊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11"/>
            <p:cNvSpPr/>
            <p:nvPr/>
          </p:nvSpPr>
          <p:spPr>
            <a:xfrm>
              <a:off x="1179000" y="3324600"/>
              <a:ext cx="2103480" cy="1071000"/>
            </a:xfrm>
            <a:prstGeom prst="wedgeRectCallout">
              <a:avLst>
                <a:gd name="adj1" fmla="val -6300"/>
                <a:gd name="adj2" fmla="val 7965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ff"/>
                  </a:solidFill>
                  <a:latin typeface="Arial"/>
                </a:rPr>
                <a:t>活動內容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ff"/>
                  </a:solidFill>
                  <a:latin typeface="Arial"/>
                </a:rPr>
                <a:t>長度和方位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領域：數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議題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資訊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12"/>
            <p:cNvSpPr/>
            <p:nvPr/>
          </p:nvSpPr>
          <p:spPr>
            <a:xfrm>
              <a:off x="6524640" y="3208320"/>
              <a:ext cx="1714320" cy="1112400"/>
            </a:xfrm>
            <a:prstGeom prst="wedgeRectCallout">
              <a:avLst>
                <a:gd name="adj1" fmla="val -92500"/>
                <a:gd name="adj2" fmla="val 7649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ff"/>
                  </a:solidFill>
                  <a:latin typeface="Arial"/>
                </a:rPr>
                <a:t>活動內容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ff"/>
                  </a:solidFill>
                  <a:latin typeface="新細明體"/>
                </a:rPr>
                <a:t>一起來跳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領域：健體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議題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健康促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13"/>
            <p:cNvSpPr/>
            <p:nvPr/>
          </p:nvSpPr>
          <p:spPr>
            <a:xfrm>
              <a:off x="5948280" y="5434200"/>
              <a:ext cx="1714320" cy="968400"/>
            </a:xfrm>
            <a:prstGeom prst="wedgeRectCallout">
              <a:avLst>
                <a:gd name="adj1" fmla="val -51203"/>
                <a:gd name="adj2" fmla="val -88689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ff"/>
                  </a:solidFill>
                  <a:latin typeface="Arial"/>
                </a:rPr>
                <a:t>活動內容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ff"/>
                  </a:solidFill>
                  <a:latin typeface="Arial"/>
                </a:rPr>
                <a:t>一起做專題報告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領域：國語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議題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人權法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14"/>
            <p:cNvSpPr/>
            <p:nvPr/>
          </p:nvSpPr>
          <p:spPr>
            <a:xfrm>
              <a:off x="4508640" y="1617840"/>
              <a:ext cx="1485720" cy="1057320"/>
            </a:xfrm>
            <a:prstGeom prst="wedgeRectCallout">
              <a:avLst>
                <a:gd name="adj1" fmla="val -79805"/>
                <a:gd name="adj2" fmla="val 71921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ff"/>
                  </a:solidFill>
                  <a:latin typeface="Arial"/>
                </a:rPr>
                <a:t>活動內容：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ff"/>
                  </a:solidFill>
                  <a:latin typeface="Arial"/>
                </a:rPr>
                <a:t>水中生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領域：自然、海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15"/>
            <p:cNvSpPr/>
            <p:nvPr/>
          </p:nvSpPr>
          <p:spPr>
            <a:xfrm>
              <a:off x="3139920" y="5721480"/>
              <a:ext cx="2106000" cy="981000"/>
            </a:xfrm>
            <a:prstGeom prst="wedgeRectCallout">
              <a:avLst>
                <a:gd name="adj1" fmla="val -66814"/>
                <a:gd name="adj2" fmla="val -124754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ff"/>
                  </a:solidFill>
                  <a:latin typeface="Arial"/>
                </a:rPr>
                <a:t>活動內容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ff"/>
                  </a:solidFill>
                  <a:latin typeface="Arial"/>
                </a:rPr>
                <a:t>天才小記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領域：綜合、資訊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融入議題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0" lang="zh-TW" sz="1400" spc="-1" strike="noStrike">
                  <a:solidFill>
                    <a:srgbClr val="000000"/>
                  </a:solidFill>
                  <a:latin typeface="Arial"/>
                </a:rPr>
                <a:t>人權法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8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28680" y="409680"/>
            <a:ext cx="868680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  <a:ea typeface="標楷體"/>
              </a:rPr>
              <a:t>「東信樂園」四上主題統整教學活動說明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68280" y="2265480"/>
          <a:ext cx="8012160" cy="3084480"/>
        </p:xfrm>
        <a:graphic>
          <a:graphicData uri="http://schemas.openxmlformats.org/drawingml/2006/table">
            <a:tbl>
              <a:tblPr/>
              <a:tblGrid>
                <a:gridCol w="996840"/>
                <a:gridCol w="1324080"/>
                <a:gridCol w="3370320"/>
                <a:gridCol w="709560"/>
                <a:gridCol w="911160"/>
                <a:gridCol w="700200"/>
              </a:tblGrid>
              <a:tr h="48708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主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4d3fc"/>
                    </a:solidFill>
                  </a:tcPr>
                </a:tc>
                <a:tc grid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內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4d3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領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4d3fc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能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指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4d3fc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重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議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4d3fc"/>
                    </a:solidFill>
                  </a:tcPr>
                </a:tc>
              </a:tr>
              <a:tr h="489240">
                <a:tc rowSpan="5">
                  <a:txBody>
                    <a:bodyPr lIns="42480" rIns="4248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大家一起動一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理財小高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能製做家庭收支表，並計算每月、每年食衣住行等各項花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數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N-2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N-2-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家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生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與繩共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以不同姿態參與各類的繩子遊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健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3-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3-2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性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生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橫掃千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利用長繩來玩遊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健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3-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3-2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性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生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社區小志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透過社區服務活動，培養積極的服務精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綜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3-2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3-2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環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校園服務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透過校園服務活動，建立積極的人生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綜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3-2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3-2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環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性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8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43440" y="0"/>
            <a:ext cx="868716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標楷體"/>
                <a:ea typeface="標楷體"/>
              </a:rPr>
              <a:t>「東信樂園」四上主題統整教學活動說明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09680" y="695160"/>
          <a:ext cx="8010360" cy="5945400"/>
        </p:xfrm>
        <a:graphic>
          <a:graphicData uri="http://schemas.openxmlformats.org/drawingml/2006/table">
            <a:tbl>
              <a:tblPr/>
              <a:tblGrid>
                <a:gridCol w="995400"/>
                <a:gridCol w="1527120"/>
                <a:gridCol w="3168720"/>
                <a:gridCol w="709560"/>
                <a:gridCol w="911160"/>
                <a:gridCol w="698400"/>
              </a:tblGrid>
              <a:tr h="48708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主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4d3fc"/>
                    </a:solidFill>
                  </a:tcPr>
                </a:tc>
                <a:tc grid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內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4d3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領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4d3fc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能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指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4d3fc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重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議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4d3fc"/>
                    </a:solidFill>
                  </a:tcPr>
                </a:tc>
              </a:tr>
              <a:tr h="973800">
                <a:tc rowSpan="4">
                  <a:txBody>
                    <a:bodyPr lIns="42480" rIns="4248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環境細觀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善變的月姑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觀察及討論月相的變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自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2-2-4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5-2-1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環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性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生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小小出版社）〜我的奇妙探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製作古蹟探訪的小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藝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社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1-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2-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環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山和海的書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享欣賞山景和海景的心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2-2-1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2-1-1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2-1-1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2-2-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環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人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海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家鄉的名勝古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細明體"/>
                          <a:ea typeface="標楷體"/>
                        </a:rPr>
                        <a:t>實地參觀訪問、運用網路資源、蒐集學校附近家鄉名勝古蹟等資料，提出維護名勝、古蹟的具體作法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社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2-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環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 rowSpan="3">
                  <a:txBody>
                    <a:bodyPr lIns="42480" rIns="42480" tIns="0" bIns="0" anchor="t" anchorCtr="1" vert="eaVert">
                      <a:noAutofit/>
                    </a:bodyPr>
                    <a:p>
                      <a:pPr marL="71280" algn="ctr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成長‧乘風破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歡度聯歡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排定節目表並參與活動及欣賞各組的演出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綜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3-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1-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人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性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只要我長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運用肢體與聲音扮演職業的角色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藝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1-2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1-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1-2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1-2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2-2-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性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生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模仿海底動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模仿海底動物的姿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藝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1-2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1-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1-2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海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環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8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43440" y="0"/>
            <a:ext cx="868716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  <a:ea typeface="標楷體"/>
              </a:rPr>
              <a:t>「東信樂園」四下主題統整教學活動說明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504720" y="682560"/>
          <a:ext cx="7683480" cy="6083280"/>
        </p:xfrm>
        <a:graphic>
          <a:graphicData uri="http://schemas.openxmlformats.org/drawingml/2006/table">
            <a:tbl>
              <a:tblPr/>
              <a:tblGrid>
                <a:gridCol w="1077840"/>
                <a:gridCol w="1719360"/>
                <a:gridCol w="2525760"/>
                <a:gridCol w="819360"/>
                <a:gridCol w="968040"/>
                <a:gridCol w="573120"/>
              </a:tblGrid>
              <a:tr h="73044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主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4d3fc"/>
                    </a:solidFill>
                  </a:tcPr>
                </a:tc>
                <a:tc gridSpan="2"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內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4d3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領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4d3fc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能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指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4d3fc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重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議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4d3fc"/>
                    </a:solidFill>
                  </a:tcPr>
                </a:tc>
              </a:tr>
              <a:tr h="762840">
                <a:tc rowSpan="2">
                  <a:txBody>
                    <a:bodyPr lIns="47880" rIns="47880" tIns="0" bIns="0" anchor="t" anchorCtr="1" vert="eaVert">
                      <a:noAutofit/>
                    </a:bodyPr>
                    <a:p>
                      <a:pPr marL="712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唱遊海洋印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家鄉風情印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探索社區藝術家記錄的風情之美，並創作拍念有關家鄉文化的語詞節奏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藝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1-2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2-2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環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海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水中生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飼養、觀察水中生物並描述魚的體型及運動方式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自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2-2-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生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環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 rowSpan="3">
                  <a:txBody>
                    <a:bodyPr lIns="47880" rIns="4788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生活情報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長度與方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認識東南西北、運用方位語詞描述物體的位置與方向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數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S-2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生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家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為民服務的機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能在地圖上標示出信義區主要機構的位置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社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6-2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性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生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天才小記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說出蒐集到的信義區主要機構的服務內容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綜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3-2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資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生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 rowSpan="2">
                  <a:txBody>
                    <a:bodyPr lIns="47880" rIns="4788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快樂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12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合作學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一起來跳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運用繩子做三人合作的跳繩動作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健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3-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3-2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性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一起做專題報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說出合作與分享的重要，並舉例說明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國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C2-2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人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環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8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24724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ff"/>
                </a:solidFill>
                <a:latin typeface="標楷體"/>
                <a:ea typeface="標楷體"/>
              </a:rPr>
              <a:t>貳、彈性課程規劃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68360" y="1700280"/>
            <a:ext cx="8208720" cy="4031640"/>
            <a:chOff x="468360" y="1700280"/>
            <a:chExt cx="8208720" cy="4031640"/>
          </a:xfrm>
        </p:grpSpPr>
        <p:cxnSp>
          <p:nvCxnSpPr>
            <p:cNvPr id="237" name="_s10355"/>
            <p:cNvCxnSpPr>
              <a:stCxn id="238" idx="1"/>
              <a:endCxn id="239" idx="2"/>
            </p:cNvCxnSpPr>
            <p:nvPr/>
          </p:nvCxnSpPr>
          <p:spPr>
            <a:xfrm rot="10800000">
              <a:off x="1379520" y="4631760"/>
              <a:ext cx="304560" cy="733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0" name="_s10337"/>
            <p:cNvCxnSpPr>
              <a:stCxn id="241" idx="0"/>
              <a:endCxn id="242" idx="2"/>
            </p:cNvCxnSpPr>
            <p:nvPr/>
          </p:nvCxnSpPr>
          <p:spPr>
            <a:xfrm flipV="1">
              <a:off x="7765200" y="3532680"/>
              <a:ext cx="2880" cy="367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3" name="_s10338"/>
            <p:cNvCxnSpPr>
              <a:stCxn id="244" idx="0"/>
              <a:endCxn id="245" idx="2"/>
            </p:cNvCxnSpPr>
            <p:nvPr/>
          </p:nvCxnSpPr>
          <p:spPr>
            <a:xfrm flipV="1">
              <a:off x="5636880" y="3532680"/>
              <a:ext cx="2880" cy="367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6" name="_s10339"/>
            <p:cNvCxnSpPr>
              <a:stCxn id="247" idx="0"/>
              <a:endCxn id="248" idx="2"/>
            </p:cNvCxnSpPr>
            <p:nvPr/>
          </p:nvCxnSpPr>
          <p:spPr>
            <a:xfrm flipV="1">
              <a:off x="3510720" y="3532680"/>
              <a:ext cx="2520" cy="367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9" name="_s10340"/>
            <p:cNvCxnSpPr>
              <a:stCxn id="239" idx="0"/>
              <a:endCxn id="250" idx="2"/>
            </p:cNvCxnSpPr>
            <p:nvPr/>
          </p:nvCxnSpPr>
          <p:spPr>
            <a:xfrm flipV="1">
              <a:off x="1380240" y="3532680"/>
              <a:ext cx="2880" cy="367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1" name="_s10341"/>
            <p:cNvCxnSpPr>
              <a:stCxn id="242" idx="0"/>
              <a:endCxn id="252" idx="2"/>
            </p:cNvCxnSpPr>
            <p:nvPr/>
          </p:nvCxnSpPr>
          <p:spPr>
            <a:xfrm flipV="1" rot="16200000">
              <a:off x="5985360" y="1019880"/>
              <a:ext cx="367200" cy="3192840"/>
            </a:xfrm>
            <a:prstGeom prst="bentConnector3">
              <a:avLst>
                <a:gd name="adj1" fmla="val 311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3" name="_s10342"/>
            <p:cNvCxnSpPr>
              <a:stCxn id="245" idx="0"/>
              <a:endCxn id="252" idx="2"/>
            </p:cNvCxnSpPr>
            <p:nvPr/>
          </p:nvCxnSpPr>
          <p:spPr>
            <a:xfrm flipV="1" rot="16200000">
              <a:off x="4921200" y="2084040"/>
              <a:ext cx="367200" cy="1064520"/>
            </a:xfrm>
            <a:prstGeom prst="bentConnector3">
              <a:avLst>
                <a:gd name="adj1" fmla="val 311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4" name="_s10343"/>
            <p:cNvCxnSpPr>
              <a:stCxn id="248" idx="0"/>
              <a:endCxn id="252" idx="2"/>
            </p:cNvCxnSpPr>
            <p:nvPr/>
          </p:nvCxnSpPr>
          <p:spPr>
            <a:xfrm flipH="1" flipV="1" rot="5400000">
              <a:off x="3858120" y="2085120"/>
              <a:ext cx="367200" cy="1062360"/>
            </a:xfrm>
            <a:prstGeom prst="bentConnector3">
              <a:avLst>
                <a:gd name="adj1" fmla="val 311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5" name="_s10344"/>
            <p:cNvCxnSpPr>
              <a:stCxn id="250" idx="0"/>
              <a:endCxn id="252" idx="2"/>
            </p:cNvCxnSpPr>
            <p:nvPr/>
          </p:nvCxnSpPr>
          <p:spPr>
            <a:xfrm flipH="1" flipV="1" rot="5400000">
              <a:off x="2792880" y="1019880"/>
              <a:ext cx="367200" cy="3193200"/>
            </a:xfrm>
            <a:prstGeom prst="bentConnector3">
              <a:avLst>
                <a:gd name="adj1" fmla="val 311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2" name="_s10345"/>
            <p:cNvSpPr/>
            <p:nvPr/>
          </p:nvSpPr>
          <p:spPr>
            <a:xfrm>
              <a:off x="3660840" y="1700280"/>
              <a:ext cx="1824120" cy="7329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</a:rPr>
                <a:t>彈性節數</a:t>
              </a:r>
              <a:r>
                <a:rPr b="0" lang="zh-TW" sz="15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10346"/>
            <p:cNvSpPr/>
            <p:nvPr/>
          </p:nvSpPr>
          <p:spPr>
            <a:xfrm>
              <a:off x="468360" y="2799720"/>
              <a:ext cx="1824120" cy="7329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"/>
                </a:rPr>
                <a:t>學校本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"/>
                </a:rPr>
                <a:t>課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10347"/>
            <p:cNvSpPr/>
            <p:nvPr/>
          </p:nvSpPr>
          <p:spPr>
            <a:xfrm>
              <a:off x="2596320" y="2799720"/>
              <a:ext cx="1824120" cy="7329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"/>
                </a:rPr>
                <a:t>數學補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"/>
                </a:rPr>
                <a:t>教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0348"/>
            <p:cNvSpPr/>
            <p:nvPr/>
          </p:nvSpPr>
          <p:spPr>
            <a:xfrm>
              <a:off x="4724640" y="2799720"/>
              <a:ext cx="1824120" cy="73296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"/>
                </a:rPr>
                <a:t>英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0349"/>
            <p:cNvSpPr/>
            <p:nvPr/>
          </p:nvSpPr>
          <p:spPr>
            <a:xfrm>
              <a:off x="6852960" y="2799720"/>
              <a:ext cx="1824120" cy="7329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"/>
                </a:rPr>
                <a:t>資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350"/>
            <p:cNvSpPr/>
            <p:nvPr/>
          </p:nvSpPr>
          <p:spPr>
            <a:xfrm>
              <a:off x="468360" y="3899520"/>
              <a:ext cx="1824120" cy="732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"/>
                </a:rPr>
                <a:t>每週一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10351"/>
            <p:cNvSpPr/>
            <p:nvPr/>
          </p:nvSpPr>
          <p:spPr>
            <a:xfrm>
              <a:off x="2596320" y="3899520"/>
              <a:ext cx="1824120" cy="732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"/>
                </a:rPr>
                <a:t>每週一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0352"/>
            <p:cNvSpPr/>
            <p:nvPr/>
          </p:nvSpPr>
          <p:spPr>
            <a:xfrm>
              <a:off x="4724640" y="3899520"/>
              <a:ext cx="1824120" cy="732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"/>
                </a:rPr>
                <a:t>每週一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353"/>
            <p:cNvSpPr/>
            <p:nvPr/>
          </p:nvSpPr>
          <p:spPr>
            <a:xfrm>
              <a:off x="6852960" y="3899520"/>
              <a:ext cx="1824120" cy="732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"/>
                </a:rPr>
                <a:t>每週一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354"/>
            <p:cNvSpPr/>
            <p:nvPr/>
          </p:nvSpPr>
          <p:spPr>
            <a:xfrm>
              <a:off x="1684440" y="4998960"/>
              <a:ext cx="1824120" cy="732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ff"/>
                  </a:solidFill>
                  <a:latin typeface="Arial"/>
                </a:rPr>
                <a:t>東信閱讀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ff"/>
                  </a:solidFill>
                  <a:latin typeface="Arial"/>
                </a:rPr>
                <a:t>跳躍繩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5:38:47Z</dcterms:created>
  <dc:creator>joudie</dc:creator>
  <dc:description/>
  <cp:keywords/>
  <dc:language>en-US</dc:language>
  <cp:lastModifiedBy>fu</cp:lastModifiedBy>
  <dcterms:modified xsi:type="dcterms:W3CDTF">2012-08-04T09:02:59Z</dcterms:modified>
  <cp:revision>197</cp:revision>
  <dc:subject/>
  <dc:title>家長、專業人員與助理人員間的合作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271161028</vt:lpwstr>
  </property>
</Properties>
</file>