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E4F-F220-4DC8-AE41-51CBF979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B8F-89DF-4D7D-8038-3FDDD669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6FD-6C3B-4AD3-BFF0-D4E80D45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3D8-D83F-42BA-BC73-FB8D62C6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8E2-832C-4901-88EA-82BBB39E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B1C-3E8B-4CB9-B99D-032CFEA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139-37A8-4618-8D66-22F8A475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4DC-E697-49C9-BE37-02D94AFF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0E7-0F07-4871-9113-A9E59B2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0DF4-9361-4EB2-B355-DFF50E75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E7A7-8699-4E60-BBD1-F65FD75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08A-4E5C-43D7-9586-8CDE1E57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244-46C7-4DC1-B599-B5BA42A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3E8-F023-411F-8C57-F3640CCC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8A8-4339-42BF-8F47-DAB6D171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0BF-5444-4283-867E-A69A1291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59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88320" y="160020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2996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59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88320" y="3964320"/>
            <a:ext cx="240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DC5B-48B1-4647-AF83-FA1EEB37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E45-8AD6-4976-B43D-85FC350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460-3A1C-4135-8C74-384C5959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677-84F1-44E4-AFA4-8C6C71B6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29960" y="274320"/>
            <a:ext cx="748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193-62C1-4DD3-8098-B31D9129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32A-32D5-46CF-8C5B-09F1C0B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240" y="396432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A72-DE92-4721-BEF3-DE60CCF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2996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240" y="1600200"/>
            <a:ext cx="365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29960" y="3964320"/>
            <a:ext cx="748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BC5-8739-4FC3-9AE5-C8CC3C9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2996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5240" y="6244920"/>
            <a:ext cx="1865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CD50-9D52-4089-9312-07D15400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_0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929960" y="16002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ff"/>
              </a:buClr>
              <a:buFont typeface="Arial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3BB-3070-4181-AF2F-A10D5C90AC9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8-2&#38321;&#35712;&#23416;&#32722;&#25104;&#26524;&#27298;&#26680;&#34920;.DOC" TargetMode="External"/><Relationship Id="rId2" Type="http://schemas.openxmlformats.org/officeDocument/2006/relationships/hyperlink" Target="file:///../8-2&#38321;&#35712;&#23416;&#32722;&#25104;&#26524;&#27298;&#26680;&#34920;.DOC" TargetMode="External"/><Relationship Id="rId3" Type="http://schemas.openxmlformats.org/officeDocument/2006/relationships/hyperlink" Target="file:///../8-2&#38321;&#35712;&#23416;&#32722;&#25104;&#26524;&#27298;&#26680;&#34920;.DOC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2&#21508;&#24180;&#32026;&#24392;&#24615;&#23416;&#32722;&#31680;&#25976;&#19968;&#35261;&#34920;.doc" TargetMode="External"/><Relationship Id="rId3" Type="http://schemas.openxmlformats.org/officeDocument/2006/relationships/image" Target="../media/image2.png"/><Relationship Id="rId4" Type="http://schemas.openxmlformats.org/officeDocument/2006/relationships/hyperlink" Target="file:///../7-1&#24392;&#24615;&#35506;&#31243;&#35215;&#21123;&#32317;&#34920;.doc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36160" y="476280"/>
            <a:ext cx="72010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五年級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   課程計畫簡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j0336075"/>
          <p:cNvPicPr/>
          <p:nvPr/>
        </p:nvPicPr>
        <p:blipFill>
          <a:blip r:embed="rId1"/>
          <a:stretch/>
        </p:blipFill>
        <p:spPr>
          <a:xfrm>
            <a:off x="1136520" y="2952720"/>
            <a:ext cx="338796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BD14996_"/>
          <p:cNvPicPr/>
          <p:nvPr/>
        </p:nvPicPr>
        <p:blipFill>
          <a:blip r:embed="rId2"/>
          <a:stretch/>
        </p:blipFill>
        <p:spPr>
          <a:xfrm>
            <a:off x="2720880" y="206064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j0158007"/>
          <p:cNvPicPr/>
          <p:nvPr/>
        </p:nvPicPr>
        <p:blipFill>
          <a:blip r:embed="rId3"/>
          <a:stretch/>
        </p:blipFill>
        <p:spPr>
          <a:xfrm>
            <a:off x="5024520" y="4005360"/>
            <a:ext cx="363384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09600" y="206280"/>
          <a:ext cx="9239040" cy="6369120"/>
        </p:xfrm>
        <a:graphic>
          <a:graphicData uri="http://schemas.openxmlformats.org/drawingml/2006/table">
            <a:tbl>
              <a:tblPr/>
              <a:tblGrid>
                <a:gridCol w="1155600"/>
                <a:gridCol w="1812960"/>
                <a:gridCol w="2641680"/>
                <a:gridCol w="1154160"/>
                <a:gridCol w="1155600"/>
                <a:gridCol w="131904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092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和家人一起成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相聚的時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常做的事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家人生活調查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家人相處方式與感覺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休閒中成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請學生分享自己最喜愛的休閒活動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說一說，家人中誰和你有相同的休閒活動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華康粗黑體"/>
                        <a:buAutoNum type="alphaU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華康粗黑體"/>
                          <a:ea typeface="標楷體"/>
                        </a:rPr>
                        <a:t>教師引導學生發表是否和家人有共同的休閒活動，並分享活動的心得和感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國語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-3-4-9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F-3-2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-3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活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請學生發表你認為生活是什麼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享自己常用哪些學習方法？這些學習方法對哪些學習比較有效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全班共同歸納家人常用的學習方式，並進行簡單的學習型態分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4.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實際練習借一本與家人工作或休閒有關的好書，回家與家人共讀，或閱讀後與家人分享心得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5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安排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思索家人面臨意外死亡或過世的時候，該如何來面對往後的生活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4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4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704880" y="476280"/>
          <a:ext cx="8750160" cy="5761080"/>
        </p:xfrm>
        <a:graphic>
          <a:graphicData uri="http://schemas.openxmlformats.org/drawingml/2006/table">
            <a:tbl>
              <a:tblPr/>
              <a:tblGrid>
                <a:gridCol w="1093680"/>
                <a:gridCol w="1714680"/>
                <a:gridCol w="2376360"/>
                <a:gridCol w="1395360"/>
                <a:gridCol w="919080"/>
                <a:gridCol w="1251000"/>
              </a:tblGrid>
              <a:tr h="8668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9216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前進中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藉由影片的介紹，認識中元祭的由來及基隆中元節的特殊習俗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認識海洋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7080" indent="-127080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播放影片「自然科學小博士小朋友的為什麼之十一魚類大全」ＶＣ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7080" indent="-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請學童利用網路找尋海洋生物的資料，並將找到的資料與同學分享。教師協調每位學童所介紹的海洋生物不要重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數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2520" y="214200"/>
          <a:ext cx="8786880" cy="6194520"/>
        </p:xfrm>
        <a:graphic>
          <a:graphicData uri="http://schemas.openxmlformats.org/drawingml/2006/table">
            <a:tbl>
              <a:tblPr/>
              <a:tblGrid>
                <a:gridCol w="1098360"/>
                <a:gridCol w="1712880"/>
                <a:gridCol w="2697480"/>
                <a:gridCol w="1223640"/>
                <a:gridCol w="798480"/>
                <a:gridCol w="1256040"/>
              </a:tblGrid>
              <a:tr h="9828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4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東信海洋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港邊風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師介紹基隆的正濱漁港、八斗子漁港與碧砂漁港等各地風情，以及漁民生活風貌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配合基隆地區資源或學生的經驗，討論漁民生活特色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oGo</a:t>
                      </a: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魚市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類魚兒收集資料，除上台介紹外並加以推銷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船舶設計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各種不同用途的船舶蒐集資料、介紹，並讓學生設計畫出屬於自己心目中理想的船隻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藝術與人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07800" y="363240"/>
            <a:ext cx="74898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東信國小學校本位「東信樂園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彩繪東信」 </a:t>
            </a:r>
            <a:br>
              <a:rPr sz="2600"/>
            </a:b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主題統整教學活動說明（五下）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80880" y="1500120"/>
          <a:ext cx="9144000" cy="507204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77920"/>
                <a:gridCol w="1214280"/>
                <a:gridCol w="1285920"/>
              </a:tblGrid>
              <a:tr h="11620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89000">
                <a:tc rowSpan="3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心情轉換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誰該負責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繪本《不是我的錯》並進行心得發表與討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情境變辨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進行情境表演，並針對情境中之問題進行小組討論及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3-8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小小紀錄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本身對於負面情緒的處理及轉換進行自我觀察、紀錄，並於紀錄完成後在課堂上進行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F-3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80880" y="357120"/>
          <a:ext cx="9239400" cy="602784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033560"/>
                <a:gridCol w="1428840"/>
                <a:gridCol w="1166760"/>
              </a:tblGrid>
              <a:tr h="12686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03280">
                <a:tc rowSpan="2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自我追尋之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孤島』紀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閱讀《守著孤島的女孩》，並進行心得發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3-1-3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4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-3-3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老王賣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找出自己的優點，針對優點作出屬於自我的廣告詞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3-1-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704880" y="476280"/>
          <a:ext cx="8786880" cy="5759280"/>
        </p:xfrm>
        <a:graphic>
          <a:graphicData uri="http://schemas.openxmlformats.org/drawingml/2006/table">
            <a:tbl>
              <a:tblPr/>
              <a:tblGrid>
                <a:gridCol w="755640"/>
                <a:gridCol w="1728720"/>
                <a:gridCol w="3024360"/>
                <a:gridCol w="1152360"/>
                <a:gridCol w="863640"/>
                <a:gridCol w="1262160"/>
              </a:tblGrid>
              <a:tr h="68724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65320">
                <a:tc rowSpan="5">
                  <a:txBody>
                    <a:bodyPr lIns="68760" rIns="6876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繽紛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『鯨』奇不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繪本《聽那鯨魚在唱歌》，請小朋友針對鯨魚的叫聲進行資料蒐集，並加以模仿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蟹將點兵囉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介紹台灣常見之螃蟹類，並進行螃蟹習性模仿大賽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6-2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標楷體"/>
                          <a:ea typeface="新細明體"/>
                        </a:rPr>
                        <a:t>2-3-2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雕刻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以基隆和平島為例，介紹基隆常見之海岸地形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-3-4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旅行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觀賞《海底總動員》了解到現今人與海中生物的交互關係及該有的態度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然與生活科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-2-2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家庭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海洋的哀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除了針對台灣海岸所受到的破壞進行介紹，更希望能藉由課堂討論，讓學生體會到愛護海洋的重要性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海洋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1800" y="276120"/>
            <a:ext cx="5833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本位課程主題統整架構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944880" y="1268280"/>
            <a:ext cx="2400480" cy="936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語文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東信閱讀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537240" y="1268280"/>
            <a:ext cx="2519280" cy="93672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健體領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44880" y="2781360"/>
            <a:ext cx="2376720" cy="107928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修習戀愛學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生命的勇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2720880" y="2205000"/>
            <a:ext cx="935280" cy="86040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性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2649600" y="3213000"/>
            <a:ext cx="9349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44520" y="1989000"/>
            <a:ext cx="202392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芭樂秘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15800" y="3284640"/>
            <a:ext cx="187344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哆啦</a:t>
            </a:r>
            <a:r>
              <a:rPr b="0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A</a:t>
            </a: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夢之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537240" y="2781360"/>
            <a:ext cx="295272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上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前後兩人面對面跳</a:t>
            </a:r>
            <a:r>
              <a:rPr b="0" lang="en-US" sz="2000" spc="-1" strike="noStrike">
                <a:solidFill>
                  <a:srgbClr val="0000ff"/>
                </a:solidFill>
                <a:latin typeface="新細明體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H="1" flipV="1">
            <a:off x="3657240" y="306828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H="1">
            <a:off x="3657240" y="3429000"/>
            <a:ext cx="22860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2360520" y="2708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944880" y="4797360"/>
            <a:ext cx="2305080" cy="1152720"/>
          </a:xfrm>
          <a:prstGeom prst="rect">
            <a:avLst/>
          </a:prstGeom>
          <a:solidFill>
            <a:srgbClr val="a2fcc4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 情緒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我真的很不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2720880" y="4508640"/>
            <a:ext cx="93528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2720880" y="5589720"/>
            <a:ext cx="936720" cy="8636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560520" y="4581360"/>
            <a:ext cx="180000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山城之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488880" y="5516640"/>
            <a:ext cx="1943280" cy="933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閱讀書目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油桐花下的精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537240" y="4869000"/>
            <a:ext cx="2881440" cy="1079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五下 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〈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兩人一繩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左右兩人同方向跳</a:t>
            </a:r>
            <a:r>
              <a:rPr b="0" lang="en-US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 flipH="1" flipV="1">
            <a:off x="3657240" y="522900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 flipH="1">
            <a:off x="3657240" y="5589720"/>
            <a:ext cx="2286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>
            <a:off x="2289240" y="36450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>
            <a:off x="2360520" y="49417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>
            <a:off x="2432160" y="602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13"/>
          <p:cNvSpPr/>
          <p:nvPr/>
        </p:nvSpPr>
        <p:spPr>
          <a:xfrm>
            <a:off x="3773520" y="2519280"/>
            <a:ext cx="2220840" cy="223848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3357720" y="2519280"/>
            <a:ext cx="55404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3357360" y="4199040"/>
            <a:ext cx="55404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5854680" y="4199040"/>
            <a:ext cx="55548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H="1">
            <a:off x="5854320" y="2519280"/>
            <a:ext cx="55548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136520" y="3825720"/>
            <a:ext cx="2221200" cy="1474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青春律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410160" y="3825720"/>
            <a:ext cx="2719440" cy="15480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找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健康的</a:t>
            </a: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桃花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410160" y="1773360"/>
            <a:ext cx="2359080" cy="14922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追星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36520" y="1773360"/>
            <a:ext cx="2221200" cy="149220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活動名稱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跳躍繩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4016520" y="3357720"/>
            <a:ext cx="1728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繩彩飛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0" y="2057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75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343880" y="150120"/>
            <a:ext cx="2741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跳繩學習活動設計架構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1800" y="28789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2144880" y="4762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學校本位課程設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91800" y="256500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標楷體"/>
                <a:hlinkClick r:id="rId1"/>
              </a:rPr>
              <a:t>『</a:t>
            </a:r>
            <a:r>
              <a:rPr b="0" lang="zh-TW" sz="32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2"/>
              </a:rPr>
              <a:t>東信閱讀通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3"/>
              </a:rPr>
              <a:t>』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評量檢核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36160" y="328464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跳     繩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跳繩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』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1136520" y="18446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東信閱讀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東信閱讀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』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課程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136520" y="4149720"/>
            <a:ext cx="80503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跳繩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』</a:t>
            </a:r>
            <a:r>
              <a:rPr b="0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課程檢核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29960" y="274320"/>
            <a:ext cx="6118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3300"/>
                </a:solidFill>
                <a:latin typeface="Arial"/>
                <a:ea typeface="標楷體"/>
              </a:rPr>
              <a:t>五年級學年特色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  <a:ea typeface="標楷體"/>
              </a:rPr>
              <a:t>─</a:t>
            </a:r>
            <a:r>
              <a:rPr b="1" lang="zh-TW" sz="3800" spc="-1" strike="noStrike">
                <a:solidFill>
                  <a:srgbClr val="ff3300"/>
                </a:solidFill>
                <a:latin typeface="Arial"/>
                <a:ea typeface="標楷體"/>
              </a:rPr>
              <a:t>唐詩新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6160" y="1196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實施時間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晨光時間或融入相關課程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776160" y="2060640"/>
            <a:ext cx="7777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實施方式：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熟背唐詩，聆聽「唐詩新唱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以手語和律動展現詩意的動態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以肢體動作配合吟唱表演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704880" y="3500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預期目標：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運用有限資源，以肢體動作配合吟唱表演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激發學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背誦唐詩的興趣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引發學生自動學習之精神，拓展學生的經驗領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生透過實際學習增加對古詩文之興趣，進而欣賞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詞之美，並適當地運用於寫作當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配合詩意並加入肢體動作，使學生體會古詩意境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習效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424160" y="126828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9900"/>
                </a:solidFill>
                <a:latin typeface="Arial"/>
                <a:ea typeface="標楷體"/>
              </a:rPr>
              <a:t>彈性時間規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928880" y="2421000"/>
            <a:ext cx="748008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ea typeface="標楷體"/>
                <a:hlinkClick r:id="rId2"/>
              </a:rPr>
              <a:t>學校彈性課程學習節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ea typeface="標楷體"/>
                <a:hlinkClick r:id="rId4"/>
              </a:rPr>
              <a:t>彈性課程活動規劃總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2786879408_57ed6680fa"/>
          <p:cNvPicPr/>
          <p:nvPr/>
        </p:nvPicPr>
        <p:blipFill>
          <a:blip r:embed="rId1"/>
          <a:stretch/>
        </p:blipFill>
        <p:spPr>
          <a:xfrm>
            <a:off x="1928880" y="2133720"/>
            <a:ext cx="6054480" cy="45417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0"/>
          <p:cNvSpPr txBox="1"/>
          <p:nvPr/>
        </p:nvSpPr>
        <p:spPr>
          <a:xfrm rot="20158800">
            <a:off x="2215800" y="134100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8" name="WordArt 12"/>
          <p:cNvSpPr txBox="1"/>
          <p:nvPr/>
        </p:nvSpPr>
        <p:spPr>
          <a:xfrm rot="792000">
            <a:off x="3584520" y="620280"/>
            <a:ext cx="72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ＭＳ Ｐゴシック"/>
              </a:rPr>
              <a:t>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69" name="WordArt 13"/>
          <p:cNvSpPr txBox="1"/>
          <p:nvPr/>
        </p:nvSpPr>
        <p:spPr>
          <a:xfrm rot="20256000">
            <a:off x="4736880" y="119664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ＭＳ Ｐゴシック"/>
              </a:rPr>
              <a:t>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70" name="WordArt 14"/>
          <p:cNvSpPr txBox="1"/>
          <p:nvPr/>
        </p:nvSpPr>
        <p:spPr>
          <a:xfrm rot="792000">
            <a:off x="6321600" y="836280"/>
            <a:ext cx="720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ＭＳ Ｐゴシック"/>
              </a:rPr>
              <a:t>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  <p:sp>
        <p:nvSpPr>
          <p:cNvPr id="271" name="WordArt 15"/>
          <p:cNvSpPr txBox="1"/>
          <p:nvPr/>
        </p:nvSpPr>
        <p:spPr>
          <a:xfrm rot="792000">
            <a:off x="7400880" y="1700280"/>
            <a:ext cx="147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ＭＳ Ｐゴシック"/>
              </a:rPr>
              <a:t>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ＭＳ Ｐゴシック"/>
              <a:ea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62064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東信樂園學校本位</a:t>
            </a:r>
            <a:br>
              <a:rPr sz="4400"/>
            </a:br>
            <a:r>
              <a:rPr b="0" lang="zh-TW" sz="4400" spc="-1" strike="noStrike">
                <a:solidFill>
                  <a:srgbClr val="ff0000"/>
                </a:solidFill>
                <a:latin typeface="Arial"/>
              </a:rPr>
              <a:t>橫向主題統整架構圖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"/>
          <p:cNvGrpSpPr/>
          <p:nvPr/>
        </p:nvGrpSpPr>
        <p:grpSpPr>
          <a:xfrm>
            <a:off x="1595520" y="1643040"/>
            <a:ext cx="6572160" cy="4785840"/>
            <a:chOff x="1595520" y="1643040"/>
            <a:chExt cx="6572160" cy="4785840"/>
          </a:xfrm>
        </p:grpSpPr>
        <p:sp>
          <p:nvSpPr>
            <p:cNvPr id="93" name="AutoShape 3"/>
            <p:cNvSpPr/>
            <p:nvPr/>
          </p:nvSpPr>
          <p:spPr>
            <a:xfrm>
              <a:off x="1595520" y="1696680"/>
              <a:ext cx="6572160" cy="4732200"/>
            </a:xfrm>
            <a:prstGeom prst="hexagon">
              <a:avLst>
                <a:gd name="adj" fmla="val 34720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3146040" y="2706480"/>
              <a:ext cx="3366000" cy="28872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3222720" y="1696680"/>
              <a:ext cx="334152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V="1">
              <a:off x="3197880" y="1696320"/>
              <a:ext cx="3279240" cy="47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1595520" y="4033440"/>
              <a:ext cx="65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3999960" y="3398040"/>
              <a:ext cx="1762560" cy="144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4371840" y="3617640"/>
              <a:ext cx="1481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東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8000"/>
                  </a:solidFill>
                  <a:latin typeface="Calibri"/>
                </a:rPr>
                <a:t>樂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4480200" y="2675880"/>
              <a:ext cx="77616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1"/>
            <p:cNvSpPr/>
            <p:nvPr/>
          </p:nvSpPr>
          <p:spPr>
            <a:xfrm>
              <a:off x="5602320" y="3109320"/>
              <a:ext cx="73872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alibri"/>
                </a:rPr>
                <a:t>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5740200" y="4119120"/>
              <a:ext cx="87228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4401360" y="4841280"/>
              <a:ext cx="103392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3358440" y="4119120"/>
              <a:ext cx="8136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ff"/>
                  </a:solidFill>
                  <a:latin typeface="Calibri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3441960" y="3162240"/>
              <a:ext cx="813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Calibri"/>
                </a:rPr>
                <a:t>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4320000" y="1643040"/>
              <a:ext cx="134352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快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7"/>
            <p:cNvSpPr/>
            <p:nvPr/>
          </p:nvSpPr>
          <p:spPr>
            <a:xfrm>
              <a:off x="6244560" y="2532240"/>
              <a:ext cx="118188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話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8"/>
            <p:cNvSpPr/>
            <p:nvPr/>
          </p:nvSpPr>
          <p:spPr>
            <a:xfrm>
              <a:off x="6501960" y="4377960"/>
              <a:ext cx="12700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4307760" y="5504040"/>
              <a:ext cx="12880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動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2409120" y="2520360"/>
              <a:ext cx="108468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深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2364840" y="4407840"/>
              <a:ext cx="126432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彩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ff"/>
                  </a:solidFill>
                  <a:latin typeface="Calibri"/>
                </a:rPr>
                <a:t>東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0"/>
          <p:cNvGrpSpPr/>
          <p:nvPr/>
        </p:nvGrpSpPr>
        <p:grpSpPr>
          <a:xfrm>
            <a:off x="776160" y="260280"/>
            <a:ext cx="7572600" cy="6345360"/>
            <a:chOff x="776160" y="260280"/>
            <a:chExt cx="7572600" cy="6345360"/>
          </a:xfrm>
        </p:grpSpPr>
        <p:sp>
          <p:nvSpPr>
            <p:cNvPr id="113" name="Oval 41"/>
            <p:cNvSpPr/>
            <p:nvPr/>
          </p:nvSpPr>
          <p:spPr>
            <a:xfrm>
              <a:off x="3657240" y="1072440"/>
              <a:ext cx="1861920" cy="13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2"/>
            <p:cNvSpPr/>
            <p:nvPr/>
          </p:nvSpPr>
          <p:spPr>
            <a:xfrm>
              <a:off x="4073760" y="26028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3"/>
            <p:cNvSpPr/>
            <p:nvPr/>
          </p:nvSpPr>
          <p:spPr>
            <a:xfrm>
              <a:off x="7761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4"/>
            <p:cNvSpPr/>
            <p:nvPr/>
          </p:nvSpPr>
          <p:spPr>
            <a:xfrm>
              <a:off x="4451040" y="2441880"/>
              <a:ext cx="312480" cy="272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5"/>
            <p:cNvSpPr/>
            <p:nvPr/>
          </p:nvSpPr>
          <p:spPr>
            <a:xfrm>
              <a:off x="1272240" y="2729160"/>
              <a:ext cx="65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>
              <a:off x="1272240" y="2729160"/>
              <a:ext cx="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7"/>
            <p:cNvSpPr/>
            <p:nvPr/>
          </p:nvSpPr>
          <p:spPr>
            <a:xfrm>
              <a:off x="5244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>
              <a:off x="400356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>
              <a:off x="263808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0"/>
            <p:cNvSpPr/>
            <p:nvPr/>
          </p:nvSpPr>
          <p:spPr>
            <a:xfrm>
              <a:off x="7852320" y="2729160"/>
              <a:ext cx="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>
              <a:off x="6486840" y="2729160"/>
              <a:ext cx="36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1265040" y="3599280"/>
              <a:ext cx="7560" cy="60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3"/>
            <p:cNvSpPr/>
            <p:nvPr/>
          </p:nvSpPr>
          <p:spPr>
            <a:xfrm>
              <a:off x="263808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4"/>
            <p:cNvSpPr/>
            <p:nvPr/>
          </p:nvSpPr>
          <p:spPr>
            <a:xfrm>
              <a:off x="400356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>
              <a:off x="5244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6"/>
            <p:cNvSpPr/>
            <p:nvPr/>
          </p:nvSpPr>
          <p:spPr>
            <a:xfrm>
              <a:off x="6486840" y="3515760"/>
              <a:ext cx="36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7"/>
            <p:cNvSpPr/>
            <p:nvPr/>
          </p:nvSpPr>
          <p:spPr>
            <a:xfrm>
              <a:off x="7852320" y="3515760"/>
              <a:ext cx="72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8"/>
            <p:cNvSpPr/>
            <p:nvPr/>
          </p:nvSpPr>
          <p:spPr>
            <a:xfrm>
              <a:off x="2559240" y="895320"/>
              <a:ext cx="86940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9"/>
            <p:cNvSpPr/>
            <p:nvPr/>
          </p:nvSpPr>
          <p:spPr>
            <a:xfrm>
              <a:off x="5632920" y="912960"/>
              <a:ext cx="869400" cy="45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60"/>
            <p:cNvSpPr/>
            <p:nvPr/>
          </p:nvSpPr>
          <p:spPr>
            <a:xfrm>
              <a:off x="5950800" y="1647000"/>
              <a:ext cx="86868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61"/>
            <p:cNvSpPr/>
            <p:nvPr/>
          </p:nvSpPr>
          <p:spPr>
            <a:xfrm>
              <a:off x="2304720" y="1647000"/>
              <a:ext cx="868320" cy="46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2"/>
            <p:cNvSpPr/>
            <p:nvPr/>
          </p:nvSpPr>
          <p:spPr>
            <a:xfrm>
              <a:off x="338292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3"/>
            <p:cNvSpPr/>
            <p:nvPr/>
          </p:nvSpPr>
          <p:spPr>
            <a:xfrm>
              <a:off x="462456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4"/>
            <p:cNvSpPr/>
            <p:nvPr/>
          </p:nvSpPr>
          <p:spPr>
            <a:xfrm>
              <a:off x="58658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5"/>
            <p:cNvSpPr/>
            <p:nvPr/>
          </p:nvSpPr>
          <p:spPr>
            <a:xfrm>
              <a:off x="723168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6"/>
            <p:cNvSpPr/>
            <p:nvPr/>
          </p:nvSpPr>
          <p:spPr>
            <a:xfrm>
              <a:off x="2141640" y="3024000"/>
              <a:ext cx="1117080" cy="574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4527360" y="738000"/>
              <a:ext cx="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259960" y="1072800"/>
              <a:ext cx="35424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9"/>
            <p:cNvSpPr/>
            <p:nvPr/>
          </p:nvSpPr>
          <p:spPr>
            <a:xfrm flipH="1" flipV="1">
              <a:off x="3448080" y="1145880"/>
              <a:ext cx="386640" cy="20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0"/>
            <p:cNvSpPr/>
            <p:nvPr/>
          </p:nvSpPr>
          <p:spPr>
            <a:xfrm flipH="1">
              <a:off x="3216240" y="1832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1"/>
            <p:cNvSpPr/>
            <p:nvPr/>
          </p:nvSpPr>
          <p:spPr>
            <a:xfrm>
              <a:off x="5529960" y="1859040"/>
              <a:ext cx="42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2"/>
            <p:cNvSpPr/>
            <p:nvPr/>
          </p:nvSpPr>
          <p:spPr>
            <a:xfrm>
              <a:off x="7761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3"/>
            <p:cNvSpPr/>
            <p:nvPr/>
          </p:nvSpPr>
          <p:spPr>
            <a:xfrm>
              <a:off x="2178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4"/>
            <p:cNvSpPr/>
            <p:nvPr/>
          </p:nvSpPr>
          <p:spPr>
            <a:xfrm>
              <a:off x="344052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5"/>
            <p:cNvSpPr/>
            <p:nvPr/>
          </p:nvSpPr>
          <p:spPr>
            <a:xfrm>
              <a:off x="470268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6"/>
            <p:cNvSpPr/>
            <p:nvPr/>
          </p:nvSpPr>
          <p:spPr>
            <a:xfrm>
              <a:off x="596484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東信海洋祭（社會、自然、海洋、資訊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迷惘少年時（語文、健體、綜合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和家人一起成長（綜合、社會、家庭、生命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7"/>
            <p:cNvSpPr/>
            <p:nvPr/>
          </p:nvSpPr>
          <p:spPr>
            <a:xfrm>
              <a:off x="7353360" y="4190400"/>
              <a:ext cx="993240" cy="241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79"/>
          <p:cNvSpPr/>
          <p:nvPr/>
        </p:nvSpPr>
        <p:spPr>
          <a:xfrm>
            <a:off x="415800" y="26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上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1424160" y="0"/>
            <a:ext cx="7000200" cy="6572160"/>
            <a:chOff x="1424160" y="0"/>
            <a:chExt cx="7000200" cy="6572160"/>
          </a:xfrm>
        </p:grpSpPr>
        <p:sp>
          <p:nvSpPr>
            <p:cNvPr id="152" name="AutoShape 3"/>
            <p:cNvSpPr/>
            <p:nvPr/>
          </p:nvSpPr>
          <p:spPr>
            <a:xfrm>
              <a:off x="1424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一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快樂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1882080" y="2577600"/>
              <a:ext cx="607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 flipH="1">
              <a:off x="1881000" y="2577600"/>
              <a:ext cx="36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554904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440316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31428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795600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6695280" y="2577600"/>
              <a:ext cx="3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1872720" y="3477600"/>
              <a:ext cx="1008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31428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440316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554904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669528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7956000" y="3384720"/>
              <a:ext cx="36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7"/>
            <p:cNvSpPr/>
            <p:nvPr/>
          </p:nvSpPr>
          <p:spPr>
            <a:xfrm>
              <a:off x="38300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三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探索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8"/>
            <p:cNvSpPr/>
            <p:nvPr/>
          </p:nvSpPr>
          <p:spPr>
            <a:xfrm>
              <a:off x="497664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四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動感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9"/>
            <p:cNvSpPr/>
            <p:nvPr/>
          </p:nvSpPr>
          <p:spPr>
            <a:xfrm>
              <a:off x="612216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五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ff"/>
                  </a:solidFill>
                  <a:latin typeface="Calibri"/>
                </a:rPr>
                <a:t>彩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0"/>
            <p:cNvSpPr/>
            <p:nvPr/>
          </p:nvSpPr>
          <p:spPr>
            <a:xfrm>
              <a:off x="7382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六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深情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1"/>
            <p:cNvSpPr/>
            <p:nvPr/>
          </p:nvSpPr>
          <p:spPr>
            <a:xfrm>
              <a:off x="2684520" y="2880360"/>
              <a:ext cx="1031040" cy="5893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二年級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Calibri"/>
                </a:rPr>
                <a:t>話說東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4094280" y="833400"/>
              <a:ext cx="1718640" cy="136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東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600" spc="-1" strike="noStrike">
                  <a:solidFill>
                    <a:srgbClr val="000000"/>
                  </a:solidFill>
                  <a:latin typeface="Calibri"/>
                </a:rPr>
                <a:t>樂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3"/>
            <p:cNvSpPr/>
            <p:nvPr/>
          </p:nvSpPr>
          <p:spPr>
            <a:xfrm>
              <a:off x="4478760" y="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自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4"/>
            <p:cNvSpPr/>
            <p:nvPr/>
          </p:nvSpPr>
          <p:spPr>
            <a:xfrm>
              <a:off x="4826880" y="2238120"/>
              <a:ext cx="288360" cy="280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5"/>
            <p:cNvSpPr/>
            <p:nvPr/>
          </p:nvSpPr>
          <p:spPr>
            <a:xfrm>
              <a:off x="3080880" y="651600"/>
              <a:ext cx="80244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榮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6"/>
            <p:cNvSpPr/>
            <p:nvPr/>
          </p:nvSpPr>
          <p:spPr>
            <a:xfrm>
              <a:off x="5917680" y="669600"/>
              <a:ext cx="80244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尊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7"/>
            <p:cNvSpPr/>
            <p:nvPr/>
          </p:nvSpPr>
          <p:spPr>
            <a:xfrm>
              <a:off x="6211080" y="1422720"/>
              <a:ext cx="80172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民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8"/>
            <p:cNvSpPr/>
            <p:nvPr/>
          </p:nvSpPr>
          <p:spPr>
            <a:xfrm>
              <a:off x="2845800" y="1422720"/>
              <a:ext cx="801360" cy="471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alibri"/>
                </a:rPr>
                <a:t>創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4897440" y="490320"/>
              <a:ext cx="0" cy="32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V="1">
              <a:off x="5573520" y="845280"/>
              <a:ext cx="326880" cy="2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H="1" flipV="1">
              <a:off x="3900960" y="919440"/>
              <a:ext cx="357120" cy="18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H="1">
              <a:off x="3687120" y="161244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5823000" y="1640160"/>
              <a:ext cx="38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4"/>
            <p:cNvSpPr/>
            <p:nvPr/>
          </p:nvSpPr>
          <p:spPr>
            <a:xfrm>
              <a:off x="14241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5"/>
            <p:cNvSpPr/>
            <p:nvPr/>
          </p:nvSpPr>
          <p:spPr>
            <a:xfrm>
              <a:off x="271836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504864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6213240" y="4077000"/>
              <a:ext cx="91692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海洋繽紛樂（海洋、自然、社會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自我追尋之旅（語文、生命、性侵害防治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ff"/>
                  </a:solidFill>
                  <a:latin typeface="標楷體"/>
                </a:rPr>
                <a:t>心情轉換站（語文、社會、生命、性別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8"/>
            <p:cNvSpPr/>
            <p:nvPr/>
          </p:nvSpPr>
          <p:spPr>
            <a:xfrm>
              <a:off x="7507800" y="407700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>
              <a:off x="3884760" y="4093920"/>
              <a:ext cx="916560" cy="24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41"/>
          <p:cNvSpPr/>
          <p:nvPr/>
        </p:nvSpPr>
        <p:spPr>
          <a:xfrm>
            <a:off x="380880" y="285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0000"/>
                </a:solidFill>
                <a:latin typeface="標楷體"/>
                <a:ea typeface="新細明體"/>
              </a:rPr>
              <a:t>下學期</a:t>
            </a:r>
            <a:r>
              <a:rPr b="0" lang="zh-TW" sz="1800" spc="-1" strike="noStrike">
                <a:solidFill>
                  <a:srgbClr val="cc0000"/>
                </a:solidFill>
                <a:latin typeface="Arial"/>
                <a:ea typeface="新細明體"/>
              </a:rPr>
              <a:t>學校本位橫向主題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7"/>
          <p:cNvSpPr/>
          <p:nvPr/>
        </p:nvSpPr>
        <p:spPr>
          <a:xfrm>
            <a:off x="4524480" y="2565360"/>
            <a:ext cx="2157480" cy="207792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上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3657600" y="2492280"/>
            <a:ext cx="1003320" cy="5889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和家人一起成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4738680" y="4786200"/>
            <a:ext cx="1087560" cy="587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迷惘少年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7905600" y="692280"/>
            <a:ext cx="1513080" cy="1800000"/>
          </a:xfrm>
          <a:prstGeom prst="wedgeRectCallout">
            <a:avLst>
              <a:gd name="adj1" fmla="val -72875"/>
              <a:gd name="adj2" fmla="val 5008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認識海洋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GoGo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魚市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船舶設計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5600880" y="765000"/>
            <a:ext cx="1079280" cy="1584360"/>
          </a:xfrm>
          <a:prstGeom prst="wedgeRectCallout">
            <a:avLst>
              <a:gd name="adj1" fmla="val 52648"/>
              <a:gd name="adj2" fmla="val 66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前進中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港邊風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社會領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80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1928880" y="404640"/>
            <a:ext cx="1257120" cy="2651400"/>
          </a:xfrm>
          <a:prstGeom prst="wedgeRectCallout">
            <a:avLst>
              <a:gd name="adj1" fmla="val 87879"/>
              <a:gd name="adj2" fmla="val 2640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相聚的時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休閒中成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活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安排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藝術與人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2649600" y="4005360"/>
            <a:ext cx="1511280" cy="1871640"/>
          </a:xfrm>
          <a:prstGeom prst="wedgeRectCallout">
            <a:avLst>
              <a:gd name="adj1" fmla="val 81300"/>
              <a:gd name="adj2" fmla="val 165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逃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迷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男？生女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6608880" y="4076640"/>
            <a:ext cx="1511280" cy="2303640"/>
          </a:xfrm>
          <a:prstGeom prst="wedgeRectCallout">
            <a:avLst>
              <a:gd name="adj1" fmla="val -96009"/>
              <a:gd name="adj2" fmla="val -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男女大進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彩虹物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新聞中學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知多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、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健康與體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綜合活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5"/>
          <p:cNvSpPr/>
          <p:nvPr/>
        </p:nvSpPr>
        <p:spPr>
          <a:xfrm>
            <a:off x="6465960" y="2637000"/>
            <a:ext cx="1295280" cy="5871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東信海洋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3"/>
          <p:cNvSpPr/>
          <p:nvPr/>
        </p:nvSpPr>
        <p:spPr>
          <a:xfrm>
            <a:off x="2936880" y="2924280"/>
            <a:ext cx="140184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alibri"/>
              </a:rPr>
              <a:t>心情轉換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081240" y="333360"/>
            <a:ext cx="1303560" cy="2000160"/>
          </a:xfrm>
          <a:prstGeom prst="wedgeRectCallout">
            <a:avLst>
              <a:gd name="adj1" fmla="val -27342"/>
              <a:gd name="adj2" fmla="val 7452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該負責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情境變辨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小小紀錄家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別平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6608880" y="333360"/>
            <a:ext cx="1404720" cy="2519280"/>
          </a:xfrm>
          <a:prstGeom prst="wedgeRectCallout">
            <a:avLst>
              <a:gd name="adj1" fmla="val -8759"/>
              <a:gd name="adj2" fmla="val 670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鯨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奇不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2.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蟹將點兵囉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3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雕刻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4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旅行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5.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的哀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自然與生活科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社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海洋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家庭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6600"/>
                </a:solidFill>
                <a:latin typeface="Calibri"/>
              </a:rPr>
              <a:t>資訊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4952880" y="4365720"/>
            <a:ext cx="1257480" cy="571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Calibri"/>
              </a:rPr>
              <a:t>自我追尋之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008160" y="4653000"/>
            <a:ext cx="1239840" cy="1428840"/>
          </a:xfrm>
          <a:prstGeom prst="wedgeRectCallout">
            <a:avLst>
              <a:gd name="adj1" fmla="val 98527"/>
              <a:gd name="adj2" fmla="val -4322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孤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紀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性侵害防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6321600" y="5013360"/>
            <a:ext cx="1099800" cy="1285920"/>
          </a:xfrm>
          <a:prstGeom prst="wedgeRectCallout">
            <a:avLst>
              <a:gd name="adj1" fmla="val -52597"/>
              <a:gd name="adj2" fmla="val -6864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活動內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王賣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融入領域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語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◎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重要議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命教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452840" y="2349360"/>
            <a:ext cx="2084400" cy="19512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彩繪東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9800" y="-360"/>
            <a:ext cx="86508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ff0066"/>
                </a:solidFill>
                <a:latin typeface="標楷體"/>
                <a:ea typeface="標楷體"/>
              </a:rPr>
              <a:t>五年級下學期學校本位課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6"/>
          <p:cNvSpPr/>
          <p:nvPr/>
        </p:nvSpPr>
        <p:spPr>
          <a:xfrm>
            <a:off x="920880" y="981000"/>
            <a:ext cx="79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66"/>
                </a:solidFill>
                <a:latin typeface="標楷體"/>
                <a:ea typeface="標楷體"/>
              </a:rPr>
              <a:t>主題統整架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6681960" y="3357720"/>
            <a:ext cx="1392120" cy="571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海洋繽紛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2520" y="363600"/>
            <a:ext cx="756144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東信國小學校本位「東信樂園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彩繪東信」 </a:t>
            </a:r>
            <a:br>
              <a:rPr sz="2600"/>
            </a:br>
            <a:r>
              <a:rPr b="1" lang="zh-TW" sz="2600" spc="-1" strike="noStrike">
                <a:solidFill>
                  <a:srgbClr val="ff0000"/>
                </a:solidFill>
                <a:latin typeface="Arial"/>
              </a:rPr>
              <a:t>主題統整教學活動說明（五上）</a:t>
            </a: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23800" y="1571760"/>
          <a:ext cx="9001080" cy="4746600"/>
        </p:xfrm>
        <a:graphic>
          <a:graphicData uri="http://schemas.openxmlformats.org/drawingml/2006/table">
            <a:tbl>
              <a:tblPr/>
              <a:tblGrid>
                <a:gridCol w="1125720"/>
                <a:gridCol w="1766880"/>
                <a:gridCol w="2573280"/>
                <a:gridCol w="1123920"/>
                <a:gridCol w="1125360"/>
                <a:gridCol w="1285920"/>
              </a:tblGrid>
              <a:tr h="114300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71400">
                <a:tc rowSpan="2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逃出〝迷宮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分組閱讀《青春跌入了迷宮》並進行心得報告與討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-1-1-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生男？生女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過去社會中對於男女性別的看法進行資料蒐集，並討論是否適宜於現代社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4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-2-1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資訊教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80880" y="357120"/>
          <a:ext cx="9239400" cy="6307200"/>
        </p:xfrm>
        <a:graphic>
          <a:graphicData uri="http://schemas.openxmlformats.org/drawingml/2006/table">
            <a:tbl>
              <a:tblPr/>
              <a:tblGrid>
                <a:gridCol w="1155960"/>
                <a:gridCol w="1812960"/>
                <a:gridCol w="2641320"/>
                <a:gridCol w="1154160"/>
                <a:gridCol w="1155600"/>
                <a:gridCol w="1319400"/>
              </a:tblGrid>
              <a:tr h="1268280"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主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活動內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融入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能力指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0040" rIns="50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要議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學節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040">
                <a:tc rowSpan="4">
                  <a:txBody>
                    <a:bodyPr lIns="50040" rIns="500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迷惘少年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男女大進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了解男女生理構造的不同以及了解如何調適及處理青春期生理變化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綜合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彩虹物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針對同性戀議題介紹其成因及其性行為異常之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從新聞中學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藉由閱讀性侵害防治新聞引導學童了解身體是屬於自己，我們要好好保護，並能拒絕任何不舒服的身體接觸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語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3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性侵害知多少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細圓體"/>
                          <a:ea typeface="標楷體"/>
                        </a:rPr>
                        <a:t>在討論完新聞後，來明白對於性侵害防法的了解性，並學會正確的防範方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社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健康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體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-3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-2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-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別平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性侵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防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〈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節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07:19:44Z</dcterms:created>
  <dc:creator>FHL</dc:creator>
  <dc:description/>
  <cp:keywords/>
  <dc:language>en-US</dc:language>
  <cp:lastModifiedBy>SuperXP</cp:lastModifiedBy>
  <dcterms:modified xsi:type="dcterms:W3CDTF">2012-08-06T00:52:47Z</dcterms:modified>
  <cp:revision>319</cp:revision>
  <dc:subject/>
  <dc:title>東信國小94學年度五年級 課程計畫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46041028</vt:lpwstr>
  </property>
</Properties>
</file>