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C85D-E74E-4434-99C4-EC00EA48DD5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AA4D-EF7B-4433-AC08-0CEE0D955627}" type="slidenum">
              <a:rPr b="0" lang="zh-TW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37C8-BD96-43B4-ACE8-84195330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F74-E0F2-42E1-9D04-3FF22AE0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8B2-8BF3-4B98-8571-922E0574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92D-A690-4B7F-9B1E-8DEB3F00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F772-4B11-4477-9AE2-F2C304AE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313F-790D-47C0-8BF9-56A0FEA5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E767-2DD7-4386-BCDC-94DB69A2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3909-5118-4BF0-815B-798DBD07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4354-AD1A-4FD0-86A7-6DA570BB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31C0-36FC-4628-96FF-E7CB11D8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DB04-4E1D-4C9E-8DD0-6C50F4EC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7CF-E2E0-469F-BD72-D13691BF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2294-F9E5-40C9-A8E3-1E0C9D7B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8C8A-DD5A-415A-A652-31AF8720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5188-BF5C-4275-9F78-1DAF9D1B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AB99-7CF4-4B9C-B506-697AE271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0900-8C60-4328-8561-2D44CCD0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DD0-8B90-461F-BEC8-2B1B7D08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2B0-1632-44C0-8828-FED4579D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E986-3781-4789-81DE-03CB9E61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845-02C8-4F53-85EE-F1FFB456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6157-7821-4803-9806-BBAE7FFA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01C-0A61-4B4B-BC45-3965C0A1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D0D7-B762-4F69-BB49-6489ED48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1800"/>
                <a:ext cx="1834200" cy="1667520"/>
                <a:chOff x="852120" y="4051800"/>
                <a:chExt cx="1834200" cy="16675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1880" y="3936600"/>
                  <a:ext cx="477360" cy="123948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9480"/>
                    <a:gd name="textAreaBottom" fmla="*/ 1239840 h 12394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58360" y="4978440"/>
                  <a:ext cx="110520" cy="5086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8680"/>
                    <a:gd name="textAreaBottom" fmla="*/ 509040 h 5086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840" y="5567400"/>
                  <a:ext cx="200880" cy="8568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EB1B-EA47-4390-BE38-C43FC90D7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56880"/>
              <a:ext cx="3623400" cy="6135840"/>
              <a:chOff x="5407200" y="56880"/>
              <a:chExt cx="3623400" cy="61358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6200" y="341280"/>
                <a:ext cx="2111760" cy="2355120"/>
              </a:xfrm>
              <a:custGeom>
                <a:avLst/>
                <a:gdLst>
                  <a:gd name="textAreaLeft" fmla="*/ 0 w 2111760"/>
                  <a:gd name="textAreaRight" fmla="*/ 2112120 w 2111760"/>
                  <a:gd name="textAreaTop" fmla="*/ 360 h 2355120"/>
                  <a:gd name="textAreaBottom" fmla="*/ 2355840 h 235512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3560" y="1957680"/>
                <a:ext cx="904680" cy="842040"/>
              </a:xfrm>
              <a:custGeom>
                <a:avLst/>
                <a:gdLst>
                  <a:gd name="textAreaLeft" fmla="*/ 0 w 904680"/>
                  <a:gd name="textAreaRight" fmla="*/ 905040 w 90468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83720"/>
                <a:ext cx="438480" cy="394920"/>
              </a:xfrm>
              <a:custGeom>
                <a:avLst/>
                <a:gdLst>
                  <a:gd name="textAreaLeft" fmla="*/ 0 w 438480"/>
                  <a:gd name="textAreaRight" fmla="*/ 438840 w 43848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67080"/>
                <a:ext cx="388080" cy="550440"/>
              </a:xfrm>
              <a:custGeom>
                <a:avLst/>
                <a:gdLst>
                  <a:gd name="textAreaLeft" fmla="*/ 0 w 388080"/>
                  <a:gd name="textAreaRight" fmla="*/ 388440 w 388080"/>
                  <a:gd name="textAreaTop" fmla="*/ -360 h 550440"/>
                  <a:gd name="textAreaBottom" fmla="*/ 550440 h 55044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8520" y="264744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3760" y="1239480"/>
                <a:ext cx="189720" cy="14292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120" y="2932920"/>
                <a:ext cx="522720" cy="3265920"/>
              </a:xfrm>
              <a:custGeom>
                <a:avLst/>
                <a:gdLst>
                  <a:gd name="textAreaLeft" fmla="*/ 0 w 522720"/>
                  <a:gd name="textAreaRight" fmla="*/ 523080 w 522720"/>
                  <a:gd name="textAreaTop" fmla="*/ 360 h 3265920"/>
                  <a:gd name="textAreaBottom" fmla="*/ 3266640 h 32659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960" y="293760"/>
              <a:ext cx="895680" cy="820800"/>
              <a:chOff x="5646960" y="293760"/>
              <a:chExt cx="895680" cy="8208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783000"/>
                <a:ext cx="180720" cy="36180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080" y="464760"/>
                <a:ext cx="308520" cy="30060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1760" y="394920"/>
                <a:ext cx="321480" cy="153000"/>
              </a:xfrm>
              <a:custGeom>
                <a:avLst/>
                <a:gdLst>
                  <a:gd name="textAreaLeft" fmla="*/ 0 w 321480"/>
                  <a:gd name="textAreaRight" fmla="*/ 321840 w 32148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7080"/>
              <a:ext cx="1059120" cy="833400"/>
              <a:chOff x="968760" y="5257080"/>
              <a:chExt cx="105912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19880"/>
                <a:ext cx="250920" cy="3013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920" y="5734440"/>
                <a:ext cx="429480" cy="25020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50200"/>
                  <a:gd name="textAreaBottom" fmla="*/ 250560 h 2502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744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7E57-967D-46A3-A116-36BAB2821E55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971640" y="909720"/>
            <a:ext cx="720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東信國小</a:t>
            </a:r>
            <a:r>
              <a:rPr b="1" lang="en-US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101</a:t>
            </a: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學年度</a:t>
            </a:r>
            <a:br>
              <a:rPr sz="4000"/>
            </a:br>
            <a:br>
              <a:rPr sz="4000"/>
            </a:b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課程計畫簡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9" descr="j0336075"/>
          <p:cNvPicPr/>
          <p:nvPr/>
        </p:nvPicPr>
        <p:blipFill>
          <a:blip r:embed="rId1"/>
          <a:stretch/>
        </p:blipFill>
        <p:spPr>
          <a:xfrm>
            <a:off x="2913120" y="3201840"/>
            <a:ext cx="33876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AutoShape 4"/>
          <p:cNvSpPr/>
          <p:nvPr/>
        </p:nvSpPr>
        <p:spPr>
          <a:xfrm>
            <a:off x="3276720" y="1339920"/>
            <a:ext cx="2519280" cy="1958760"/>
          </a:xfrm>
          <a:prstGeom prst="sun">
            <a:avLst>
              <a:gd name="adj" fmla="val 20967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Arial"/>
              </a:rPr>
              <a:t>探索東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3780000" y="907920"/>
            <a:ext cx="1800000" cy="457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二、海洋的禮物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1692360" y="2924280"/>
            <a:ext cx="1942920" cy="438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一、小小園丁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5580000" y="2924280"/>
            <a:ext cx="2087640" cy="423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三、男女翹翹板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468360" y="260280"/>
            <a:ext cx="81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上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9640" y="3573360"/>
          <a:ext cx="8137800" cy="3022560"/>
        </p:xfrm>
        <a:graphic>
          <a:graphicData uri="http://schemas.openxmlformats.org/drawingml/2006/table">
            <a:tbl>
              <a:tblPr/>
              <a:tblGrid>
                <a:gridCol w="1016280"/>
                <a:gridCol w="1525320"/>
                <a:gridCol w="3983040"/>
                <a:gridCol w="758880"/>
                <a:gridCol w="854280"/>
              </a:tblGrid>
              <a:tr h="432000"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活動主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活動內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融入領域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六大及重要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 rowSpan="4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海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洋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的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禮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物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超級變變變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藉由資料蒐集，認識水污染的來源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語文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閱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環境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生涯發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海洋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打造魚兒的家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經由繪畫的方式，畫出魚兒在海洋中生活的景象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語文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閱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環境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家政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海洋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奇幻世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走出校園透過參訪活動，了解海洋與日常生活的關係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藝術與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人文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環境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生涯發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海洋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小水滴遊記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知道減少水污染的方法並體會環保行動的重要性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健體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國防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生涯發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海洋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4"/>
          <p:cNvSpPr/>
          <p:nvPr/>
        </p:nvSpPr>
        <p:spPr>
          <a:xfrm>
            <a:off x="3276720" y="1339920"/>
            <a:ext cx="2519280" cy="1958760"/>
          </a:xfrm>
          <a:prstGeom prst="sun">
            <a:avLst>
              <a:gd name="adj" fmla="val 20967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Arial"/>
              </a:rPr>
              <a:t>探索東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80000" y="907920"/>
            <a:ext cx="18000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二、海洋的禮物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AutoShape 6"/>
          <p:cNvSpPr/>
          <p:nvPr/>
        </p:nvSpPr>
        <p:spPr>
          <a:xfrm>
            <a:off x="1692360" y="2924280"/>
            <a:ext cx="1942920" cy="438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一、小小園丁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AutoShape 7"/>
          <p:cNvSpPr/>
          <p:nvPr/>
        </p:nvSpPr>
        <p:spPr>
          <a:xfrm>
            <a:off x="5580000" y="2924280"/>
            <a:ext cx="2087640" cy="42372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三、男女翹翹板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Rectangle 15"/>
          <p:cNvSpPr/>
          <p:nvPr/>
        </p:nvSpPr>
        <p:spPr>
          <a:xfrm>
            <a:off x="468360" y="260280"/>
            <a:ext cx="81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上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539640" y="4005360"/>
          <a:ext cx="8137800" cy="2158920"/>
        </p:xfrm>
        <a:graphic>
          <a:graphicData uri="http://schemas.openxmlformats.org/drawingml/2006/table">
            <a:tbl>
              <a:tblPr/>
              <a:tblGrid>
                <a:gridCol w="1016280"/>
                <a:gridCol w="1525320"/>
                <a:gridCol w="3983040"/>
                <a:gridCol w="758880"/>
                <a:gridCol w="854280"/>
              </a:tblGrid>
              <a:tr h="431640"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活動主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活動內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融入領域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六大及重要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rowSpan="4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男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板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同學你我他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探討不同社會型態中的各種性角色，體會性別應彼此尊重，並能依照自己的興趣自由發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社會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性別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人權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當我們同在一起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了解與他人相處的方法與態度，體會分工合作在團體中的重要性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社會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性別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人權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身體新視野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藉由認識新生命的產生，學習珍視生命的態度與行為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健體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性別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家庭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禮儀停看聽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透過分組考驗方式，建立性別間團結合作的精神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綜合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生涯發展家政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AutoShape 5"/>
          <p:cNvSpPr/>
          <p:nvPr/>
        </p:nvSpPr>
        <p:spPr>
          <a:xfrm>
            <a:off x="3708360" y="2492280"/>
            <a:ext cx="1781280" cy="3780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二、咱的好所在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1619280" y="4149720"/>
            <a:ext cx="1852560" cy="365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一、蟲蟲日記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5796000" y="4221000"/>
            <a:ext cx="1925640" cy="3654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三、童話花園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900000" y="907920"/>
            <a:ext cx="2737080" cy="1511280"/>
          </a:xfrm>
          <a:prstGeom prst="wedgeRectCallout">
            <a:avLst>
              <a:gd name="adj1" fmla="val 40240"/>
              <a:gd name="adj2" fmla="val 62185"/>
            </a:avLst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我們居住的地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地方特色與居民的特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融入領域：社會、資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重要議題：、性別教育、家庭教育、海洋教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324000" y="4869000"/>
            <a:ext cx="1944360" cy="1734840"/>
          </a:xfrm>
          <a:prstGeom prst="wedgeRectCallout">
            <a:avLst>
              <a:gd name="adj1" fmla="val 44976"/>
              <a:gd name="adj2" fmla="val -69490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◎ 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春之嘉年華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融入領域：藝術與人文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重要議題：環境教育、家政教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AutoShape 13"/>
          <p:cNvSpPr/>
          <p:nvPr/>
        </p:nvSpPr>
        <p:spPr>
          <a:xfrm>
            <a:off x="6084720" y="2565360"/>
            <a:ext cx="2880000" cy="1366920"/>
          </a:xfrm>
          <a:prstGeom prst="wedgeRectCallout">
            <a:avLst>
              <a:gd name="adj1" fmla="val -36013"/>
              <a:gd name="adj2" fmla="val 69587"/>
            </a:avLst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◎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花之圓舞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融入領域：語文、藝術與人文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重要議題：人權教育、資訊教育、家政教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AutoShape 14"/>
          <p:cNvSpPr/>
          <p:nvPr/>
        </p:nvSpPr>
        <p:spPr>
          <a:xfrm>
            <a:off x="5435640" y="907920"/>
            <a:ext cx="2160720" cy="1440000"/>
          </a:xfrm>
          <a:prstGeom prst="wedgeRectCallout">
            <a:avLst>
              <a:gd name="adj1" fmla="val -51027"/>
              <a:gd name="adj2" fmla="val 62236"/>
            </a:avLst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◎ 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海洋文化祭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融入領域：海洋教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重要議題：海洋教育、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國防教育、環境教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062960" y="3490560"/>
            <a:ext cx="1018080" cy="61992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Arial"/>
              </a:rPr>
              <a:t>探索東信</a:t>
            </a:r>
            <a:r>
              <a:rPr b="1" lang="zh-TW" sz="12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466560" y="3286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下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AutoShape 10"/>
          <p:cNvSpPr/>
          <p:nvPr/>
        </p:nvSpPr>
        <p:spPr>
          <a:xfrm>
            <a:off x="324000" y="2492280"/>
            <a:ext cx="2303280" cy="1584360"/>
          </a:xfrm>
          <a:prstGeom prst="wedgeRectCallout">
            <a:avLst>
              <a:gd name="adj1" fmla="val 59550"/>
              <a:gd name="adj2" fmla="val 48351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◎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大家來種菜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融入領域：自然、資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重要議題：生命教育、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資訊教育、環境教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AutoShape 10"/>
          <p:cNvSpPr/>
          <p:nvPr/>
        </p:nvSpPr>
        <p:spPr>
          <a:xfrm>
            <a:off x="2556000" y="4869000"/>
            <a:ext cx="1663560" cy="1734840"/>
          </a:xfrm>
          <a:prstGeom prst="wedgeRectCallout">
            <a:avLst>
              <a:gd name="adj1" fmla="val -38037"/>
              <a:gd name="adj2" fmla="val -68023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◎ 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美麗新家園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融入領域：綜合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重要議題：生涯發展、資訊教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AutoShape 13"/>
          <p:cNvSpPr/>
          <p:nvPr/>
        </p:nvSpPr>
        <p:spPr>
          <a:xfrm>
            <a:off x="5651640" y="4724280"/>
            <a:ext cx="3168360" cy="1917720"/>
          </a:xfrm>
          <a:prstGeom prst="wedgeRectCallout">
            <a:avLst>
              <a:gd name="adj1" fmla="val 2972"/>
              <a:gd name="adj2" fmla="val -55680"/>
            </a:avLst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春回大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改編高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走進童話世界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融入領域：語文、閱讀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重要議題：人權教育、資訊教育、生涯發展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5"/>
          <p:cNvSpPr/>
          <p:nvPr/>
        </p:nvSpPr>
        <p:spPr>
          <a:xfrm>
            <a:off x="3708360" y="1052640"/>
            <a:ext cx="1781280" cy="377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二、咱的好所在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1619280" y="2709720"/>
            <a:ext cx="1852560" cy="365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一、蟲蟲日記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AutoShape 7"/>
          <p:cNvSpPr/>
          <p:nvPr/>
        </p:nvSpPr>
        <p:spPr>
          <a:xfrm>
            <a:off x="5796000" y="2781360"/>
            <a:ext cx="1925640" cy="365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三、童話花園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062960" y="2050560"/>
            <a:ext cx="1018080" cy="61992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Arial"/>
              </a:rPr>
              <a:t>探索東信</a:t>
            </a:r>
            <a:r>
              <a:rPr b="1" lang="zh-TW" sz="12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Rectangle 15"/>
          <p:cNvSpPr/>
          <p:nvPr/>
        </p:nvSpPr>
        <p:spPr>
          <a:xfrm>
            <a:off x="466560" y="3286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下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611280" y="3772080"/>
          <a:ext cx="7993080" cy="1950840"/>
        </p:xfrm>
        <a:graphic>
          <a:graphicData uri="http://schemas.openxmlformats.org/drawingml/2006/table">
            <a:tbl>
              <a:tblPr/>
              <a:tblGrid>
                <a:gridCol w="1398600"/>
                <a:gridCol w="1544400"/>
                <a:gridCol w="3467160"/>
                <a:gridCol w="743040"/>
                <a:gridCol w="839880"/>
              </a:tblGrid>
              <a:tr h="426960"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活動主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活動內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融入領域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六大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3"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日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記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大家來種菜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觀察校園中的昆蟲，找出昆蟲的身體特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自然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資訊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環境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生命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資訊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春之嘉年華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經由指印畫的製作，了解昆蟲的身體構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藝術與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人文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環境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家政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美麗新家園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分組或個別實地調查生活環境中的小昆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綜合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生涯發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資訊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AutoShape 5"/>
          <p:cNvSpPr/>
          <p:nvPr/>
        </p:nvSpPr>
        <p:spPr>
          <a:xfrm>
            <a:off x="3708360" y="1052640"/>
            <a:ext cx="1781280" cy="3776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二、咱的好所在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1619280" y="2709720"/>
            <a:ext cx="1852560" cy="365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一、蟲蟲日記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AutoShape 7"/>
          <p:cNvSpPr/>
          <p:nvPr/>
        </p:nvSpPr>
        <p:spPr>
          <a:xfrm>
            <a:off x="5796000" y="2781360"/>
            <a:ext cx="1925640" cy="365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三、童話花園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062960" y="2050560"/>
            <a:ext cx="1018080" cy="61992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Arial"/>
              </a:rPr>
              <a:t>探索東信</a:t>
            </a:r>
            <a:r>
              <a:rPr b="1" lang="zh-TW" sz="12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466560" y="3286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下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9640" y="3817800"/>
          <a:ext cx="7993080" cy="2346480"/>
        </p:xfrm>
        <a:graphic>
          <a:graphicData uri="http://schemas.openxmlformats.org/drawingml/2006/table">
            <a:tbl>
              <a:tblPr/>
              <a:tblGrid>
                <a:gridCol w="1398600"/>
                <a:gridCol w="1544760"/>
                <a:gridCol w="3467160"/>
                <a:gridCol w="743040"/>
                <a:gridCol w="839520"/>
              </a:tblGrid>
              <a:tr h="427320"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活動主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活動內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融入領域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六大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3"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的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好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在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我們居住的地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標楷體"/>
                          <a:ea typeface="Times New Roman"/>
                        </a:rPr>
                        <a:t>透過地名探索的過程，了解家鄉早期的自然環境及人文活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社會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資訊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家庭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性別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海洋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地方特色與居民的特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透過訪問、發表的方式，進一步加深對家鄉的認識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社會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資訊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家庭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性別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海洋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海洋文化祭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認識基隆民俗活動的特色，了解各地民俗活動的差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海洋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環境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海洋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國防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AutoShape 5"/>
          <p:cNvSpPr/>
          <p:nvPr/>
        </p:nvSpPr>
        <p:spPr>
          <a:xfrm>
            <a:off x="3708360" y="1052640"/>
            <a:ext cx="1781280" cy="377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二、咱的好所在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619280" y="2709720"/>
            <a:ext cx="1852560" cy="365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一、蟲蟲日記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5796000" y="2781360"/>
            <a:ext cx="1925640" cy="36504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99"/>
                </a:solidFill>
                <a:latin typeface="Verdana"/>
              </a:rPr>
              <a:t>三、童話花園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062960" y="2050560"/>
            <a:ext cx="1018080" cy="61992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Arial"/>
              </a:rPr>
              <a:t>探索東信</a:t>
            </a:r>
            <a:r>
              <a:rPr b="1" lang="zh-TW" sz="12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Rectangle 15"/>
          <p:cNvSpPr/>
          <p:nvPr/>
        </p:nvSpPr>
        <p:spPr>
          <a:xfrm>
            <a:off x="466560" y="3286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下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611280" y="3630600"/>
          <a:ext cx="7993080" cy="2163600"/>
        </p:xfrm>
        <a:graphic>
          <a:graphicData uri="http://schemas.openxmlformats.org/drawingml/2006/table">
            <a:tbl>
              <a:tblPr/>
              <a:tblGrid>
                <a:gridCol w="1398600"/>
                <a:gridCol w="1544400"/>
                <a:gridCol w="3467160"/>
                <a:gridCol w="743040"/>
                <a:gridCol w="839880"/>
              </a:tblGrid>
              <a:tr h="426960"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活動主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活動內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融入領域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六大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 rowSpan="3"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童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園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春回大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透過介紹「我最喜歡的故事」，與他人分享閱讀的樂趣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10181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語文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閱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人權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生涯發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改編高手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經由改編童話而創新作品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語文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閱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生涯發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人權法治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花之圓舞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透過閱讀的活動，自製各種形式的小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語文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藝術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與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人文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人權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資訊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家政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7520" marR="475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4"/>
          <p:cNvSpPr/>
          <p:nvPr/>
        </p:nvSpPr>
        <p:spPr>
          <a:xfrm>
            <a:off x="1403280" y="1890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三年級上學期彈性學習節數一覽表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755640" y="836640"/>
          <a:ext cx="7704000" cy="5348160"/>
        </p:xfrm>
        <a:graphic>
          <a:graphicData uri="http://schemas.openxmlformats.org/drawingml/2006/table">
            <a:tbl>
              <a:tblPr/>
              <a:tblGrid>
                <a:gridCol w="1120680"/>
                <a:gridCol w="1471680"/>
                <a:gridCol w="981000"/>
                <a:gridCol w="3151440"/>
                <a:gridCol w="979200"/>
              </a:tblGrid>
              <a:tr h="305280">
                <a:tc gridSpan="2"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項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目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內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rowSpan="3">
                  <a:txBody>
                    <a:bodyPr lIns="7200" rIns="72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校及學年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教務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教室佈置、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作業成果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綜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合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生事務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交通安全宣導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、健康中心檢查、歲末聯歡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輔導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家庭教育、性侵害防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班級輔導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班級常規建立、班級輔導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臨時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新細明體"/>
                          <a:ea typeface="標楷體"/>
                        </a:rPr>
                        <a:t>臨時交辦或配合活動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、視情況處理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 gridSpan="2" row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校本位課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探索東信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靜態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閱讀，動態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跳繩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)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數學補救教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進行數學補救教學或加深加廣學習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92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英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活美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資訊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資訊課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 gridSpan="3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上學期彈性學習總節數：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8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彈性學習節數每週節數：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9" name="直線接點 4"/>
          <p:cNvSpPr/>
          <p:nvPr/>
        </p:nvSpPr>
        <p:spPr>
          <a:xfrm>
            <a:off x="10764720" y="5805360"/>
            <a:ext cx="1008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直線接點 6"/>
          <p:cNvSpPr/>
          <p:nvPr/>
        </p:nvSpPr>
        <p:spPr>
          <a:xfrm>
            <a:off x="11484000" y="6453360"/>
            <a:ext cx="10098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直線接點 8"/>
          <p:cNvSpPr/>
          <p:nvPr/>
        </p:nvSpPr>
        <p:spPr>
          <a:xfrm>
            <a:off x="11988720" y="5877000"/>
            <a:ext cx="9367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1403280" y="40176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三年級下學期彈性學習節數一覽表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84360" y="1054080"/>
          <a:ext cx="7920000" cy="5421240"/>
        </p:xfrm>
        <a:graphic>
          <a:graphicData uri="http://schemas.openxmlformats.org/drawingml/2006/table">
            <a:tbl>
              <a:tblPr/>
              <a:tblGrid>
                <a:gridCol w="1150920"/>
                <a:gridCol w="1512720"/>
                <a:gridCol w="1008000"/>
                <a:gridCol w="3240360"/>
                <a:gridCol w="1008000"/>
              </a:tblGrid>
              <a:tr h="305280">
                <a:tc gridSpan="2"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項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目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內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 rowSpan="3">
                  <a:txBody>
                    <a:bodyPr lIns="7200" rIns="72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校及學年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教務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國語文競賽、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學年特色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綜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合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生事務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交通安全宣導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、健康中心檢查、校慶活動、運動會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輔導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家庭教育、性侵害防治、母親節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班級輔導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班級常規建立、班級輔導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92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臨時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新細明體"/>
                          <a:ea typeface="標楷體"/>
                        </a:rPr>
                        <a:t>臨時交辦或配合活動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、視情況處理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88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校本位課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探索東信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靜態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閱讀，動態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跳繩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)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68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數學補救教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進行數學補救教學或加深加廣學習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16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英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活美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資訊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資訊課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 gridSpan="3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上學期彈性學習總節數：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75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彈性學習節數每週節數：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4138560" y="2492280"/>
            <a:ext cx="1873440" cy="15112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三上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書的禮物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Oval 3"/>
          <p:cNvSpPr/>
          <p:nvPr/>
        </p:nvSpPr>
        <p:spPr>
          <a:xfrm>
            <a:off x="2987640" y="2349360"/>
            <a:ext cx="1008000" cy="8636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性別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Oval 4"/>
          <p:cNvSpPr/>
          <p:nvPr/>
        </p:nvSpPr>
        <p:spPr>
          <a:xfrm>
            <a:off x="2987640" y="3355920"/>
            <a:ext cx="1008000" cy="8636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生命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754200" y="234792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威廉的洋娃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754200" y="342900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讓路給小鴨子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6299280" y="2492280"/>
            <a:ext cx="2017800" cy="15112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三上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前手開叉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0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次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4138560" y="4653000"/>
            <a:ext cx="1873440" cy="1584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三下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閱讀飛翔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Oval 9"/>
          <p:cNvSpPr/>
          <p:nvPr/>
        </p:nvSpPr>
        <p:spPr>
          <a:xfrm>
            <a:off x="2987640" y="4508640"/>
            <a:ext cx="1008000" cy="8636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情緒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Oval 10"/>
          <p:cNvSpPr/>
          <p:nvPr/>
        </p:nvSpPr>
        <p:spPr>
          <a:xfrm>
            <a:off x="2987640" y="5587920"/>
            <a:ext cx="1079640" cy="8636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自我認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754200" y="4508640"/>
            <a:ext cx="208908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66"/>
                </a:solidFill>
                <a:latin typeface="Verdana"/>
                <a:ea typeface="標楷體"/>
              </a:rPr>
              <a:t>我變成一隻噴火龍</a:t>
            </a:r>
            <a:r>
              <a:rPr b="0" lang="zh-TW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754200" y="5587920"/>
            <a:ext cx="208908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Verdana"/>
                <a:ea typeface="標楷體"/>
              </a:rPr>
              <a:t>你很特別</a:t>
            </a:r>
            <a:r>
              <a:rPr b="0" lang="zh-TW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6299280" y="4653000"/>
            <a:ext cx="2017800" cy="1584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三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前交叉跳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10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次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692360" y="622440"/>
            <a:ext cx="575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66"/>
                </a:solidFill>
                <a:latin typeface="Verdana"/>
                <a:ea typeface="標楷體"/>
              </a:rPr>
              <a:t>彈性時間學校本位特色課程規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4138560" y="1341360"/>
            <a:ext cx="1873440" cy="79236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66"/>
                </a:solidFill>
                <a:latin typeface="Times New Roman"/>
                <a:ea typeface="標楷體"/>
              </a:rPr>
              <a:t>語文領域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ff"/>
                </a:solidFill>
                <a:latin typeface="Times New Roman"/>
                <a:ea typeface="標楷體"/>
              </a:rPr>
              <a:t>東信閱讀通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6299280" y="1341360"/>
            <a:ext cx="2017800" cy="798480"/>
          </a:xfrm>
          <a:prstGeom prst="rect">
            <a:avLst/>
          </a:prstGeom>
          <a:noFill/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66"/>
                </a:solidFill>
                <a:latin typeface="Times New Roman"/>
                <a:ea typeface="標楷體"/>
              </a:rPr>
              <a:t>健體領域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660066"/>
                </a:solidFill>
                <a:latin typeface="Times New Roman"/>
                <a:ea typeface="標楷體"/>
              </a:rPr>
              <a:t>跳躍繩奇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81"/>
          <p:cNvSpPr/>
          <p:nvPr/>
        </p:nvSpPr>
        <p:spPr>
          <a:xfrm>
            <a:off x="684360" y="548280"/>
            <a:ext cx="24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性別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611280" y="1125360"/>
          <a:ext cx="7662600" cy="542628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431640"/>
                <a:gridCol w="1224000"/>
                <a:gridCol w="3168720"/>
                <a:gridCol w="936720"/>
                <a:gridCol w="893520"/>
              </a:tblGrid>
              <a:tr h="106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36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男女大不同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性別平等教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、性侵害防治教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威廉的洋娃娃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威廉的洋娃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生用心聆聽並明瞭故事內容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引導學生對師長所介紹的書籍產生閱讀興趣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發表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習單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帥哥、美女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變裝秀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角色互換扮演（男扮女、女扮男）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分享扮演異性的心得，以體認性別的差異，並增進性別之間的良性互動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角色扮演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心得分享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男生女生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經由遊戲培養和同儕間的平和相處和彼此尊重的態度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社會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心得分享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最佳拍檔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角色扮演並於遊戲後分享心得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共同討論謀求和同學間的相處之道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社會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角色扮演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實作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發表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456000" y="927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Verdana"/>
                <a:ea typeface="標楷體"/>
              </a:rPr>
              <a:t>報告大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40000" y="2133720"/>
            <a:ext cx="435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一、學校本位課程規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二、彈性時間分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三、東信閱讀通介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四、學年特色發展說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Picture 4" descr="himwari"/>
          <p:cNvPicPr/>
          <p:nvPr/>
        </p:nvPicPr>
        <p:blipFill>
          <a:blip r:embed="rId1"/>
          <a:stretch/>
        </p:blipFill>
        <p:spPr>
          <a:xfrm>
            <a:off x="3059280" y="4714920"/>
            <a:ext cx="2842920" cy="2143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himwari"/>
          <p:cNvPicPr/>
          <p:nvPr/>
        </p:nvPicPr>
        <p:blipFill>
          <a:blip r:embed="rId2"/>
          <a:stretch/>
        </p:blipFill>
        <p:spPr>
          <a:xfrm>
            <a:off x="0" y="4508640"/>
            <a:ext cx="3789360" cy="2349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himwari"/>
          <p:cNvPicPr/>
          <p:nvPr/>
        </p:nvPicPr>
        <p:blipFill>
          <a:blip r:embed="rId3"/>
          <a:stretch/>
        </p:blipFill>
        <p:spPr>
          <a:xfrm>
            <a:off x="4716360" y="4714920"/>
            <a:ext cx="2843280" cy="2143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himwari"/>
          <p:cNvPicPr/>
          <p:nvPr/>
        </p:nvPicPr>
        <p:blipFill>
          <a:blip r:embed="rId4"/>
          <a:stretch/>
        </p:blipFill>
        <p:spPr>
          <a:xfrm>
            <a:off x="5940360" y="4292640"/>
            <a:ext cx="3203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39"/>
          <p:cNvSpPr/>
          <p:nvPr/>
        </p:nvSpPr>
        <p:spPr>
          <a:xfrm>
            <a:off x="474840" y="61956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生命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11280" y="1268280"/>
          <a:ext cx="7662600" cy="390204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431640"/>
                <a:gridCol w="1224000"/>
                <a:gridCol w="3168720"/>
                <a:gridCol w="936720"/>
                <a:gridCol w="893520"/>
              </a:tblGrid>
              <a:tr h="106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12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讓愛發光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、人權法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讓路給小鴨子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生命的體驗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前胸背書包，走路、跑步體驗媽媽懷孕的辛苦，培養感恩惜福的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綜合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實作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關懷弱勢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與里長有約─請教需關懷的對象及如何協助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社會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讓路給小鴨子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教師導讀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生彼此討論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心得發表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彈性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習單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39"/>
          <p:cNvSpPr/>
          <p:nvPr/>
        </p:nvSpPr>
        <p:spPr>
          <a:xfrm>
            <a:off x="705960" y="4035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三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情緒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11280" y="907920"/>
          <a:ext cx="7669080" cy="5769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431640"/>
                <a:gridCol w="1224000"/>
                <a:gridCol w="3168720"/>
                <a:gridCol w="936720"/>
                <a:gridCol w="900000"/>
              </a:tblGrid>
              <a:tr h="106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76000"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我生氣了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情緒教育、壓力調適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我變成一隻噴火龍了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情緒大轟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師生分享自己的情緒，讓小朋友說出不愉快的狀況和自己排解的方法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我變成一隻噴火龍了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共同閱讀繪本，並能說一說故事的大意、內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實作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共同討論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能深究內容，共同討論，思考如何解決問題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蚊子波泰最喜歡吸哪種人的血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你也像阿古力一樣愛生氣嗎？</a:t>
                      </a: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阿古力生氣的火造成了什麼後果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阿古力用了哪些方法想讓火熄滅？最後他的火是怎麼熄掉的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當你很生氣時，你知道有哪些方法讓自己不生氣的嗎？</a:t>
                      </a: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社會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習單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創作四格漫畫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將故事內容利用四格漫畫的方式來呈現，並加入自己的創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他原本的樣子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他生氣的原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他生氣的樣子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生氣造成的後果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藝文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習單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收氣桶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能利用收氣桶來抒發自己的情緒，並思考排解情緒的方法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在教室內設置收氣桶，鼓勵學生將發脾氣的情況、原因寫下，投入收氣桶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分享收氣桶內的內容，並討論自己的感受與解決的方法</a:t>
                      </a: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健體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實作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39"/>
          <p:cNvSpPr/>
          <p:nvPr/>
        </p:nvSpPr>
        <p:spPr>
          <a:xfrm>
            <a:off x="777600" y="44964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四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自我認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84360" y="977760"/>
          <a:ext cx="7920000" cy="3430800"/>
        </p:xfrm>
        <a:graphic>
          <a:graphicData uri="http://schemas.openxmlformats.org/drawingml/2006/table">
            <a:tbl>
              <a:tblPr/>
              <a:tblGrid>
                <a:gridCol w="669600"/>
                <a:gridCol w="696960"/>
                <a:gridCol w="720720"/>
                <a:gridCol w="1276560"/>
                <a:gridCol w="2278080"/>
                <a:gridCol w="909720"/>
                <a:gridCol w="1368360"/>
              </a:tblGrid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250640"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信心百分百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自我認同、家庭教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你很特別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最佳男女主角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1.</a:t>
                      </a: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教師導讀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2.</a:t>
                      </a: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生彼此討論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3.</a:t>
                      </a: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心得發表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4.</a:t>
                      </a: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說出最欣賞自己哪些地方及欣賞的原因</a:t>
                      </a:r>
                      <a:r>
                        <a:rPr b="0" lang="zh-TW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發表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優點大轟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請同學們輪流說出某一位同學的優點，做詳細具體的描述，並且肯定他的行為，讓被肯定的同學更有自信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綜合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發表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4"/>
          <p:cNvSpPr/>
          <p:nvPr/>
        </p:nvSpPr>
        <p:spPr>
          <a:xfrm>
            <a:off x="2700360" y="69228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1476360" y="404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學年特色發展規劃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標楷體"/>
              </a:rPr>
              <a:t>-</a:t>
            </a:r>
            <a:r>
              <a:rPr b="1" lang="zh-TW" sz="3200" spc="-1" strike="noStrike">
                <a:solidFill>
                  <a:srgbClr val="ff0066"/>
                </a:solidFill>
                <a:latin typeface="Arial"/>
                <a:ea typeface="標楷體"/>
              </a:rPr>
              <a:t>「讀經教育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11280" y="1329840"/>
            <a:ext cx="79214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4120" bIns="114120" anchor="ctr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壹、課程設計與實施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三年級全體老師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貳、設計理念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透過共同讀經活動，配合教師適度引導，讓孩子學習聖賢經典中做人處世的道理，在生活中身體力行，導正日常生活常規與觀念，並且希望藉讀經活動提升學生的專注力及語文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參、學習目標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專心誦讀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正確背出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在日常生活中實踐習得之道理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4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培養學生識字、認讀的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肆、教學策略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運用領讀→齊讀→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輪讀→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接讀循序漸進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利用日常發生之實際例子進行解說、分享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ff0066"/>
                </a:solidFill>
                <a:latin typeface="標楷體"/>
                <a:ea typeface="標楷體"/>
              </a:rPr>
              <a:t>配合學生護照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，背誦完畢後頒發獎狀予以鼓勵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伍、讀經教材規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一年級上學期：弟子規            一年級下學期：三字經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二年級</a:t>
            </a:r>
            <a:r>
              <a:rPr b="0" lang="zh-TW" sz="1800" spc="-1" strike="noStrike">
                <a:solidFill>
                  <a:srgbClr val="0000ff"/>
                </a:solidFill>
                <a:latin typeface="Verdana"/>
                <a:ea typeface="標楷體"/>
              </a:rPr>
              <a:t>：朱子治家格言、千字文、孝經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Verdana"/>
                <a:ea typeface="標楷體"/>
              </a:rPr>
              <a:t>     </a:t>
            </a:r>
            <a:r>
              <a:rPr b="0" lang="zh-TW" sz="1800" spc="-1" strike="noStrike">
                <a:solidFill>
                  <a:srgbClr val="ff0000"/>
                </a:solidFill>
                <a:latin typeface="Verdana"/>
                <a:ea typeface="標楷體"/>
              </a:rPr>
              <a:t>三年級：二年級未完成的部分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標楷體"/>
              </a:rPr>
              <a:t>,</a:t>
            </a:r>
            <a:r>
              <a:rPr b="0" lang="zh-TW" sz="1800" spc="-1" strike="noStrike">
                <a:solidFill>
                  <a:srgbClr val="ff0000"/>
                </a:solidFill>
                <a:latin typeface="Verdana"/>
                <a:ea typeface="標楷體"/>
              </a:rPr>
              <a:t>論語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0" name="Picture 8" descr="穿衣服的蠻頭"/>
          <p:cNvPicPr/>
          <p:nvPr/>
        </p:nvPicPr>
        <p:blipFill>
          <a:blip r:embed="rId1"/>
          <a:stretch/>
        </p:blipFill>
        <p:spPr>
          <a:xfrm>
            <a:off x="6372360" y="27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File016"/>
          <p:cNvPicPr/>
          <p:nvPr/>
        </p:nvPicPr>
        <p:blipFill>
          <a:blip r:embed="rId1">
            <a:lum contrast="-12000"/>
          </a:blip>
          <a:srcRect l="0" t="0" r="0" b="999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3"/>
          <p:cNvSpPr/>
          <p:nvPr/>
        </p:nvSpPr>
        <p:spPr>
          <a:xfrm>
            <a:off x="1116000" y="431172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謝謝您耐心的聆聽</a:t>
            </a:r>
            <a:r>
              <a:rPr b="1" lang="en-US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~</a:t>
            </a: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報告完畢！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30"/>
          <p:cNvSpPr/>
          <p:nvPr/>
        </p:nvSpPr>
        <p:spPr>
          <a:xfrm>
            <a:off x="4800600" y="1116000"/>
            <a:ext cx="3659040" cy="59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2060"/>
                </a:solidFill>
                <a:latin typeface="Verdana"/>
              </a:rPr>
              <a:t>能夠上台流暢的說出一則故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AutoShape 31"/>
          <p:cNvSpPr/>
          <p:nvPr/>
        </p:nvSpPr>
        <p:spPr>
          <a:xfrm>
            <a:off x="3297240" y="1116000"/>
            <a:ext cx="1289160" cy="59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三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小小說書人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32"/>
          <p:cNvSpPr/>
          <p:nvPr/>
        </p:nvSpPr>
        <p:spPr>
          <a:xfrm>
            <a:off x="2976480" y="14158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33"/>
          <p:cNvSpPr/>
          <p:nvPr/>
        </p:nvSpPr>
        <p:spPr>
          <a:xfrm>
            <a:off x="2976480" y="21146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Line 34"/>
          <p:cNvSpPr/>
          <p:nvPr/>
        </p:nvSpPr>
        <p:spPr>
          <a:xfrm>
            <a:off x="4586400" y="141588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AutoShape 35"/>
          <p:cNvSpPr/>
          <p:nvPr/>
        </p:nvSpPr>
        <p:spPr>
          <a:xfrm>
            <a:off x="3297240" y="1814400"/>
            <a:ext cx="128916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三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改編高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Line 36"/>
          <p:cNvSpPr/>
          <p:nvPr/>
        </p:nvSpPr>
        <p:spPr>
          <a:xfrm>
            <a:off x="4586400" y="211464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AutoShape 37"/>
          <p:cNvSpPr/>
          <p:nvPr/>
        </p:nvSpPr>
        <p:spPr>
          <a:xfrm>
            <a:off x="4800600" y="1814400"/>
            <a:ext cx="365904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2060"/>
                </a:solidFill>
                <a:latin typeface="Verdana"/>
              </a:rPr>
              <a:t>經由改編童話而創新作品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AutoShape 39"/>
          <p:cNvSpPr/>
          <p:nvPr/>
        </p:nvSpPr>
        <p:spPr>
          <a:xfrm>
            <a:off x="611280" y="145584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語文領域縱向發展：閱讀寫作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191" name="AutoShape 43"/>
          <p:cNvCxnSpPr>
            <a:stCxn id="184" idx="0"/>
            <a:endCxn id="185" idx="0"/>
          </p:cNvCxnSpPr>
          <p:nvPr/>
        </p:nvCxnSpPr>
        <p:spPr>
          <a:xfrm>
            <a:off x="2976120" y="1415520"/>
            <a:ext cx="1080" cy="69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2" name="Line 46"/>
          <p:cNvSpPr/>
          <p:nvPr/>
        </p:nvSpPr>
        <p:spPr>
          <a:xfrm>
            <a:off x="2627280" y="17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AutoShape 47"/>
          <p:cNvSpPr/>
          <p:nvPr/>
        </p:nvSpPr>
        <p:spPr>
          <a:xfrm>
            <a:off x="4800600" y="2565360"/>
            <a:ext cx="3659040" cy="884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2060"/>
                </a:solidFill>
                <a:latin typeface="Verdana"/>
              </a:rPr>
              <a:t>能自製九九乘法表並運用乘法解決二位數乘一位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AutoShape 48"/>
          <p:cNvSpPr/>
          <p:nvPr/>
        </p:nvSpPr>
        <p:spPr>
          <a:xfrm>
            <a:off x="3297240" y="2637000"/>
            <a:ext cx="1289160" cy="812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三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九九乘法大考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Line 49"/>
          <p:cNvSpPr/>
          <p:nvPr/>
        </p:nvSpPr>
        <p:spPr>
          <a:xfrm>
            <a:off x="2976480" y="31510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Line 50"/>
          <p:cNvSpPr/>
          <p:nvPr/>
        </p:nvSpPr>
        <p:spPr>
          <a:xfrm>
            <a:off x="2976480" y="38498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Line 51"/>
          <p:cNvSpPr/>
          <p:nvPr/>
        </p:nvSpPr>
        <p:spPr>
          <a:xfrm>
            <a:off x="4586400" y="315108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AutoShape 52"/>
          <p:cNvSpPr/>
          <p:nvPr/>
        </p:nvSpPr>
        <p:spPr>
          <a:xfrm>
            <a:off x="3297240" y="3549600"/>
            <a:ext cx="128916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600" spc="-1" strike="noStrike">
                <a:solidFill>
                  <a:srgbClr val="006699"/>
                </a:solidFill>
                <a:latin typeface="Verdana"/>
              </a:rPr>
              <a:t>三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公平分一分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Line 53"/>
          <p:cNvSpPr/>
          <p:nvPr/>
        </p:nvSpPr>
        <p:spPr>
          <a:xfrm>
            <a:off x="4586400" y="384984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AutoShape 54"/>
          <p:cNvSpPr/>
          <p:nvPr/>
        </p:nvSpPr>
        <p:spPr>
          <a:xfrm>
            <a:off x="4800600" y="3549600"/>
            <a:ext cx="365904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2060"/>
                </a:solidFill>
                <a:latin typeface="Verdana"/>
              </a:rPr>
              <a:t>能將老師給的花片或個體物平分給指定的人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AutoShape 55"/>
          <p:cNvSpPr/>
          <p:nvPr/>
        </p:nvSpPr>
        <p:spPr>
          <a:xfrm>
            <a:off x="611280" y="3191040"/>
            <a:ext cx="2016000" cy="67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數學領域縱向發展：數的樂園</a:t>
            </a: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02" name="AutoShape 56"/>
          <p:cNvCxnSpPr>
            <a:stCxn id="195" idx="0"/>
            <a:endCxn id="196" idx="0"/>
          </p:cNvCxnSpPr>
          <p:nvPr/>
        </p:nvCxnSpPr>
        <p:spPr>
          <a:xfrm>
            <a:off x="2976120" y="3150720"/>
            <a:ext cx="1080" cy="69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3" name="Line 57"/>
          <p:cNvSpPr/>
          <p:nvPr/>
        </p:nvSpPr>
        <p:spPr>
          <a:xfrm>
            <a:off x="2627280" y="3508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58"/>
          <p:cNvSpPr/>
          <p:nvPr/>
        </p:nvSpPr>
        <p:spPr>
          <a:xfrm>
            <a:off x="4800600" y="4724280"/>
            <a:ext cx="365904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2060"/>
                </a:solidFill>
                <a:latin typeface="Verdana"/>
              </a:rPr>
              <a:t>觀察綠豆的成長過程並紀錄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2060"/>
                </a:solidFill>
                <a:latin typeface="Verdana"/>
              </a:rPr>
              <a:t>學生自行挑選一種植物觀察並製作成生長筆記或小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AutoShape 59"/>
          <p:cNvSpPr/>
          <p:nvPr/>
        </p:nvSpPr>
        <p:spPr>
          <a:xfrm>
            <a:off x="3297240" y="4775040"/>
            <a:ext cx="1289160" cy="8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三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生態觀察筆記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Line 60"/>
          <p:cNvSpPr/>
          <p:nvPr/>
        </p:nvSpPr>
        <p:spPr>
          <a:xfrm>
            <a:off x="2976480" y="50846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Line 61"/>
          <p:cNvSpPr/>
          <p:nvPr/>
        </p:nvSpPr>
        <p:spPr>
          <a:xfrm>
            <a:off x="2976480" y="60213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Line 62"/>
          <p:cNvSpPr/>
          <p:nvPr/>
        </p:nvSpPr>
        <p:spPr>
          <a:xfrm>
            <a:off x="4586400" y="508464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AutoShape 63"/>
          <p:cNvSpPr/>
          <p:nvPr/>
        </p:nvSpPr>
        <p:spPr>
          <a:xfrm>
            <a:off x="3297240" y="5781600"/>
            <a:ext cx="1289160" cy="816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三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生態觀察筆記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64"/>
          <p:cNvSpPr/>
          <p:nvPr/>
        </p:nvSpPr>
        <p:spPr>
          <a:xfrm>
            <a:off x="4586400" y="602136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AutoShape 65"/>
          <p:cNvSpPr/>
          <p:nvPr/>
        </p:nvSpPr>
        <p:spPr>
          <a:xfrm>
            <a:off x="4788000" y="5805360"/>
            <a:ext cx="36590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1.</a:t>
            </a:r>
            <a:r>
              <a:rPr b="0" lang="zh-TW" sz="1600" spc="-1" strike="noStrike">
                <a:solidFill>
                  <a:srgbClr val="002060"/>
                </a:solidFill>
                <a:latin typeface="Verdana"/>
              </a:rPr>
              <a:t>觀察蓋斑鬥魚的成長過程並紀錄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2.</a:t>
            </a:r>
            <a:r>
              <a:rPr b="0" lang="zh-TW" sz="1600" spc="-1" strike="noStrike">
                <a:solidFill>
                  <a:srgbClr val="002060"/>
                </a:solidFill>
                <a:latin typeface="Verdana"/>
              </a:rPr>
              <a:t>班級自行挑選一種小動物觀察並製作成生長週記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611280" y="512748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自然領域縱向發展：校園植物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13" name="AutoShape 67"/>
          <p:cNvCxnSpPr>
            <a:stCxn id="206" idx="0"/>
            <a:endCxn id="207" idx="0"/>
          </p:cNvCxnSpPr>
          <p:nvPr/>
        </p:nvCxnSpPr>
        <p:spPr>
          <a:xfrm>
            <a:off x="2976120" y="5084640"/>
            <a:ext cx="108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4" name="Line 68"/>
          <p:cNvSpPr/>
          <p:nvPr/>
        </p:nvSpPr>
        <p:spPr>
          <a:xfrm>
            <a:off x="2627280" y="551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630360" y="26028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4800600" y="835200"/>
            <a:ext cx="387504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2060"/>
                </a:solidFill>
                <a:latin typeface="Verdana"/>
              </a:rPr>
              <a:t>能知道東信校園的自然及空間特色，進而認識與感受和校外地區的差異性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297240" y="835200"/>
            <a:ext cx="128916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三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美之東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2976480" y="11350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2976480" y="18334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4586400" y="113508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3297240" y="1533600"/>
            <a:ext cx="128916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三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繪製東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4586400" y="183348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9"/>
          <p:cNvSpPr/>
          <p:nvPr/>
        </p:nvSpPr>
        <p:spPr>
          <a:xfrm>
            <a:off x="4800600" y="1533600"/>
            <a:ext cx="387504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2060"/>
                </a:solidFill>
                <a:latin typeface="Verdana"/>
              </a:rPr>
              <a:t>能從地圖中知道東信的所在地，並能簡略的繪製校園的平面圖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AutoShape 10"/>
          <p:cNvSpPr/>
          <p:nvPr/>
        </p:nvSpPr>
        <p:spPr>
          <a:xfrm>
            <a:off x="611280" y="117468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社會領域縱向發展：東信風情畫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25" name="AutoShape 11"/>
          <p:cNvCxnSpPr>
            <a:stCxn id="218" idx="0"/>
            <a:endCxn id="219" idx="0"/>
          </p:cNvCxnSpPr>
          <p:nvPr/>
        </p:nvCxnSpPr>
        <p:spPr>
          <a:xfrm>
            <a:off x="2976120" y="1135080"/>
            <a:ext cx="108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6" name="Line 12"/>
          <p:cNvSpPr/>
          <p:nvPr/>
        </p:nvSpPr>
        <p:spPr>
          <a:xfrm>
            <a:off x="2627280" y="1492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AutoShape 13"/>
          <p:cNvSpPr/>
          <p:nvPr/>
        </p:nvSpPr>
        <p:spPr>
          <a:xfrm>
            <a:off x="4800600" y="2355840"/>
            <a:ext cx="387504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2060"/>
                </a:solidFill>
                <a:latin typeface="Verdana"/>
              </a:rPr>
              <a:t>尋找校園中可以遊戲的各種素材，進行照行遊戲並佈置美化校園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AutoShape 14"/>
          <p:cNvSpPr/>
          <p:nvPr/>
        </p:nvSpPr>
        <p:spPr>
          <a:xfrm>
            <a:off x="3297240" y="2355840"/>
            <a:ext cx="128916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三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校園遊樂場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15"/>
          <p:cNvSpPr/>
          <p:nvPr/>
        </p:nvSpPr>
        <p:spPr>
          <a:xfrm>
            <a:off x="2976480" y="265572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16"/>
          <p:cNvSpPr/>
          <p:nvPr/>
        </p:nvSpPr>
        <p:spPr>
          <a:xfrm>
            <a:off x="2976480" y="33544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4586400" y="265572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18"/>
          <p:cNvSpPr/>
          <p:nvPr/>
        </p:nvSpPr>
        <p:spPr>
          <a:xfrm>
            <a:off x="3297240" y="3054240"/>
            <a:ext cx="1289160" cy="80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三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我的校園我的歌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4586400" y="335448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AutoShape 20"/>
          <p:cNvSpPr/>
          <p:nvPr/>
        </p:nvSpPr>
        <p:spPr>
          <a:xfrm>
            <a:off x="4800600" y="3054240"/>
            <a:ext cx="387504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2060"/>
                </a:solidFill>
                <a:latin typeface="Verdana"/>
              </a:rPr>
              <a:t>利用直笛吹奏出校歌，增加對學校的認同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AutoShape 21"/>
          <p:cNvSpPr/>
          <p:nvPr/>
        </p:nvSpPr>
        <p:spPr>
          <a:xfrm>
            <a:off x="611280" y="269568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藝術與人文領域縱向發展：故鄉風月情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36" name="AutoShape 22"/>
          <p:cNvCxnSpPr>
            <a:stCxn id="229" idx="0"/>
            <a:endCxn id="230" idx="0"/>
          </p:cNvCxnSpPr>
          <p:nvPr/>
        </p:nvCxnSpPr>
        <p:spPr>
          <a:xfrm>
            <a:off x="2976120" y="2655360"/>
            <a:ext cx="1080" cy="69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7" name="Line 23"/>
          <p:cNvSpPr/>
          <p:nvPr/>
        </p:nvSpPr>
        <p:spPr>
          <a:xfrm>
            <a:off x="2627280" y="3013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AutoShape 24"/>
          <p:cNvSpPr/>
          <p:nvPr/>
        </p:nvSpPr>
        <p:spPr>
          <a:xfrm>
            <a:off x="4800600" y="3941640"/>
            <a:ext cx="38750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2060"/>
                </a:solidFill>
                <a:latin typeface="Verdana"/>
              </a:rPr>
              <a:t>１．欣賞本校民俗班跳繩表演，認識並了解“跳繩”運動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2060"/>
                </a:solidFill>
                <a:latin typeface="Verdana"/>
              </a:rPr>
              <a:t>２．能了解跳繩運動對身體的幫助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2060"/>
                </a:solidFill>
                <a:latin typeface="Verdana"/>
              </a:rPr>
              <a:t>３．能說出跳繩基本跳法名稱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AutoShape 25"/>
          <p:cNvSpPr/>
          <p:nvPr/>
        </p:nvSpPr>
        <p:spPr>
          <a:xfrm>
            <a:off x="3297240" y="4280040"/>
            <a:ext cx="1289160" cy="80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三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舞動奇蹟（跳繩１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26"/>
          <p:cNvSpPr/>
          <p:nvPr/>
        </p:nvSpPr>
        <p:spPr>
          <a:xfrm>
            <a:off x="2976480" y="45896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27"/>
          <p:cNvSpPr/>
          <p:nvPr/>
        </p:nvSpPr>
        <p:spPr>
          <a:xfrm>
            <a:off x="2976480" y="60213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Line 28"/>
          <p:cNvSpPr/>
          <p:nvPr/>
        </p:nvSpPr>
        <p:spPr>
          <a:xfrm>
            <a:off x="4586400" y="458964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AutoShape 29"/>
          <p:cNvSpPr/>
          <p:nvPr/>
        </p:nvSpPr>
        <p:spPr>
          <a:xfrm>
            <a:off x="3297240" y="5516640"/>
            <a:ext cx="12891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三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繩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采飛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Line 30"/>
          <p:cNvSpPr/>
          <p:nvPr/>
        </p:nvSpPr>
        <p:spPr>
          <a:xfrm>
            <a:off x="4586400" y="602136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AutoShape 31"/>
          <p:cNvSpPr/>
          <p:nvPr/>
        </p:nvSpPr>
        <p:spPr>
          <a:xfrm>
            <a:off x="4788000" y="5300640"/>
            <a:ext cx="3887640" cy="13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2060"/>
                </a:solidFill>
                <a:latin typeface="Verdana"/>
              </a:rPr>
              <a:t>１．能做出各項單人跳繩基本跳法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2060"/>
                </a:solidFill>
                <a:latin typeface="Verdana"/>
              </a:rPr>
              <a:t>２．能察覺跳繩運動對體能及健康促進，進而發覺其他可替代的運動項目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AutoShape 32"/>
          <p:cNvSpPr/>
          <p:nvPr/>
        </p:nvSpPr>
        <p:spPr>
          <a:xfrm>
            <a:off x="611280" y="498312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健體領域縱向發展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運動好小子</a:t>
            </a: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47" name="AutoShape 33"/>
          <p:cNvCxnSpPr>
            <a:stCxn id="240" idx="0"/>
            <a:endCxn id="241" idx="0"/>
          </p:cNvCxnSpPr>
          <p:nvPr/>
        </p:nvCxnSpPr>
        <p:spPr>
          <a:xfrm>
            <a:off x="2976120" y="4589280"/>
            <a:ext cx="1080" cy="143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8" name="Line 34"/>
          <p:cNvSpPr/>
          <p:nvPr/>
        </p:nvSpPr>
        <p:spPr>
          <a:xfrm>
            <a:off x="2627280" y="530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630360" y="18900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"/>
          <p:cNvSpPr/>
          <p:nvPr/>
        </p:nvSpPr>
        <p:spPr>
          <a:xfrm>
            <a:off x="5089680" y="1843200"/>
            <a:ext cx="365904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2060"/>
                </a:solidFill>
                <a:latin typeface="Verdana"/>
              </a:rPr>
              <a:t>參觀社區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(</a:t>
            </a:r>
            <a:r>
              <a:rPr b="0" lang="zh-TW" sz="1600" spc="-1" strike="noStrike">
                <a:solidFill>
                  <a:srgbClr val="002060"/>
                </a:solidFill>
                <a:latin typeface="Verdana"/>
              </a:rPr>
              <a:t>四季春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)</a:t>
            </a:r>
            <a:r>
              <a:rPr b="0" lang="zh-TW" sz="1600" spc="-1" strike="noStrike">
                <a:solidFill>
                  <a:srgbClr val="002060"/>
                </a:solidFill>
                <a:latin typeface="Verdana"/>
              </a:rPr>
              <a:t>廚餘堆肥並試作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297240" y="1843200"/>
            <a:ext cx="156204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三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環保停看聽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Line 4"/>
          <p:cNvSpPr/>
          <p:nvPr/>
        </p:nvSpPr>
        <p:spPr>
          <a:xfrm>
            <a:off x="2976480" y="21430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2976480" y="28414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4862520" y="214308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3297240" y="2541600"/>
            <a:ext cx="156204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三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動動手做環保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4862520" y="284148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AutoShape 9"/>
          <p:cNvSpPr/>
          <p:nvPr/>
        </p:nvSpPr>
        <p:spPr>
          <a:xfrm>
            <a:off x="5089680" y="2541600"/>
            <a:ext cx="365904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2060"/>
                </a:solidFill>
                <a:latin typeface="Verdana"/>
              </a:rPr>
              <a:t>利用堆肥及資收器皿來美化校園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611280" y="218268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新細明體"/>
              </a:rPr>
              <a:t>綜合領域縱向發展：環保小天使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59" name="AutoShape 11"/>
          <p:cNvCxnSpPr>
            <a:stCxn id="252" idx="0"/>
            <a:endCxn id="253" idx="0"/>
          </p:cNvCxnSpPr>
          <p:nvPr/>
        </p:nvCxnSpPr>
        <p:spPr>
          <a:xfrm>
            <a:off x="2976120" y="2143080"/>
            <a:ext cx="108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0" name="Line 12"/>
          <p:cNvSpPr/>
          <p:nvPr/>
        </p:nvSpPr>
        <p:spPr>
          <a:xfrm>
            <a:off x="2627280" y="2500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630360" y="47304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2" name="Picture 42" descr="Siki0411"/>
          <p:cNvPicPr/>
          <p:nvPr/>
        </p:nvPicPr>
        <p:blipFill>
          <a:blip r:embed="rId1"/>
          <a:stretch/>
        </p:blipFill>
        <p:spPr>
          <a:xfrm>
            <a:off x="0" y="4376880"/>
            <a:ext cx="2843280" cy="2481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6" descr="Siki0411"/>
          <p:cNvPicPr/>
          <p:nvPr/>
        </p:nvPicPr>
        <p:blipFill>
          <a:blip r:embed="rId2"/>
          <a:stretch/>
        </p:blipFill>
        <p:spPr>
          <a:xfrm>
            <a:off x="2987640" y="4376880"/>
            <a:ext cx="2843280" cy="2481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7" descr="Siki0411"/>
          <p:cNvPicPr/>
          <p:nvPr/>
        </p:nvPicPr>
        <p:blipFill>
          <a:blip r:embed="rId3"/>
          <a:stretch/>
        </p:blipFill>
        <p:spPr>
          <a:xfrm>
            <a:off x="6084720" y="4376880"/>
            <a:ext cx="28432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5" descr="illust15"/>
          <p:cNvPicPr/>
          <p:nvPr/>
        </p:nvPicPr>
        <p:blipFill>
          <a:blip r:embed="rId1"/>
          <a:stretch/>
        </p:blipFill>
        <p:spPr>
          <a:xfrm>
            <a:off x="324000" y="4797360"/>
            <a:ext cx="1896840" cy="1916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4" descr="illust15"/>
          <p:cNvPicPr/>
          <p:nvPr/>
        </p:nvPicPr>
        <p:blipFill>
          <a:blip r:embed="rId2"/>
          <a:stretch/>
        </p:blipFill>
        <p:spPr>
          <a:xfrm>
            <a:off x="6877080" y="4797360"/>
            <a:ext cx="1897200" cy="1916280"/>
          </a:xfrm>
          <a:prstGeom prst="rect">
            <a:avLst/>
          </a:prstGeom>
          <a:ln w="0">
            <a:noFill/>
          </a:ln>
        </p:spPr>
      </p:pic>
      <p:sp>
        <p:nvSpPr>
          <p:cNvPr id="267" name="標題 1"/>
          <p:cNvSpPr/>
          <p:nvPr/>
        </p:nvSpPr>
        <p:spPr>
          <a:xfrm>
            <a:off x="431640" y="341280"/>
            <a:ext cx="828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標楷體"/>
              </a:rPr>
              <a:t>東信樂園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標楷體"/>
              </a:rPr>
              <a:t>學校本位橫向主題統整架構圖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1258920" y="1720800"/>
            <a:ext cx="6572160" cy="4732560"/>
          </a:xfrm>
          <a:prstGeom prst="hexagon">
            <a:avLst>
              <a:gd name="adj" fmla="val 34718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092480" y="1728720"/>
            <a:ext cx="91116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ff"/>
                </a:solidFill>
                <a:latin typeface="Calibri"/>
                <a:ea typeface="標楷體"/>
              </a:rPr>
              <a:t>快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ff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2809800" y="2706840"/>
            <a:ext cx="3365640" cy="28875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2886120" y="1697040"/>
            <a:ext cx="3341520" cy="47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Line 6"/>
          <p:cNvSpPr/>
          <p:nvPr/>
        </p:nvSpPr>
        <p:spPr>
          <a:xfrm flipV="1">
            <a:off x="2860560" y="1696680"/>
            <a:ext cx="3279960" cy="47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1258920" y="4076640"/>
            <a:ext cx="657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Oval 8"/>
          <p:cNvSpPr/>
          <p:nvPr/>
        </p:nvSpPr>
        <p:spPr>
          <a:xfrm>
            <a:off x="3664080" y="3398760"/>
            <a:ext cx="1761840" cy="144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035600" y="3618000"/>
            <a:ext cx="1481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Calibri"/>
                <a:ea typeface="標楷體"/>
              </a:rPr>
              <a:t>東信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Calibri"/>
                <a:ea typeface="標楷體"/>
              </a:rPr>
              <a:t>樂園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4143240" y="2676600"/>
            <a:ext cx="7765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5265720" y="3110040"/>
            <a:ext cx="73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ff"/>
                </a:solidFill>
                <a:latin typeface="Calibri"/>
                <a:ea typeface="標楷體"/>
              </a:rPr>
              <a:t>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403960" y="4119480"/>
            <a:ext cx="873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三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4064040" y="4842000"/>
            <a:ext cx="1035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四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3021120" y="4119480"/>
            <a:ext cx="8143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五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3105000" y="3162240"/>
            <a:ext cx="814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5907240" y="2532240"/>
            <a:ext cx="1234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ff"/>
                </a:solidFill>
                <a:latin typeface="Calibri"/>
                <a:ea typeface="標楷體"/>
              </a:rPr>
              <a:t>話</a:t>
            </a:r>
            <a:r>
              <a:rPr b="1" lang="zh-TW" sz="2800" spc="-1" strike="noStrike">
                <a:solidFill>
                  <a:srgbClr val="6600ff"/>
                </a:solidFill>
                <a:latin typeface="Arial Black"/>
                <a:ea typeface="標楷體"/>
              </a:rPr>
              <a:t>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ff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6165720" y="4378320"/>
            <a:ext cx="13273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alibri"/>
                <a:ea typeface="標楷體"/>
              </a:rPr>
              <a:t>探索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Text Box 19"/>
          <p:cNvSpPr/>
          <p:nvPr/>
        </p:nvSpPr>
        <p:spPr>
          <a:xfrm>
            <a:off x="3970440" y="5504040"/>
            <a:ext cx="1346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動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Text Box 20"/>
          <p:cNvSpPr/>
          <p:nvPr/>
        </p:nvSpPr>
        <p:spPr>
          <a:xfrm>
            <a:off x="2165400" y="2521080"/>
            <a:ext cx="11332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深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Text Box 21"/>
          <p:cNvSpPr/>
          <p:nvPr/>
        </p:nvSpPr>
        <p:spPr>
          <a:xfrm>
            <a:off x="2028960" y="4408560"/>
            <a:ext cx="13208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彩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Oval 3"/>
          <p:cNvSpPr/>
          <p:nvPr/>
        </p:nvSpPr>
        <p:spPr>
          <a:xfrm>
            <a:off x="4060800" y="1527120"/>
            <a:ext cx="1447920" cy="1027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ff"/>
                </a:solidFill>
                <a:latin typeface="Times New Roman"/>
                <a:ea typeface="標楷體"/>
              </a:rPr>
              <a:t>東信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ff"/>
                </a:solidFill>
                <a:latin typeface="Times New Roman"/>
                <a:ea typeface="標楷體"/>
              </a:rPr>
              <a:t>樂園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4280040" y="708120"/>
            <a:ext cx="904680" cy="495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Times New Roman"/>
                <a:ea typeface="標楷體"/>
              </a:rPr>
              <a:t>自信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846000" y="3068640"/>
            <a:ext cx="1163880" cy="4032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Times New Roman"/>
                <a:ea typeface="標楷體"/>
              </a:rPr>
              <a:t>一年級：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Times New Roman"/>
                <a:ea typeface="標楷體"/>
              </a:rPr>
              <a:t>快樂東信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4572000" y="2583000"/>
            <a:ext cx="325440" cy="293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1362240" y="2892600"/>
            <a:ext cx="685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Line 8"/>
          <p:cNvSpPr/>
          <p:nvPr/>
        </p:nvSpPr>
        <p:spPr>
          <a:xfrm>
            <a:off x="1362240" y="2892600"/>
            <a:ext cx="0" cy="17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Line 9"/>
          <p:cNvSpPr/>
          <p:nvPr/>
        </p:nvSpPr>
        <p:spPr>
          <a:xfrm>
            <a:off x="5499000" y="289260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Line 10"/>
          <p:cNvSpPr/>
          <p:nvPr/>
        </p:nvSpPr>
        <p:spPr>
          <a:xfrm>
            <a:off x="4206960" y="289260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Line 11"/>
          <p:cNvSpPr/>
          <p:nvPr/>
        </p:nvSpPr>
        <p:spPr>
          <a:xfrm>
            <a:off x="2784600" y="2892600"/>
            <a:ext cx="14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Line 12"/>
          <p:cNvSpPr/>
          <p:nvPr/>
        </p:nvSpPr>
        <p:spPr>
          <a:xfrm>
            <a:off x="8213760" y="289260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Line 13"/>
          <p:cNvSpPr/>
          <p:nvPr/>
        </p:nvSpPr>
        <p:spPr>
          <a:xfrm>
            <a:off x="6791400" y="289260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Line 14"/>
          <p:cNvSpPr/>
          <p:nvPr/>
        </p:nvSpPr>
        <p:spPr>
          <a:xfrm flipH="1">
            <a:off x="2771280" y="3573360"/>
            <a:ext cx="136692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AutoShape 20"/>
          <p:cNvSpPr/>
          <p:nvPr/>
        </p:nvSpPr>
        <p:spPr>
          <a:xfrm>
            <a:off x="2801880" y="1336680"/>
            <a:ext cx="906480" cy="495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Times New Roman"/>
                <a:ea typeface="標楷體"/>
              </a:rPr>
              <a:t>榮譽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AutoShape 21"/>
          <p:cNvSpPr/>
          <p:nvPr/>
        </p:nvSpPr>
        <p:spPr>
          <a:xfrm>
            <a:off x="5867280" y="1347840"/>
            <a:ext cx="905040" cy="495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Times New Roman"/>
                <a:ea typeface="標楷體"/>
              </a:rPr>
              <a:t>尊重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AutoShape 22"/>
          <p:cNvSpPr/>
          <p:nvPr/>
        </p:nvSpPr>
        <p:spPr>
          <a:xfrm>
            <a:off x="5867280" y="2139840"/>
            <a:ext cx="905040" cy="497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Times New Roman"/>
                <a:ea typeface="標楷體"/>
              </a:rPr>
              <a:t>民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AutoShape 23"/>
          <p:cNvSpPr/>
          <p:nvPr/>
        </p:nvSpPr>
        <p:spPr>
          <a:xfrm>
            <a:off x="2803680" y="2066760"/>
            <a:ext cx="904680" cy="497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Times New Roman"/>
                <a:ea typeface="標楷體"/>
              </a:rPr>
              <a:t>創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Line 29"/>
          <p:cNvSpPr/>
          <p:nvPr/>
        </p:nvSpPr>
        <p:spPr>
          <a:xfrm flipV="1">
            <a:off x="4751280" y="1166400"/>
            <a:ext cx="0" cy="34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Line 30"/>
          <p:cNvSpPr/>
          <p:nvPr/>
        </p:nvSpPr>
        <p:spPr>
          <a:xfrm flipV="1">
            <a:off x="5470200" y="1590120"/>
            <a:ext cx="369000" cy="236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Line 31"/>
          <p:cNvSpPr/>
          <p:nvPr/>
        </p:nvSpPr>
        <p:spPr>
          <a:xfrm flipH="1" flipV="1">
            <a:off x="3711240" y="1672560"/>
            <a:ext cx="402480" cy="213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Line 32"/>
          <p:cNvSpPr/>
          <p:nvPr/>
        </p:nvSpPr>
        <p:spPr>
          <a:xfrm flipH="1">
            <a:off x="3773160" y="2355840"/>
            <a:ext cx="438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Line 33"/>
          <p:cNvSpPr/>
          <p:nvPr/>
        </p:nvSpPr>
        <p:spPr>
          <a:xfrm>
            <a:off x="5363280" y="2355840"/>
            <a:ext cx="436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Rectangle 34"/>
          <p:cNvSpPr/>
          <p:nvPr/>
        </p:nvSpPr>
        <p:spPr>
          <a:xfrm>
            <a:off x="1619280" y="3860640"/>
            <a:ext cx="2305080" cy="2808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vert="eaVert">
            <a:no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ff"/>
                </a:solidFill>
                <a:latin typeface="細明體"/>
                <a:ea typeface="細明體"/>
              </a:rPr>
              <a:t>三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ff"/>
                </a:solidFill>
                <a:latin typeface="Verdana"/>
              </a:rPr>
              <a:t>蟲蟲日記（綜合、藝文、環境）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ff"/>
                </a:solidFill>
                <a:latin typeface="Verdana"/>
              </a:rPr>
              <a:t>咱的好所在（社會、資訊、海洋）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ff"/>
                </a:solidFill>
                <a:latin typeface="Verdana"/>
              </a:rPr>
              <a:t>童話花園（語文、藝文、人權）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Rectangle 78"/>
          <p:cNvSpPr/>
          <p:nvPr/>
        </p:nvSpPr>
        <p:spPr>
          <a:xfrm>
            <a:off x="4356000" y="3860640"/>
            <a:ext cx="2303640" cy="2808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ff"/>
                </a:solidFill>
                <a:latin typeface="Verdana"/>
              </a:rPr>
              <a:t>三上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ff"/>
                </a:solidFill>
                <a:latin typeface="Verdana"/>
              </a:rPr>
              <a:t>小小園丁（數學、藝文、生命）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ff"/>
                </a:solidFill>
                <a:latin typeface="Verdana"/>
              </a:rPr>
              <a:t>海洋的禮物（閱讀、語文、海洋）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ff"/>
                </a:solidFill>
                <a:latin typeface="Verdana"/>
              </a:rPr>
              <a:t>男女蹺蹺板（健體、藝文、生涯、國防）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AutoShape 79"/>
          <p:cNvSpPr/>
          <p:nvPr/>
        </p:nvSpPr>
        <p:spPr>
          <a:xfrm>
            <a:off x="3624120" y="3068640"/>
            <a:ext cx="1163880" cy="504720"/>
          </a:xfrm>
          <a:prstGeom prst="flowChartAlternateProcess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ff"/>
                </a:solidFill>
                <a:latin typeface="Verdana"/>
                <a:ea typeface="標楷體"/>
              </a:rPr>
              <a:t>三年級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ff"/>
                </a:solidFill>
                <a:latin typeface="Verdana"/>
                <a:ea typeface="標楷體"/>
              </a:rPr>
              <a:t>探索東信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AutoShape 80"/>
          <p:cNvSpPr/>
          <p:nvPr/>
        </p:nvSpPr>
        <p:spPr>
          <a:xfrm>
            <a:off x="2195640" y="3068640"/>
            <a:ext cx="1163520" cy="4032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Verdana"/>
                <a:ea typeface="標楷體"/>
              </a:rPr>
              <a:t>二年級：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Verdana"/>
                <a:ea typeface="標楷體"/>
              </a:rPr>
              <a:t>話說東信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AutoShape 81"/>
          <p:cNvSpPr/>
          <p:nvPr/>
        </p:nvSpPr>
        <p:spPr>
          <a:xfrm>
            <a:off x="4919760" y="3068640"/>
            <a:ext cx="1163520" cy="4032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Verdana"/>
                <a:ea typeface="標楷體"/>
              </a:rPr>
              <a:t>四年級：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Verdana"/>
                <a:ea typeface="標楷體"/>
              </a:rPr>
              <a:t>動感東信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AutoShape 83"/>
          <p:cNvSpPr/>
          <p:nvPr/>
        </p:nvSpPr>
        <p:spPr>
          <a:xfrm>
            <a:off x="6216480" y="3068640"/>
            <a:ext cx="1163880" cy="4032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Verdana"/>
                <a:ea typeface="標楷體"/>
              </a:rPr>
              <a:t>五年級：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Verdana"/>
                <a:ea typeface="標楷體"/>
              </a:rPr>
              <a:t>彩繪東信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AutoShape 84"/>
          <p:cNvSpPr/>
          <p:nvPr/>
        </p:nvSpPr>
        <p:spPr>
          <a:xfrm>
            <a:off x="7656480" y="3068640"/>
            <a:ext cx="1163520" cy="4032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Verdana"/>
                <a:ea typeface="標楷體"/>
              </a:rPr>
              <a:t>六年級：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Verdana"/>
                <a:ea typeface="標楷體"/>
              </a:rPr>
              <a:t>深情東信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Line 85"/>
          <p:cNvSpPr/>
          <p:nvPr/>
        </p:nvSpPr>
        <p:spPr>
          <a:xfrm>
            <a:off x="3995640" y="3573360"/>
            <a:ext cx="151308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4"/>
          <p:cNvSpPr/>
          <p:nvPr/>
        </p:nvSpPr>
        <p:spPr>
          <a:xfrm>
            <a:off x="3276720" y="2924280"/>
            <a:ext cx="2519280" cy="1958760"/>
          </a:xfrm>
          <a:prstGeom prst="sun">
            <a:avLst>
              <a:gd name="adj" fmla="val 20967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Arial"/>
              </a:rPr>
              <a:t>探索東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3780000" y="2492280"/>
            <a:ext cx="1800000" cy="457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二、海洋的禮物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1692360" y="4508640"/>
            <a:ext cx="1942920" cy="438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一、小小園丁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5580000" y="4508640"/>
            <a:ext cx="2087640" cy="42372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三、男女翹翹板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AutoShape 8"/>
          <p:cNvSpPr/>
          <p:nvPr/>
        </p:nvSpPr>
        <p:spPr>
          <a:xfrm>
            <a:off x="5003640" y="836640"/>
            <a:ext cx="2881440" cy="1517760"/>
          </a:xfrm>
          <a:prstGeom prst="wedgeRectCallout">
            <a:avLst>
              <a:gd name="adj1" fmla="val -36282"/>
              <a:gd name="adj2" fmla="val 57111"/>
            </a:avLst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奇幻世界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小水滴遊記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融入領域：健體、藝術與人文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重要議題：海洋教育、國防教育、生涯發展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468360" y="2781360"/>
            <a:ext cx="2400120" cy="1584360"/>
          </a:xfrm>
          <a:prstGeom prst="wedgeRectCallout">
            <a:avLst>
              <a:gd name="adj1" fmla="val 63560"/>
              <a:gd name="adj2" fmla="val 57013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植物身體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植物圖鑑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融入領域：自然、資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重要議題：生命教育、防災教育、環境教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AutoShape 12"/>
          <p:cNvSpPr/>
          <p:nvPr/>
        </p:nvSpPr>
        <p:spPr>
          <a:xfrm>
            <a:off x="6443640" y="2565360"/>
            <a:ext cx="2305080" cy="1800360"/>
          </a:xfrm>
          <a:prstGeom prst="wedgeRectCallout">
            <a:avLst>
              <a:gd name="adj1" fmla="val -40078"/>
              <a:gd name="adj2" fmla="val 56555"/>
            </a:avLst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同學你我他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當我們同在一起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融入領域：社會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重要議題：性別平等、人權教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468360" y="260280"/>
            <a:ext cx="81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上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1619280" y="836640"/>
            <a:ext cx="2881440" cy="1517760"/>
          </a:xfrm>
          <a:prstGeom prst="wedgeRectCallout">
            <a:avLst>
              <a:gd name="adj1" fmla="val 39972"/>
              <a:gd name="adj2" fmla="val 61296"/>
            </a:avLst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超級變變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打造魚兒的家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融入領域：語文、閱讀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重要議題：海洋教育、環境教育、生涯發展、家政教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AutoShape 11"/>
          <p:cNvSpPr/>
          <p:nvPr/>
        </p:nvSpPr>
        <p:spPr>
          <a:xfrm>
            <a:off x="324000" y="5084640"/>
            <a:ext cx="2016000" cy="1584360"/>
          </a:xfrm>
          <a:prstGeom prst="wedgeRectCallout">
            <a:avLst>
              <a:gd name="adj1" fmla="val 59782"/>
              <a:gd name="adj2" fmla="val -48796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◎ 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大自然奇遇記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融入領域：藝術與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人文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重要議題：生命教育、家政教育、環境教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AutoShape 11"/>
          <p:cNvSpPr/>
          <p:nvPr/>
        </p:nvSpPr>
        <p:spPr>
          <a:xfrm>
            <a:off x="2843280" y="5084640"/>
            <a:ext cx="2041560" cy="1584360"/>
          </a:xfrm>
          <a:prstGeom prst="wedgeRectCallout">
            <a:avLst>
              <a:gd name="adj1" fmla="val -63425"/>
              <a:gd name="adj2" fmla="val -52805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◎ 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生命的脈動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融入領域：數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重要議題：健康促進、生命教育、生涯發展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AutoShape 12"/>
          <p:cNvSpPr/>
          <p:nvPr/>
        </p:nvSpPr>
        <p:spPr>
          <a:xfrm>
            <a:off x="7093080" y="5229360"/>
            <a:ext cx="1619280" cy="1396800"/>
          </a:xfrm>
          <a:prstGeom prst="wedgeRectCallout">
            <a:avLst>
              <a:gd name="adj1" fmla="val -49138"/>
              <a:gd name="adj2" fmla="val -68203"/>
            </a:avLst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◎ 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禮儀停看聽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融入領域：綜合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重要議題：生涯發展、家政教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AutoShape 12"/>
          <p:cNvSpPr/>
          <p:nvPr/>
        </p:nvSpPr>
        <p:spPr>
          <a:xfrm>
            <a:off x="5148360" y="5229360"/>
            <a:ext cx="1655640" cy="1396800"/>
          </a:xfrm>
          <a:prstGeom prst="wedgeRectCallout">
            <a:avLst>
              <a:gd name="adj1" fmla="val 46287"/>
              <a:gd name="adj2" fmla="val -70930"/>
            </a:avLst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活動內容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◎ </a:t>
            </a: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身體新視野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融入領域：健體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重要議題：性別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平等、家庭教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4"/>
          <p:cNvSpPr/>
          <p:nvPr/>
        </p:nvSpPr>
        <p:spPr>
          <a:xfrm>
            <a:off x="3276720" y="1339920"/>
            <a:ext cx="2519280" cy="1958760"/>
          </a:xfrm>
          <a:prstGeom prst="sun">
            <a:avLst>
              <a:gd name="adj" fmla="val 20967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ff"/>
                </a:solidFill>
                <a:latin typeface="Arial"/>
              </a:rPr>
              <a:t>探索東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3780000" y="907920"/>
            <a:ext cx="18000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二、海洋的禮物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AutoShape 6"/>
          <p:cNvSpPr/>
          <p:nvPr/>
        </p:nvSpPr>
        <p:spPr>
          <a:xfrm>
            <a:off x="1692360" y="2924280"/>
            <a:ext cx="1942920" cy="438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一、小小園丁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5580000" y="2924280"/>
            <a:ext cx="2087640" cy="423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6699"/>
                </a:solidFill>
                <a:latin typeface="Verdana"/>
              </a:rPr>
              <a:t>三、男女翹翹板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Rectangle 15"/>
          <p:cNvSpPr/>
          <p:nvPr/>
        </p:nvSpPr>
        <p:spPr>
          <a:xfrm>
            <a:off x="468360" y="260280"/>
            <a:ext cx="81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上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68360" y="3718080"/>
          <a:ext cx="8137440" cy="2590560"/>
        </p:xfrm>
        <a:graphic>
          <a:graphicData uri="http://schemas.openxmlformats.org/drawingml/2006/table">
            <a:tbl>
              <a:tblPr/>
              <a:tblGrid>
                <a:gridCol w="1015920"/>
                <a:gridCol w="1525680"/>
                <a:gridCol w="3983040"/>
                <a:gridCol w="758880"/>
                <a:gridCol w="853920"/>
              </a:tblGrid>
              <a:tr h="431640"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活動主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活動內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融入領域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六大及重要議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rowSpan="4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園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丁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植物身體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到校園觀察各種不同植物，認識其構造，並找出其異同之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自然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資訊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環境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生命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植物圖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利用網路查詢植物的資料，製作植物圖鑑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自然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資訊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環境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資訊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防災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大自然奇遇記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利用校園中的植物製作壓花卡片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藝術與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人文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環境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家政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生命的脈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透過一週的觀察紀錄，經驗一星期有七天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數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生命教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生涯發展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健康促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43920" marR="43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7:06:58Z</dcterms:created>
  <dc:creator>USER</dc:creator>
  <dc:description/>
  <dc:language>en-US</dc:language>
  <cp:lastModifiedBy>Ming</cp:lastModifiedBy>
  <dcterms:modified xsi:type="dcterms:W3CDTF">2012-07-30T13:52:37Z</dcterms:modified>
  <cp:revision>168</cp:revision>
  <dc:subject/>
  <dc:title>投影片 1</dc:title>
</cp:coreProperties>
</file>