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887-EB7E-4A7E-9CEC-73785AE8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3F4-9019-406A-B3DE-D2CE3B51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0E1-333A-451F-B903-1E19BEBC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2B2-182B-4812-A860-F20D57F2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FA4E-C072-441E-8B9D-4F5F3EE0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5E8B-FD43-4293-AD80-DBDA4C91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40C8-9E09-48ED-AF3B-1D2B3BC2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D80F-16DD-4F57-8A36-DB7F315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732D-5B01-485E-9F3A-4B3A47FF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18E3-35D5-4A25-B736-5E0F270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1C69-38DD-404B-B9BA-9764A872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EB5-F44C-4B60-88B4-C5C4539B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8E16-154C-4495-9A9C-83D489C3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66AF-1E29-4F56-ABE5-53FA8EA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199F-594C-4FA4-A5C5-D0A8435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ADEA-542D-4633-951F-B459781C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4E16-FC42-4812-A869-DDF94C74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EBD-6526-4FB1-8A96-7B942E73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EFC-9681-49CC-8851-5EC189A5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F77-C551-4ACB-B377-8BA86CA9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651-9271-4453-9A9F-8BD91B72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FE0-3DFC-4AF0-8E78-7E8BDF96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B3A-4E22-46C4-A68B-6A5898B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987-3CD6-4268-9E2C-FF7F3306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010-AAC6-4D25-B620-A60DDC31C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EA0D-E77B-438F-82B6-8BF6D6F7D2E6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28840" y="285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年級下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85840" y="1000080"/>
          <a:ext cx="8501040" cy="5719680"/>
        </p:xfrm>
        <a:graphic>
          <a:graphicData uri="http://schemas.openxmlformats.org/drawingml/2006/table">
            <a:tbl>
              <a:tblPr/>
              <a:tblGrid>
                <a:gridCol w="2070000"/>
                <a:gridCol w="1405080"/>
                <a:gridCol w="3547800"/>
                <a:gridCol w="1478160"/>
              </a:tblGrid>
              <a:tr h="384120">
                <a:tc gridSpan="2"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項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目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內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530280">
                <a:tc rowSpan="4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及學年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學成果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生事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校慶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輔導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別平等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侵害防治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家庭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4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合教育的特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總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國防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防災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本位課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快樂東信〈靜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閱讀，動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跳繩〉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8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補救教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數學補救教學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班級輔導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母親節、班級田徑賽、節慶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5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自主學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引導學生獨立學習、自我學習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 grid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上學期彈性學習總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彈性學習節數每週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4138560" y="2492280"/>
            <a:ext cx="187344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當王子遇上公主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尊重生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3"/>
          <p:cNvSpPr/>
          <p:nvPr/>
        </p:nvSpPr>
        <p:spPr>
          <a:xfrm>
            <a:off x="2987640" y="2214720"/>
            <a:ext cx="1084320" cy="9252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2987640" y="3357720"/>
            <a:ext cx="1084320" cy="8618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754200" y="234792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灰王子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754200" y="342900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貛的禮物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6299280" y="2492280"/>
            <a:ext cx="234468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上 繩奇寶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安全高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七手八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（二跳一迴旋）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4138560" y="4653000"/>
            <a:ext cx="187344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氣風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肯定自我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2987640" y="4500720"/>
            <a:ext cx="1084320" cy="871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987640" y="5572080"/>
            <a:ext cx="1084320" cy="8794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自我認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754200" y="450864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菲菲生氣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754200" y="5587920"/>
            <a:ext cx="208908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自己的顏色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6299280" y="4653000"/>
            <a:ext cx="234468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下 繩奇寶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跳躍高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跑帶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跳一迴旋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1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一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4138560" y="1341360"/>
            <a:ext cx="1873440" cy="792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299280" y="1341360"/>
            <a:ext cx="2017800" cy="7984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跳躍繩奇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14240" y="627120"/>
          <a:ext cx="8143920" cy="5759280"/>
        </p:xfrm>
        <a:graphic>
          <a:graphicData uri="http://schemas.openxmlformats.org/drawingml/2006/table">
            <a:tbl>
              <a:tblPr/>
              <a:tblGrid>
                <a:gridCol w="698760"/>
                <a:gridCol w="730080"/>
                <a:gridCol w="714600"/>
                <a:gridCol w="1417320"/>
                <a:gridCol w="2054520"/>
                <a:gridCol w="1104840"/>
                <a:gridCol w="14238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2068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當王子遇上公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性別 教 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灰王子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詞黑白配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在故事中找出相似與相反詞來形容生活中的事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比比高矮胖瘦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在遊戲活動中察覺長短、大小、重量的概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全家總動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利用學習單，紀錄並討論家事分工情況，並了解兩性平等分工的重要性和概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學習單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我是好幫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讓孩子學習分擔家事，體會做家事的辛苦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42960" y="785880"/>
          <a:ext cx="8064360" cy="5999040"/>
        </p:xfrm>
        <a:graphic>
          <a:graphicData uri="http://schemas.openxmlformats.org/drawingml/2006/table">
            <a:tbl>
              <a:tblPr/>
              <a:tblGrid>
                <a:gridCol w="647640"/>
                <a:gridCol w="668520"/>
                <a:gridCol w="642960"/>
                <a:gridCol w="1641240"/>
                <a:gridCol w="2114640"/>
                <a:gridCol w="928800"/>
                <a:gridCol w="14205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7104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尊重生命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獾的禮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自己對於「死亡」的感覺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家庭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你給我「記住」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如果好朋友要轉學，該如何讓他記住自己？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祝福卡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玩具分享時間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祝福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把愛傳出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進行「小天使小主人」活動，在班上散播關愛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關心同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給獾的一封信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角色扮演森林動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；當獾離開大家後，有什麼話想對牠說呢？試著寫幾句話給「獾」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角色扮演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00040" y="714240"/>
          <a:ext cx="8143920" cy="5715000"/>
        </p:xfrm>
        <a:graphic>
          <a:graphicData uri="http://schemas.openxmlformats.org/drawingml/2006/table">
            <a:tbl>
              <a:tblPr/>
              <a:tblGrid>
                <a:gridCol w="698400"/>
                <a:gridCol w="587520"/>
                <a:gridCol w="642960"/>
                <a:gridCol w="1357200"/>
                <a:gridCol w="2643120"/>
                <a:gridCol w="928800"/>
                <a:gridCol w="12859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2032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氣風暴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菲菲生氣了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我是小書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自己「生氣」的感覺及狀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表情比一比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利用小鏡子觀察自己喜、怒、哀、樂的表情跟著音樂隨意擺動，擺出不同的表情，並觀察他人的表情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仔細觀察並作出不同表情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變變變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將「生氣」等不同情緒，嘗試以畫圖或塗色彩的方式呈現。作品完成後，再一起討論、分享畫作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情緒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畫出不同情緒的表情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氣剋星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組討論不同情境避免生氣的方法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84360" y="500040"/>
          <a:ext cx="7920000" cy="5648400"/>
        </p:xfrm>
        <a:graphic>
          <a:graphicData uri="http://schemas.openxmlformats.org/drawingml/2006/table">
            <a:tbl>
              <a:tblPr/>
              <a:tblGrid>
                <a:gridCol w="669600"/>
                <a:gridCol w="574920"/>
                <a:gridCol w="571320"/>
                <a:gridCol w="1285920"/>
                <a:gridCol w="2540160"/>
                <a:gridCol w="909720"/>
                <a:gridCol w="136836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55280"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肯定自我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我認同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己的顏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話我畫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製自畫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說一說自己的特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製自畫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好書報報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透過分享與討論，讓學生更深一層的認識並了解自己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優點大轟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上台說出自己的優點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優點卡並寫出同學的優點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製作優點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大手牽小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自己與家人的互動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了解自己在團體中所扮演的角色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繪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自己的顏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運用故事情境，瞭解自己的長處並肯定自我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能說出自己的長處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71680" y="571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壹、課程設計與實施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一年級全體老師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貳、設計理念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藉由跳繩活動，促進學生之身心能力發展，培養學生互助合群、活潑樂觀的運動精神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參、學習目標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了解跳繩正確之使用方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安全的進行跳繩活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學會跳繩「二跳一迴旋」及「一跳一迴旋」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肆、教學策略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經由教師說明，正確習得跳繩技巧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進行分組練習活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完成「二跳一迴旋」及「一跳一迴旋」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伍、學習活動設計架構圖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357200" y="0"/>
            <a:ext cx="6500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繩奇寶貝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500120" y="4000680"/>
            <a:ext cx="18576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安全高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介紹跳繩活動的注意事項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5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5-1-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3714840" y="4786200"/>
            <a:ext cx="1606320" cy="851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99"/>
                </a:solidFill>
                <a:latin typeface="Calibri"/>
              </a:rPr>
              <a:t>繩奇寶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500120" y="5357880"/>
            <a:ext cx="185760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七手八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完成二跳一迴旋的動作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1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5715000" y="3857760"/>
            <a:ext cx="185724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跳躍高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完成一跳一迴旋的動作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3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5715000" y="5357880"/>
            <a:ext cx="185724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跑帶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練習邊跑邊跳的跳繩技巧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4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5-1-5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377" name="直線單箭頭接點 14"/>
          <p:cNvCxnSpPr>
            <a:stCxn id="375" idx="1"/>
            <a:endCxn id="373" idx="7"/>
          </p:cNvCxnSpPr>
          <p:nvPr/>
        </p:nvCxnSpPr>
        <p:spPr>
          <a:xfrm flipH="1">
            <a:off x="5086080" y="4374000"/>
            <a:ext cx="629280" cy="5374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78" name="直線單箭頭接點 15"/>
          <p:cNvCxnSpPr>
            <a:endCxn id="373" idx="3"/>
          </p:cNvCxnSpPr>
          <p:nvPr/>
        </p:nvCxnSpPr>
        <p:spPr>
          <a:xfrm flipV="1">
            <a:off x="3357720" y="5513040"/>
            <a:ext cx="592560" cy="488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79" name="直線單箭頭接點 17"/>
          <p:cNvCxnSpPr/>
          <p:nvPr/>
        </p:nvCxnSpPr>
        <p:spPr>
          <a:xfrm>
            <a:off x="3357720" y="4465800"/>
            <a:ext cx="643320" cy="5356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80" name="直線單箭頭接點 20"/>
          <p:cNvCxnSpPr>
            <a:endCxn id="373" idx="5"/>
          </p:cNvCxnSpPr>
          <p:nvPr/>
        </p:nvCxnSpPr>
        <p:spPr>
          <a:xfrm flipH="1" flipV="1">
            <a:off x="5086080" y="5512680"/>
            <a:ext cx="629280" cy="416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pic>
        <p:nvPicPr>
          <p:cNvPr id="381" name="圖片 12" descr="過年.jpg"/>
          <p:cNvPicPr/>
          <p:nvPr/>
        </p:nvPicPr>
        <p:blipFill>
          <a:blip r:embed="rId1"/>
          <a:stretch/>
        </p:blipFill>
        <p:spPr>
          <a:xfrm>
            <a:off x="6572160" y="1714680"/>
            <a:ext cx="20242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611280" y="1442880"/>
            <a:ext cx="7921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輪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於集會時公開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上學期：弟子規            一年級下學期：三字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5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、學校本位課程規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二、彈性時間分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、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四、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9"/>
          <p:cNvSpPr/>
          <p:nvPr/>
        </p:nvSpPr>
        <p:spPr>
          <a:xfrm>
            <a:off x="611280" y="145584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語文領域縱向發展：閱讀寫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49"/>
          <p:cNvSpPr/>
          <p:nvPr/>
        </p:nvSpPr>
        <p:spPr>
          <a:xfrm>
            <a:off x="2976480" y="3151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50"/>
          <p:cNvSpPr/>
          <p:nvPr/>
        </p:nvSpPr>
        <p:spPr>
          <a:xfrm>
            <a:off x="2976480" y="38498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55"/>
          <p:cNvSpPr/>
          <p:nvPr/>
        </p:nvSpPr>
        <p:spPr>
          <a:xfrm>
            <a:off x="611280" y="3191040"/>
            <a:ext cx="2016000" cy="67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數學領域縱向發展：數的樂園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76" name="AutoShape 56"/>
          <p:cNvCxnSpPr>
            <a:stCxn id="173" idx="0"/>
            <a:endCxn id="174" idx="0"/>
          </p:cNvCxnSpPr>
          <p:nvPr/>
        </p:nvCxnSpPr>
        <p:spPr>
          <a:xfrm>
            <a:off x="2976120" y="31507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Line 57"/>
          <p:cNvSpPr/>
          <p:nvPr/>
        </p:nvSpPr>
        <p:spPr>
          <a:xfrm>
            <a:off x="2627280" y="3508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2976480" y="508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66"/>
          <p:cNvSpPr/>
          <p:nvPr/>
        </p:nvSpPr>
        <p:spPr>
          <a:xfrm>
            <a:off x="611280" y="51274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Verdana"/>
                <a:ea typeface="標楷體"/>
              </a:rPr>
              <a:t>自然領域縱向發展：校園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81" name="AutoShape 67"/>
          <p:cNvCxnSpPr>
            <a:stCxn id="178" idx="0"/>
            <a:endCxn id="179" idx="0"/>
          </p:cNvCxnSpPr>
          <p:nvPr/>
        </p:nvCxnSpPr>
        <p:spPr>
          <a:xfrm>
            <a:off x="2976120" y="5084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Line 68"/>
          <p:cNvSpPr/>
          <p:nvPr/>
        </p:nvSpPr>
        <p:spPr>
          <a:xfrm>
            <a:off x="2627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360" y="26028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4" name="群組 41"/>
          <p:cNvGrpSpPr/>
          <p:nvPr/>
        </p:nvGrpSpPr>
        <p:grpSpPr>
          <a:xfrm>
            <a:off x="2627280" y="1116000"/>
            <a:ext cx="5862600" cy="1312920"/>
            <a:chOff x="2627280" y="1116000"/>
            <a:chExt cx="5862600" cy="1312920"/>
          </a:xfrm>
        </p:grpSpPr>
        <p:sp>
          <p:nvSpPr>
            <p:cNvPr id="185" name="AutoShape 30"/>
            <p:cNvSpPr/>
            <p:nvPr/>
          </p:nvSpPr>
          <p:spPr>
            <a:xfrm>
              <a:off x="4643280" y="1116000"/>
              <a:ext cx="250020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經由看圖而說出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>
              <a:off x="3296880" y="1116000"/>
              <a:ext cx="113184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2976480" y="14158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2976480" y="2114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442908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AutoShape 35"/>
            <p:cNvSpPr/>
            <p:nvPr/>
          </p:nvSpPr>
          <p:spPr>
            <a:xfrm>
              <a:off x="3296880" y="18144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童詩童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4429080" y="21430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AutoShape 37"/>
            <p:cNvSpPr/>
            <p:nvPr/>
          </p:nvSpPr>
          <p:spPr>
            <a:xfrm>
              <a:off x="4643280" y="1814400"/>
              <a:ext cx="250020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主動欣賞與閱讀童詩，並畫出詩中的情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193" name="AutoShape 43"/>
            <p:cNvCxnSpPr>
              <a:stCxn id="187" idx="0"/>
              <a:endCxn id="188" idx="0"/>
            </p:cNvCxnSpPr>
            <p:nvPr/>
          </p:nvCxnSpPr>
          <p:spPr>
            <a:xfrm>
              <a:off x="2976120" y="141588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Line 46"/>
            <p:cNvSpPr/>
            <p:nvPr/>
          </p:nvSpPr>
          <p:spPr>
            <a:xfrm>
              <a:off x="2627280" y="17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714384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7143840" y="2071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7358040" y="11426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C-1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7358040" y="18572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A-1-4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9" name="群組 46"/>
          <p:cNvGrpSpPr/>
          <p:nvPr/>
        </p:nvGrpSpPr>
        <p:grpSpPr>
          <a:xfrm>
            <a:off x="3297240" y="2565360"/>
            <a:ext cx="5192640" cy="1863720"/>
            <a:chOff x="3297240" y="2565360"/>
            <a:chExt cx="5192640" cy="1863720"/>
          </a:xfrm>
        </p:grpSpPr>
        <p:sp>
          <p:nvSpPr>
            <p:cNvPr id="200" name="AutoShape 47"/>
            <p:cNvSpPr/>
            <p:nvPr/>
          </p:nvSpPr>
          <p:spPr>
            <a:xfrm>
              <a:off x="4643280" y="2565360"/>
              <a:ext cx="25002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透過遊戲活動察覺學校的建築物和樹木的數量概念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3297240" y="285084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數在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哪裡</a:t>
              </a: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？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4429080" y="31431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AutoShape 52"/>
            <p:cNvSpPr/>
            <p:nvPr/>
          </p:nvSpPr>
          <p:spPr>
            <a:xfrm>
              <a:off x="3297240" y="35496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好玩的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4429080" y="38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AutoShape 54"/>
            <p:cNvSpPr/>
            <p:nvPr/>
          </p:nvSpPr>
          <p:spPr>
            <a:xfrm>
              <a:off x="4643280" y="3549600"/>
              <a:ext cx="250020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運用進位的計算方法，計數學校的建築物和樹木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7143840" y="3071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7143840" y="3929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358040" y="285732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AutoShape 48"/>
            <p:cNvSpPr/>
            <p:nvPr/>
          </p:nvSpPr>
          <p:spPr>
            <a:xfrm>
              <a:off x="7358040" y="364320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0" name="群組 51"/>
          <p:cNvGrpSpPr/>
          <p:nvPr/>
        </p:nvGrpSpPr>
        <p:grpSpPr>
          <a:xfrm>
            <a:off x="3297240" y="4500720"/>
            <a:ext cx="5703840" cy="2000160"/>
            <a:chOff x="3297240" y="4500720"/>
            <a:chExt cx="5703840" cy="2000160"/>
          </a:xfrm>
        </p:grpSpPr>
        <p:sp>
          <p:nvSpPr>
            <p:cNvPr id="211" name="AutoShape 58"/>
            <p:cNvSpPr/>
            <p:nvPr/>
          </p:nvSpPr>
          <p:spPr>
            <a:xfrm>
              <a:off x="4643280" y="4643280"/>
              <a:ext cx="314316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認識校園中各種植物的名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正確指出校園植物的構造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區分校園中各種植物生長的季節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3297240" y="477504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花花草草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>
              <a:off x="442908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AutoShape 63"/>
            <p:cNvSpPr/>
            <p:nvPr/>
          </p:nvSpPr>
          <p:spPr>
            <a:xfrm>
              <a:off x="3297240" y="578196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拈花惹草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>
              <a:off x="4429080" y="6072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AutoShape 65"/>
            <p:cNvSpPr/>
            <p:nvPr/>
          </p:nvSpPr>
          <p:spPr>
            <a:xfrm>
              <a:off x="4643280" y="5786640"/>
              <a:ext cx="3143160" cy="71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選擇出適合壓花的花草植物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利用校園中既有植物進行遊戲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AutoShape 59"/>
            <p:cNvSpPr/>
            <p:nvPr/>
          </p:nvSpPr>
          <p:spPr>
            <a:xfrm>
              <a:off x="8012160" y="4500720"/>
              <a:ext cx="917640" cy="1071360"/>
            </a:xfrm>
            <a:custGeom>
              <a:avLst/>
              <a:gdLst>
                <a:gd name="textAreaLeft" fmla="*/ 44640 w 917640"/>
                <a:gd name="textAreaRight" fmla="*/ 873000 w 917640"/>
                <a:gd name="textAreaTop" fmla="*/ 44640 h 1071360"/>
                <a:gd name="textAreaBottom" fmla="*/ 1026720 h 1071360"/>
              </a:gdLst>
              <a:ahLst/>
              <a:rect l="textAreaLeft" t="textAreaTop" r="textAreaRight" b="textAreaBottom"/>
              <a:pathLst>
                <a:path w="21600" h="25217">
                  <a:moveTo>
                    <a:pt x="3600" y="0"/>
                  </a:moveTo>
                  <a:arcTo wR="3600" hR="3600" stAng="16200000" swAng="-5400000"/>
                  <a:lnTo>
                    <a:pt x="0" y="21617"/>
                  </a:lnTo>
                  <a:arcTo wR="3600" hR="3600" stAng="10800000" swAng="-5400000"/>
                  <a:lnTo>
                    <a:pt x="18000" y="25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7-1-9   7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9-1-1   8-1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AutoShape 59"/>
            <p:cNvSpPr/>
            <p:nvPr/>
          </p:nvSpPr>
          <p:spPr>
            <a:xfrm>
              <a:off x="8012160" y="5786640"/>
              <a:ext cx="98892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9-1-10  9-1-1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62"/>
            <p:cNvSpPr/>
            <p:nvPr/>
          </p:nvSpPr>
          <p:spPr>
            <a:xfrm>
              <a:off x="778680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7786800" y="6072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4572000" y="785880"/>
            <a:ext cx="264312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認識自己，了解優缺點，學習與同學相處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297240" y="83520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快樂的我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611280" y="1174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社會領域縱向發展：東信風情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627280" y="149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572000" y="4071960"/>
            <a:ext cx="328608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１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體育課時能選擇適當服裝、鞋子並攜帶毛巾及水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２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能做到運動前暖身及運動後整理服裝儀容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３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能熟練洗手步驟並應用於日常生活中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3297240" y="428004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健康寶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6"/>
          <p:cNvSpPr/>
          <p:nvPr/>
        </p:nvSpPr>
        <p:spPr>
          <a:xfrm>
            <a:off x="2976480" y="4589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28"/>
          <p:cNvSpPr/>
          <p:nvPr/>
        </p:nvSpPr>
        <p:spPr>
          <a:xfrm>
            <a:off x="435780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297240" y="5718240"/>
            <a:ext cx="1060560" cy="92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天才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”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玩</a:t>
            </a: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”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童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4357800" y="6072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4572000" y="5310360"/>
            <a:ext cx="3286080" cy="13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１．能確實知道校園中“固定式遊戲器材”所在地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用身體動作安全使用校園“固定式遊戲器材”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３．能遵守規則按序操作校園“固定式遊戲器材”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11280" y="498312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健體領域縱向發展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運動好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小子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34" name="AutoShape 33"/>
          <p:cNvCxnSpPr>
            <a:stCxn id="227" idx="0"/>
            <a:endCxn id="228" idx="0"/>
          </p:cNvCxnSpPr>
          <p:nvPr/>
        </p:nvCxnSpPr>
        <p:spPr>
          <a:xfrm>
            <a:off x="2976120" y="4589280"/>
            <a:ext cx="10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34"/>
          <p:cNvSpPr/>
          <p:nvPr/>
        </p:nvSpPr>
        <p:spPr>
          <a:xfrm>
            <a:off x="262728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30360" y="18900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76480" y="1135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976480" y="1833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357800" y="1143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297240" y="1533600"/>
            <a:ext cx="10605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我的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4357800" y="1857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572000" y="1571760"/>
            <a:ext cx="264312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認識家人，體會家人的辛苦，進而關心與幫助家人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43" name="AutoShape 11"/>
          <p:cNvCxnSpPr>
            <a:stCxn id="237" idx="0"/>
            <a:endCxn id="238" idx="0"/>
          </p:cNvCxnSpPr>
          <p:nvPr/>
        </p:nvCxnSpPr>
        <p:spPr>
          <a:xfrm>
            <a:off x="2976120" y="1135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Line 6"/>
          <p:cNvSpPr/>
          <p:nvPr/>
        </p:nvSpPr>
        <p:spPr>
          <a:xfrm>
            <a:off x="7215120" y="10717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7215120" y="1857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785808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7858080" y="6072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429680" y="785880"/>
            <a:ext cx="157140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1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2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7429680" y="1571760"/>
            <a:ext cx="157140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2-1-2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0" name="群組 52"/>
          <p:cNvGrpSpPr/>
          <p:nvPr/>
        </p:nvGrpSpPr>
        <p:grpSpPr>
          <a:xfrm>
            <a:off x="611280" y="2355840"/>
            <a:ext cx="8389800" cy="1314360"/>
            <a:chOff x="611280" y="2355840"/>
            <a:chExt cx="8389800" cy="1314360"/>
          </a:xfrm>
        </p:grpSpPr>
        <p:sp>
          <p:nvSpPr>
            <p:cNvPr id="251" name="AutoShape 21"/>
            <p:cNvSpPr/>
            <p:nvPr/>
          </p:nvSpPr>
          <p:spPr>
            <a:xfrm>
              <a:off x="611280" y="2695320"/>
              <a:ext cx="2016000" cy="67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藝術與人文領域縱向發展：故鄉風月情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2627280" y="3012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群組 49"/>
            <p:cNvGrpSpPr/>
            <p:nvPr/>
          </p:nvGrpSpPr>
          <p:grpSpPr>
            <a:xfrm>
              <a:off x="2976120" y="2355840"/>
              <a:ext cx="6024960" cy="1314360"/>
              <a:chOff x="2976120" y="2355840"/>
              <a:chExt cx="6024960" cy="1314360"/>
            </a:xfrm>
          </p:grpSpPr>
          <p:sp>
            <p:nvSpPr>
              <p:cNvPr id="254" name="AutoShape 13"/>
              <p:cNvSpPr/>
              <p:nvPr/>
            </p:nvSpPr>
            <p:spPr>
              <a:xfrm>
                <a:off x="4572000" y="2355840"/>
                <a:ext cx="321480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樹枝和拓印樹木等自然媒材來完成黏貼完成美麗的圖畫！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AutoShape 14"/>
              <p:cNvSpPr/>
              <p:nvPr/>
            </p:nvSpPr>
            <p:spPr>
              <a:xfrm>
                <a:off x="3296880" y="2355840"/>
                <a:ext cx="106020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繽紛落葉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Line 15"/>
              <p:cNvSpPr/>
              <p:nvPr/>
            </p:nvSpPr>
            <p:spPr>
              <a:xfrm>
                <a:off x="2976480" y="265572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7" name="Line 16"/>
              <p:cNvSpPr/>
              <p:nvPr/>
            </p:nvSpPr>
            <p:spPr>
              <a:xfrm>
                <a:off x="2976480" y="335448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357440" y="26431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9" name="AutoShape 18"/>
              <p:cNvSpPr/>
              <p:nvPr/>
            </p:nvSpPr>
            <p:spPr>
              <a:xfrm>
                <a:off x="3296880" y="3054240"/>
                <a:ext cx="106020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花草遊戲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Line 19"/>
              <p:cNvSpPr/>
              <p:nvPr/>
            </p:nvSpPr>
            <p:spPr>
              <a:xfrm>
                <a:off x="4357440" y="33577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AutoShape 20"/>
              <p:cNvSpPr/>
              <p:nvPr/>
            </p:nvSpPr>
            <p:spPr>
              <a:xfrm>
                <a:off x="4572000" y="3054240"/>
                <a:ext cx="321480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尋找並發現校園中的花草有哪些並發展創作出不同的有趣遊戲！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cxnSp>
            <p:nvCxnSpPr>
              <p:cNvPr id="262" name="AutoShape 22"/>
              <p:cNvCxnSpPr>
                <a:stCxn id="256" idx="0"/>
                <a:endCxn id="257" idx="0"/>
              </p:cNvCxnSpPr>
              <p:nvPr/>
            </p:nvCxnSpPr>
            <p:spPr>
              <a:xfrm>
                <a:off x="2976120" y="2655720"/>
                <a:ext cx="1080" cy="69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3" name="Line 6"/>
              <p:cNvSpPr/>
              <p:nvPr/>
            </p:nvSpPr>
            <p:spPr>
              <a:xfrm>
                <a:off x="7786800" y="26431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7786800" y="33577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5" name="AutoShape 14"/>
              <p:cNvSpPr/>
              <p:nvPr/>
            </p:nvSpPr>
            <p:spPr>
              <a:xfrm>
                <a:off x="8001000" y="2357280"/>
                <a:ext cx="10000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1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1-11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6" name="AutoShape 14"/>
              <p:cNvSpPr/>
              <p:nvPr/>
            </p:nvSpPr>
            <p:spPr>
              <a:xfrm>
                <a:off x="8001000" y="3071880"/>
                <a:ext cx="10000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6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1-9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267" name="AutoShape 25"/>
          <p:cNvSpPr/>
          <p:nvPr/>
        </p:nvSpPr>
        <p:spPr>
          <a:xfrm>
            <a:off x="8083440" y="4286160"/>
            <a:ext cx="91764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5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25"/>
          <p:cNvSpPr/>
          <p:nvPr/>
        </p:nvSpPr>
        <p:spPr>
          <a:xfrm>
            <a:off x="8083440" y="5715000"/>
            <a:ext cx="9176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4  3-1-2  5-1-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5"/>
          <p:cNvSpPr/>
          <p:nvPr/>
        </p:nvSpPr>
        <p:spPr>
          <a:xfrm>
            <a:off x="630360" y="47304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2" descr="Siki0411"/>
          <p:cNvPicPr/>
          <p:nvPr/>
        </p:nvPicPr>
        <p:blipFill>
          <a:blip r:embed="rId1"/>
          <a:stretch/>
        </p:blipFill>
        <p:spPr>
          <a:xfrm>
            <a:off x="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Siki0411"/>
          <p:cNvPicPr/>
          <p:nvPr/>
        </p:nvPicPr>
        <p:blipFill>
          <a:blip r:embed="rId2"/>
          <a:stretch/>
        </p:blipFill>
        <p:spPr>
          <a:xfrm>
            <a:off x="298764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Siki0411"/>
          <p:cNvPicPr/>
          <p:nvPr/>
        </p:nvPicPr>
        <p:blipFill>
          <a:blip r:embed="rId3"/>
          <a:stretch/>
        </p:blipFill>
        <p:spPr>
          <a:xfrm>
            <a:off x="6084720" y="4498920"/>
            <a:ext cx="284328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73" name="群組 23"/>
          <p:cNvGrpSpPr/>
          <p:nvPr/>
        </p:nvGrpSpPr>
        <p:grpSpPr>
          <a:xfrm>
            <a:off x="428760" y="2143080"/>
            <a:ext cx="8389800" cy="1328760"/>
            <a:chOff x="428760" y="2143080"/>
            <a:chExt cx="8389800" cy="1328760"/>
          </a:xfrm>
        </p:grpSpPr>
        <p:sp>
          <p:nvSpPr>
            <p:cNvPr id="274" name="Line 4"/>
            <p:cNvSpPr/>
            <p:nvPr/>
          </p:nvSpPr>
          <p:spPr>
            <a:xfrm>
              <a:off x="2793960" y="244296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2793960" y="314172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428760" y="2482560"/>
              <a:ext cx="2016000" cy="67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綜合領域縱向發展：環保小天使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77" name="AutoShape 11"/>
            <p:cNvCxnSpPr>
              <a:stCxn id="274" idx="0"/>
              <a:endCxn id="275" idx="0"/>
            </p:cNvCxnSpPr>
            <p:nvPr/>
          </p:nvCxnSpPr>
          <p:spPr>
            <a:xfrm>
              <a:off x="2793600" y="244296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8" name="Line 12"/>
            <p:cNvSpPr/>
            <p:nvPr/>
          </p:nvSpPr>
          <p:spPr>
            <a:xfrm>
              <a:off x="2444760" y="28004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79" name="群組 22"/>
            <p:cNvGrpSpPr/>
            <p:nvPr/>
          </p:nvGrpSpPr>
          <p:grpSpPr>
            <a:xfrm>
              <a:off x="3114720" y="2143080"/>
              <a:ext cx="5703840" cy="1328760"/>
              <a:chOff x="3114720" y="2143080"/>
              <a:chExt cx="5703840" cy="1328760"/>
            </a:xfrm>
          </p:grpSpPr>
          <p:sp>
            <p:nvSpPr>
              <p:cNvPr id="280" name="AutoShape 2"/>
              <p:cNvSpPr/>
              <p:nvPr/>
            </p:nvSpPr>
            <p:spPr>
              <a:xfrm>
                <a:off x="4603680" y="2157120"/>
                <a:ext cx="23572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認識學校環境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1" name="AutoShape 3"/>
              <p:cNvSpPr/>
              <p:nvPr/>
            </p:nvSpPr>
            <p:spPr>
              <a:xfrm>
                <a:off x="3114720" y="2143080"/>
                <a:ext cx="127476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逛逛校園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2" name="Line 6"/>
              <p:cNvSpPr/>
              <p:nvPr/>
            </p:nvSpPr>
            <p:spPr>
              <a:xfrm>
                <a:off x="4389480" y="2442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3" name="AutoShape 7"/>
              <p:cNvSpPr/>
              <p:nvPr/>
            </p:nvSpPr>
            <p:spPr>
              <a:xfrm>
                <a:off x="3114720" y="2841480"/>
                <a:ext cx="127476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愛潔小超人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4" name="Line 8"/>
              <p:cNvSpPr/>
              <p:nvPr/>
            </p:nvSpPr>
            <p:spPr>
              <a:xfrm>
                <a:off x="4389480" y="3157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5" name="AutoShape 9"/>
              <p:cNvSpPr/>
              <p:nvPr/>
            </p:nvSpPr>
            <p:spPr>
              <a:xfrm>
                <a:off x="4603680" y="2871720"/>
                <a:ext cx="235728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愛護校園整潔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6" name="Line 6"/>
              <p:cNvSpPr/>
              <p:nvPr/>
            </p:nvSpPr>
            <p:spPr>
              <a:xfrm>
                <a:off x="6961320" y="2442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Line 6"/>
              <p:cNvSpPr/>
              <p:nvPr/>
            </p:nvSpPr>
            <p:spPr>
              <a:xfrm>
                <a:off x="6961320" y="3157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AutoShape 3"/>
              <p:cNvSpPr/>
              <p:nvPr/>
            </p:nvSpPr>
            <p:spPr>
              <a:xfrm>
                <a:off x="7175520" y="2157120"/>
                <a:ext cx="127476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1-1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AutoShape 3"/>
              <p:cNvSpPr/>
              <p:nvPr/>
            </p:nvSpPr>
            <p:spPr>
              <a:xfrm>
                <a:off x="7175520" y="2871720"/>
                <a:ext cx="164304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1   4-1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1-2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5" descr="illust15"/>
          <p:cNvPicPr/>
          <p:nvPr/>
        </p:nvPicPr>
        <p:blipFill>
          <a:blip r:embed="rId1"/>
          <a:stretch/>
        </p:blipFill>
        <p:spPr>
          <a:xfrm>
            <a:off x="0" y="4941720"/>
            <a:ext cx="178272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illust15"/>
          <p:cNvPicPr/>
          <p:nvPr/>
        </p:nvPicPr>
        <p:blipFill>
          <a:blip r:embed="rId2"/>
          <a:stretch/>
        </p:blipFill>
        <p:spPr>
          <a:xfrm>
            <a:off x="7286760" y="4357800"/>
            <a:ext cx="1565280" cy="1722240"/>
          </a:xfrm>
          <a:prstGeom prst="rect">
            <a:avLst/>
          </a:prstGeom>
          <a:ln w="0">
            <a:noFill/>
          </a:ln>
        </p:spPr>
      </p:pic>
      <p:sp>
        <p:nvSpPr>
          <p:cNvPr id="292" name="標題 1"/>
          <p:cNvSpPr/>
          <p:nvPr/>
        </p:nvSpPr>
        <p:spPr>
          <a:xfrm>
            <a:off x="431640" y="341280"/>
            <a:ext cx="828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東信樂園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學校本位橫向主題統整架構圖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282680" y="1700280"/>
            <a:ext cx="6572160" cy="4732200"/>
          </a:xfrm>
          <a:prstGeom prst="hexagon">
            <a:avLst>
              <a:gd name="adj" fmla="val 3472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92480" y="1728720"/>
            <a:ext cx="9111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快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809800" y="2706840"/>
            <a:ext cx="3365640" cy="288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886120" y="1697040"/>
            <a:ext cx="334152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2860560" y="1696680"/>
            <a:ext cx="327996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1258920" y="4076640"/>
            <a:ext cx="65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3664080" y="3398760"/>
            <a:ext cx="1761840" cy="14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4035600" y="3618000"/>
            <a:ext cx="1481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東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樂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143240" y="2676600"/>
            <a:ext cx="7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Calibri"/>
                <a:ea typeface="標楷體"/>
              </a:rPr>
              <a:t>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5265720" y="3110040"/>
            <a:ext cx="73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5403960" y="4119480"/>
            <a:ext cx="873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4040" y="4842000"/>
            <a:ext cx="1035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21120" y="4119480"/>
            <a:ext cx="814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五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105000" y="3162240"/>
            <a:ext cx="81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907240" y="2532240"/>
            <a:ext cx="1234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話</a:t>
            </a:r>
            <a:r>
              <a:rPr b="1" lang="zh-TW" sz="2800" spc="-1" strike="noStrike">
                <a:solidFill>
                  <a:srgbClr val="7030a0"/>
                </a:solidFill>
                <a:latin typeface="Arial Black"/>
                <a:ea typeface="標楷體"/>
              </a:rPr>
              <a:t>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165720" y="4378320"/>
            <a:ext cx="132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探索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970440" y="5504040"/>
            <a:ext cx="1346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動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2165400" y="2521080"/>
            <a:ext cx="1133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深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2028960" y="4408560"/>
            <a:ext cx="13208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彩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24" descr="illust15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642960" y="214200"/>
            <a:ext cx="96372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6"/>
          <p:cNvSpPr/>
          <p:nvPr/>
        </p:nvSpPr>
        <p:spPr>
          <a:xfrm>
            <a:off x="2428920" y="5143680"/>
            <a:ext cx="1571760" cy="563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花花草草</a:t>
            </a:r>
            <a:r>
              <a:rPr b="0" lang="zh-TW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214960" y="5143680"/>
            <a:ext cx="1643040" cy="5569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健康寶寶</a:t>
            </a:r>
            <a:r>
              <a:rPr b="0" lang="zh-TW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428760" y="1000080"/>
            <a:ext cx="2286000" cy="1374840"/>
          </a:xfrm>
          <a:prstGeom prst="wedgeRectCallout">
            <a:avLst>
              <a:gd name="adj1" fmla="val 37634"/>
              <a:gd name="adj2" fmla="val 70500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字像什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字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﹕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學、生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285840" y="5429160"/>
            <a:ext cx="1654200" cy="1000080"/>
          </a:xfrm>
          <a:prstGeom prst="wedgeRectCallout">
            <a:avLst>
              <a:gd name="adj1" fmla="val 79527"/>
              <a:gd name="adj2" fmla="val -40263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超級比一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6572160" y="3357720"/>
            <a:ext cx="2246400" cy="1512720"/>
          </a:xfrm>
          <a:prstGeom prst="wedgeRectCallout">
            <a:avLst>
              <a:gd name="adj1" fmla="val -44768"/>
              <a:gd name="adj2" fmla="val 66129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相見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猜猜我是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朋友在哪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3500280" y="3143160"/>
            <a:ext cx="2428920" cy="20145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快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2357280" y="271476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畫中有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2928960" y="857160"/>
            <a:ext cx="2286000" cy="1517760"/>
          </a:xfrm>
          <a:prstGeom prst="wedgeRectCallout">
            <a:avLst>
              <a:gd name="adj1" fmla="val -13476"/>
              <a:gd name="adj2" fmla="val 70500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好聽的故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看圖說一說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快樂讀書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16"/>
          <p:cNvSpPr/>
          <p:nvPr/>
        </p:nvSpPr>
        <p:spPr>
          <a:xfrm>
            <a:off x="5214960" y="271476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新細明體"/>
              </a:rPr>
              <a:t>海洋童話季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23" name="AutoShape 17"/>
          <p:cNvGrpSpPr/>
          <p:nvPr/>
        </p:nvGrpSpPr>
        <p:grpSpPr>
          <a:xfrm>
            <a:off x="6334200" y="841320"/>
            <a:ext cx="2328840" cy="1889280"/>
            <a:chOff x="6334200" y="841320"/>
            <a:chExt cx="2328840" cy="1889280"/>
          </a:xfrm>
        </p:grpSpPr>
        <p:pic>
          <p:nvPicPr>
            <p:cNvPr id="324" name="AutoShape 17" descr=""/>
            <p:cNvPicPr/>
            <p:nvPr/>
          </p:nvPicPr>
          <p:blipFill>
            <a:blip r:embed="rId1"/>
            <a:stretch/>
          </p:blipFill>
          <p:spPr>
            <a:xfrm>
              <a:off x="6334200" y="841320"/>
              <a:ext cx="232884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357960" y="857160"/>
              <a:ext cx="22860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活動內容：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1.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海洋與我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2.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海洋童詩欣賞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3.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海洋影片欣賞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融入領域：語文、鄉土、環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26" name="AutoShape 11"/>
          <p:cNvSpPr/>
          <p:nvPr/>
        </p:nvSpPr>
        <p:spPr>
          <a:xfrm>
            <a:off x="571680" y="3143160"/>
            <a:ext cx="1653840" cy="1584360"/>
          </a:xfrm>
          <a:prstGeom prst="wedgeRectCallout">
            <a:avLst>
              <a:gd name="adj1" fmla="val 88768"/>
              <a:gd name="adj2" fmla="val 6983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快樂校園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和植物作朋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7000920" y="5143680"/>
            <a:ext cx="2000160" cy="1512720"/>
          </a:xfrm>
          <a:prstGeom prst="wedgeRectCallout">
            <a:avLst>
              <a:gd name="adj1" fmla="val -70060"/>
              <a:gd name="adj2" fmla="val 652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動動身體玩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跳繩安全守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二跳一迴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健體、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5"/>
          <p:cNvSpPr/>
          <p:nvPr/>
        </p:nvSpPr>
        <p:spPr>
          <a:xfrm>
            <a:off x="2214720" y="3000240"/>
            <a:ext cx="1566720" cy="44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童詩童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214720" y="4357800"/>
            <a:ext cx="15714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拈花惹草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643720" y="4500720"/>
            <a:ext cx="1714320" cy="4222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天才小</a:t>
            </a:r>
            <a:r>
              <a:rPr b="1" lang="en-US" sz="1600" spc="-1" strike="noStrike">
                <a:solidFill>
                  <a:srgbClr val="0000ff"/>
                </a:solidFill>
                <a:latin typeface="新細明體"/>
              </a:rPr>
              <a:t>”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玩</a:t>
            </a:r>
            <a:r>
              <a:rPr b="1" lang="en-US" sz="1600" spc="-1" strike="noStrike">
                <a:solidFill>
                  <a:srgbClr val="0000ff"/>
                </a:solidFill>
                <a:latin typeface="新細明體"/>
              </a:rPr>
              <a:t>”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童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571680" y="1571760"/>
            <a:ext cx="1714320" cy="1065240"/>
          </a:xfrm>
          <a:prstGeom prst="wedgeRectCallout">
            <a:avLst>
              <a:gd name="adj1" fmla="val 46981"/>
              <a:gd name="adj2" fmla="val 75648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好玩的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﹕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214200" y="3500280"/>
            <a:ext cx="1857600" cy="1571760"/>
          </a:xfrm>
          <a:prstGeom prst="wedgeRectCallout">
            <a:avLst>
              <a:gd name="adj1" fmla="val 74064"/>
              <a:gd name="adj2" fmla="val -685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畫說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植物的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植物搜查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生活、資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5572080" y="5214960"/>
            <a:ext cx="1663920" cy="1447920"/>
          </a:xfrm>
          <a:prstGeom prst="wedgeRectCallout">
            <a:avLst>
              <a:gd name="adj1" fmla="val -27472"/>
              <a:gd name="adj2" fmla="val -67199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暖身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一跳一迴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跑帶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健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2571840" y="1143000"/>
            <a:ext cx="2286000" cy="1440000"/>
          </a:xfrm>
          <a:prstGeom prst="wedgeRectCallout">
            <a:avLst>
              <a:gd name="adj1" fmla="val -30259"/>
              <a:gd name="adj2" fmla="val 76115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看圖說故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我是小書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童詩創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5643720" y="3000240"/>
            <a:ext cx="1600200" cy="428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新細明體"/>
              </a:rPr>
              <a:t>海洋遊樂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37" name="AutoShape 17"/>
          <p:cNvGrpSpPr/>
          <p:nvPr/>
        </p:nvGrpSpPr>
        <p:grpSpPr>
          <a:xfrm>
            <a:off x="6407280" y="1054080"/>
            <a:ext cx="2328840" cy="1897200"/>
            <a:chOff x="6407280" y="1054080"/>
            <a:chExt cx="2328840" cy="1897200"/>
          </a:xfrm>
        </p:grpSpPr>
        <p:pic>
          <p:nvPicPr>
            <p:cNvPr id="338" name="AutoShape 17" descr=""/>
            <p:cNvPicPr/>
            <p:nvPr/>
          </p:nvPicPr>
          <p:blipFill>
            <a:blip r:embed="rId1"/>
            <a:stretch/>
          </p:blipFill>
          <p:spPr>
            <a:xfrm>
              <a:off x="6407280" y="1054080"/>
              <a:ext cx="232884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429240" y="1071720"/>
              <a:ext cx="22860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Verdana"/>
                </a:rPr>
                <a:t>活動內容：</a:t>
              </a: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1.</a:t>
              </a:r>
              <a:r>
                <a:rPr b="0" lang="zh-TW" sz="1600" spc="-1" strike="noStrike">
                  <a:solidFill>
                    <a:srgbClr val="006699"/>
                  </a:solidFill>
                  <a:latin typeface="Verdana"/>
                </a:rPr>
                <a:t>海洋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2.</a:t>
              </a:r>
              <a:r>
                <a:rPr b="0" lang="zh-TW" sz="1600" spc="-1" strike="noStrike">
                  <a:solidFill>
                    <a:srgbClr val="006699"/>
                  </a:solidFill>
                  <a:latin typeface="Verdana"/>
                </a:rPr>
                <a:t>誰把大海變髒了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3.</a:t>
              </a:r>
              <a:r>
                <a:rPr b="0" lang="zh-TW" sz="1600" spc="-1" strike="noStrike">
                  <a:solidFill>
                    <a:srgbClr val="006699"/>
                  </a:solidFill>
                  <a:latin typeface="Verdana"/>
                </a:rPr>
                <a:t>與海洋有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Verdana"/>
                </a:rPr>
                <a:t>融入領域</a:t>
              </a: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﹕</a:t>
              </a:r>
              <a:r>
                <a:rPr b="0" lang="zh-TW" sz="1600" spc="-1" strike="noStrike">
                  <a:solidFill>
                    <a:srgbClr val="006699"/>
                  </a:solidFill>
                  <a:latin typeface="Verdana"/>
                </a:rPr>
                <a:t>環境、鄉土、語文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0" name="AutoShape 14"/>
          <p:cNvSpPr/>
          <p:nvPr/>
        </p:nvSpPr>
        <p:spPr>
          <a:xfrm>
            <a:off x="3500280" y="3143160"/>
            <a:ext cx="2428920" cy="20145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快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1643040" y="5214960"/>
            <a:ext cx="2928960" cy="1428840"/>
          </a:xfrm>
          <a:prstGeom prst="wedgeRectCallout">
            <a:avLst>
              <a:gd name="adj1" fmla="val -15037"/>
              <a:gd name="adj2" fmla="val -68652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春天嘉年華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和植物玩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愛的卡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AutoShape 13"/>
          <p:cNvSpPr/>
          <p:nvPr/>
        </p:nvSpPr>
        <p:spPr>
          <a:xfrm>
            <a:off x="7429680" y="3429000"/>
            <a:ext cx="1520640" cy="2000160"/>
          </a:xfrm>
          <a:prstGeom prst="wedgeRectCallout">
            <a:avLst>
              <a:gd name="adj1" fmla="val -74439"/>
              <a:gd name="adj2" fmla="val -2606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請你跟我這樣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闖關活動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大家來猜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1428840" y="214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年級上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57120" y="785880"/>
          <a:ext cx="8501040" cy="5715000"/>
        </p:xfrm>
        <a:graphic>
          <a:graphicData uri="http://schemas.openxmlformats.org/drawingml/2006/table">
            <a:tbl>
              <a:tblPr/>
              <a:tblGrid>
                <a:gridCol w="2070000"/>
                <a:gridCol w="1405080"/>
                <a:gridCol w="3548160"/>
                <a:gridCol w="1477800"/>
              </a:tblGrid>
              <a:tr h="384120">
                <a:tc gridSpan="2"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項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目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內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530280">
                <a:tc rowSpan="4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及學年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迎新活動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師節慶祝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生事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歲末聯歡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法治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口腔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輔導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別平等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侵害防治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家庭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4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合教育的特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總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國防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.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防災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本位課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快樂東信〈靜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閱讀，動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跳繩〉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補救教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數學補救教學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班級輔導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新生輔導、節慶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自主學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引導學生獨立學習、自主學習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 grid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上學期彈性學習總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彈性學習節數每週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USER</cp:lastModifiedBy>
  <dcterms:modified xsi:type="dcterms:W3CDTF">2012-08-01T04:40:44Z</dcterms:modified>
  <cp:revision>112</cp:revision>
  <dc:subject/>
  <dc:title>投影片 1</dc:title>
</cp:coreProperties>
</file>